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98AE5-E3AF-479B-AF9A-3B346133E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523B3-7A43-489F-8E51-68E9B54F9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89D6E-F353-4AF0-95C4-0A596558D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6CFBB-C1B5-45CD-843A-27DD99B33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08975-735F-49A0-B928-DC64317A0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46517-F86C-4874-A2BC-1AB812735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9742F-6BD9-451F-8EF9-6D231C3B0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A5406-7605-4D15-9CC2-A94714924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2700D-5744-47F5-BDD2-1420A148F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125C9-1E0B-4234-BAE1-C136A6341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E6B96-5AFC-4741-A862-A0F318B4E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0E636-6425-4C49-AFD1-942F54241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1E2F5-C151-4C33-8D98-0CD88EC092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5715000" y="640080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cuela de verano_ 2005 Introducción a la psicología</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676520"/>
            <a:ext cx="9144000" cy="46314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odelos teóricos clínicos</a:t>
            </a:r>
            <a:endParaRPr b="0" lang="en-US" sz="18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foque Psicodinámico</a:t>
            </a:r>
            <a:r>
              <a:rPr b="0" lang="es-ES_tradnl" sz="1600" spc="-1" strike="noStrike">
                <a:solidFill>
                  <a:srgbClr val="000000"/>
                </a:solidFill>
                <a:latin typeface="Arial"/>
              </a:rPr>
              <a:t>: </a:t>
            </a:r>
            <a:r>
              <a:rPr b="0" lang="es-ES_tradnl" sz="1400" spc="-1" strike="noStrike">
                <a:solidFill>
                  <a:srgbClr val="000000"/>
                </a:solidFill>
                <a:latin typeface="Arial"/>
              </a:rPr>
              <a:t>tratamiento que se basa en la idea sugerida por Freud de que las fuentes básicas del comportamiento anormal son los conflictos sin resolver del pasado y la ansiedad</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rapia Racional emotiva</a:t>
            </a:r>
            <a:r>
              <a:rPr b="0" lang="es-ES_tradnl" sz="1800" spc="-1" strike="noStrike">
                <a:solidFill>
                  <a:srgbClr val="000000"/>
                </a:solidFill>
                <a:latin typeface="Arial"/>
              </a:rPr>
              <a:t>:</a:t>
            </a:r>
            <a:r>
              <a:rPr b="0" lang="es-ES_tradnl" sz="1000" spc="-1" strike="noStrike">
                <a:solidFill>
                  <a:srgbClr val="000000"/>
                </a:solidFill>
                <a:latin typeface="Arial"/>
              </a:rPr>
              <a:t> </a:t>
            </a:r>
            <a:r>
              <a:rPr b="0" lang="es-ES_tradnl" sz="1400" spc="-1" strike="noStrike">
                <a:solidFill>
                  <a:srgbClr val="000000"/>
                </a:solidFill>
                <a:latin typeface="Arial"/>
              </a:rPr>
              <a:t>psicoterapia que esta basada en la perspectiva de Ellis de que el objetivo de la terapia debe ser reestructurar el sistema de creencias de la persona para hacerla mas realista. </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rapia Cognitiva</a:t>
            </a:r>
            <a:r>
              <a:rPr b="0" lang="es-ES_tradnl" sz="1800" spc="-1" strike="noStrike">
                <a:solidFill>
                  <a:srgbClr val="000000"/>
                </a:solidFill>
                <a:latin typeface="Arial"/>
              </a:rPr>
              <a:t>:</a:t>
            </a:r>
            <a:r>
              <a:rPr b="0" lang="es-ES_tradnl" sz="1400" spc="-1" strike="noStrike">
                <a:solidFill>
                  <a:srgbClr val="000000"/>
                </a:solidFill>
                <a:latin typeface="Arial"/>
              </a:rPr>
              <a:t> psicoterapia basada en el objetivo de Beck de cambiar los pensamiento ilógicos de las personas acerca de si mismas y del mundo.</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rapia Humanista</a:t>
            </a:r>
            <a:r>
              <a:rPr b="0" lang="es-ES_tradnl" sz="1800" spc="-1" strike="noStrike">
                <a:solidFill>
                  <a:srgbClr val="000000"/>
                </a:solidFill>
                <a:latin typeface="Arial"/>
              </a:rPr>
              <a:t> :</a:t>
            </a:r>
            <a:r>
              <a:rPr b="0" lang="es-ES_tradnl" sz="1400" spc="-1" strike="noStrike">
                <a:solidFill>
                  <a:srgbClr val="000000"/>
                </a:solidFill>
                <a:latin typeface="Arial"/>
              </a:rPr>
              <a:t> tratamiento que se sustenta en el supuesto de que las personas tienen el control de su comportamiento, pueden tomar decisiones acerca de su vida y son responsables en esencia de la solución de sus problemas.</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rapia Centrada en el cliente</a:t>
            </a:r>
            <a:r>
              <a:rPr b="0" lang="es-ES_tradnl" sz="2000" spc="-1" strike="noStrike">
                <a:solidFill>
                  <a:srgbClr val="000000"/>
                </a:solidFill>
                <a:latin typeface="Arial"/>
              </a:rPr>
              <a:t>:</a:t>
            </a:r>
            <a:r>
              <a:rPr b="0" lang="es-ES_tradnl" sz="1400" spc="-1" strike="noStrike">
                <a:solidFill>
                  <a:srgbClr val="000000"/>
                </a:solidFill>
                <a:latin typeface="Arial"/>
              </a:rPr>
              <a:t> tratamiento con el cual el terapeuta refleja con sus declaraciones las del propio cliente en una forma que causa que este ultimo encuentre sus propias soluciones.</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rapia Existencial</a:t>
            </a:r>
            <a:r>
              <a:rPr b="0" lang="es-ES_tradnl" sz="2000" spc="-1" strike="noStrike">
                <a:solidFill>
                  <a:srgbClr val="000000"/>
                </a:solidFill>
                <a:latin typeface="Arial"/>
              </a:rPr>
              <a:t>:</a:t>
            </a:r>
            <a:r>
              <a:rPr b="0" lang="es-ES_tradnl" sz="1400" spc="-1" strike="noStrike">
                <a:solidFill>
                  <a:srgbClr val="000000"/>
                </a:solidFill>
                <a:latin typeface="Arial"/>
              </a:rPr>
              <a:t> Enfoque humanista que aborda el sentido de la vida y la libertad humana.</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rapia Gestáltica:</a:t>
            </a:r>
            <a:r>
              <a:rPr b="0" lang="es-ES_tradnl" sz="1400" spc="-1" strike="noStrike">
                <a:solidFill>
                  <a:srgbClr val="000000"/>
                </a:solidFill>
                <a:latin typeface="Arial"/>
              </a:rPr>
              <a:t> propuesta terapéutica que trata de integrar en una totalidad los pensamientos, sentimientos y comportamiento de un cliente.</a:t>
            </a:r>
            <a:endParaRPr b="0" lang="en-US" sz="1400" spc="-1" strike="noStrike">
              <a:solidFill>
                <a:srgbClr val="000000"/>
              </a:solidFill>
              <a:latin typeface="Times New Roman"/>
            </a:endParaRPr>
          </a:p>
        </p:txBody>
      </p:sp>
      <p:sp>
        <p:nvSpPr>
          <p:cNvPr id="43" name=""/>
          <p:cNvSpPr/>
          <p:nvPr/>
        </p:nvSpPr>
        <p:spPr>
          <a:xfrm>
            <a:off x="571680" y="304920"/>
            <a:ext cx="8267400" cy="189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cc"/>
                </a:solidFill>
                <a:latin typeface="Arial"/>
              </a:rPr>
              <a:t>Psicología clínica</a:t>
            </a:r>
            <a:br>
              <a:rPr sz="4000"/>
            </a:br>
            <a:r>
              <a:rPr b="0" lang="es-ES_tradnl" sz="2400" spc="-1" strike="noStrike">
                <a:solidFill>
                  <a:srgbClr val="3333cc"/>
                </a:solidFill>
                <a:latin typeface="Arial"/>
              </a:rPr>
              <a:t>	</a:t>
            </a:r>
            <a:r>
              <a:rPr b="0" lang="es-ES_tradnl" sz="2000" spc="-1" strike="noStrike">
                <a:solidFill>
                  <a:srgbClr val="000000"/>
                </a:solidFill>
                <a:latin typeface="Arial"/>
              </a:rPr>
              <a:t>Rama de la psicología que se especializa en la evaluación y tratamiento de los problemas psicológicos</a:t>
            </a:r>
            <a:endParaRPr b="0" lang="en-US" sz="20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533520"/>
            <a:ext cx="9144000" cy="5985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Tipos de Terapia</a:t>
            </a:r>
            <a:endParaRPr b="0" lang="en-US" sz="28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vidual: </a:t>
            </a:r>
            <a:r>
              <a:rPr b="0" lang="es-ES_tradnl" sz="2000" spc="-1" strike="noStrike">
                <a:solidFill>
                  <a:srgbClr val="000000"/>
                </a:solidFill>
                <a:latin typeface="Arial"/>
              </a:rPr>
              <a:t>proceso individual en el que una persona es atendida por un profesional que busca ayudarle a   resolver, modificar o cambiar determinados conflictos que le producen malestar o no le permiten desenvolverse adecuadamente.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upal: </a:t>
            </a:r>
            <a:r>
              <a:rPr b="0" lang="es-ES_tradnl" sz="2000" spc="-1" strike="noStrike">
                <a:solidFill>
                  <a:srgbClr val="000000"/>
                </a:solidFill>
                <a:latin typeface="Arial"/>
              </a:rPr>
              <a:t>personas que no se conocen entre sí, con dificultades psicológicas comunes se reúnen con un terapeuta para discutir sus problema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Pareja: </a:t>
            </a:r>
            <a:r>
              <a:rPr b="0" lang="es-ES_tradnl" sz="2000" spc="-1" strike="noStrike">
                <a:solidFill>
                  <a:srgbClr val="000000"/>
                </a:solidFill>
                <a:latin typeface="Arial"/>
              </a:rPr>
              <a:t>cuando una pareja tiene conflictos que los incluyen a ambos, a los hijos u otro familiar y que les afecta en su relación personal, recurren a profesionales que intentan contribuir a aclarar sus conflicto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miliar: </a:t>
            </a:r>
            <a:r>
              <a:rPr b="0" lang="es-ES_tradnl" sz="2000" spc="-1" strike="noStrike">
                <a:solidFill>
                  <a:srgbClr val="000000"/>
                </a:solidFill>
                <a:latin typeface="Arial"/>
              </a:rPr>
              <a:t>enfoque que se centra en la familia como una unidad integral a la que contribuye cada miemb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2057400"/>
            <a:ext cx="81536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tamiento basado en la psicología que enfatiza la producción de cambios a través de la discusión e interacción entre una persona que consulta y el terapeuta. De acuerdo al enfoque cada modelo tiene distintas técnicas, supuestos y conceptos explicativos que pretenden entender el comportamiento y aliviar el sufrimiento de las personas  </a:t>
            </a:r>
            <a:endParaRPr b="0" lang="en-US" sz="3200" spc="-1" strike="noStrike">
              <a:solidFill>
                <a:srgbClr val="000000"/>
              </a:solidFill>
              <a:latin typeface="Times New Roman"/>
            </a:endParaRPr>
          </a:p>
        </p:txBody>
      </p:sp>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9966ff"/>
                </a:solidFill>
                <a:latin typeface="Arial"/>
              </a:rPr>
              <a:t>Psicoterapi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57200" y="4460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graphicFrame>
        <p:nvGraphicFramePr>
          <p:cNvPr id="48" name=""/>
          <p:cNvGraphicFramePr/>
          <p:nvPr/>
        </p:nvGraphicFramePr>
        <p:xfrm>
          <a:off x="250920" y="1052640"/>
          <a:ext cx="8713800" cy="5327280"/>
        </p:xfrm>
        <a:graphic>
          <a:graphicData uri="http://schemas.openxmlformats.org/drawingml/2006/table">
            <a:tbl>
              <a:tblPr/>
              <a:tblGrid>
                <a:gridCol w="1944720"/>
                <a:gridCol w="3600360"/>
                <a:gridCol w="3168720"/>
              </a:tblGrid>
              <a:tr h="461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foque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upuestos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bjetivo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17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foques psicodinámic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basa en la premisa que las fuentes del comportamiento anormal son conflictos pasados sin resolver, así como la posibilidad de que pulsiones inconscientes inaceptables entren en la concienci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siones frecuentes, varios años, El  analista busca ayudar a la persona a reconocer y catalogar las conexiones entre lo que dice y su inconsciente  claves que revelen sus conflictos.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48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foques conductual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basan en procesos básicos de aprendizaje incluidos en el condicionamiento clásico y operante. Los   comportamientos anormales son producto de la adquisición de habilidades    defectuosas o desadaptativa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ersonas pueden aprender comportamientos mas normales y adquirir mejores habilidades o conductas mas adaptativa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
          <p:cNvSpPr/>
          <p:nvPr/>
        </p:nvSpPr>
        <p:spPr>
          <a:xfrm>
            <a:off x="755640" y="0"/>
            <a:ext cx="698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Arial"/>
              </a:rPr>
              <a:t>Psicoterapia: enfoques psicológicos de tratamient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396720" y="914400"/>
          <a:ext cx="8747280" cy="5337000"/>
        </p:xfrm>
        <a:graphic>
          <a:graphicData uri="http://schemas.openxmlformats.org/drawingml/2006/table">
            <a:tbl>
              <a:tblPr/>
              <a:tblGrid>
                <a:gridCol w="2625840"/>
                <a:gridCol w="3206880"/>
                <a:gridCol w="2914560"/>
              </a:tblGrid>
              <a:tr h="431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nfoque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upuestos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bjetivos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4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foques cognitivos </a:t>
                      </a:r>
                      <a:endParaRPr b="0" lang="en-US" sz="20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foque Cogn. Conductual </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erapia racional emotiva </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ceso por el cual se cambian las cogniciones equivocas de las personas sobre si mismas y el mundo, por otras mas adaptativas.</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orma de terapia que intenta reestructurar el sistema de creencias de una persona con un conjunto de opiniones mas racionales y lógica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uscan cambiar las concepciones erróneas que tienen las personas sobre el mundo y sobre si misma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1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foques humanistas</a:t>
                      </a:r>
                      <a:endParaRPr b="0" lang="en-US" sz="20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 Centrada en el cliente</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 Existencial</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 Gestal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s personas tienen el control de su comportamiento, pueden hacer elecciones sobre sus vidas y en esencia son responsables de solucionar sus propios problemas.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étodos que consideran la terapia como una forma de ayudar a las personas a que resuelvan sus problemas por si misma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68360" y="333360"/>
            <a:ext cx="8229600" cy="62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fectividad de la terapia</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la mayoría de las personas tratadas, la psicoterapia es efectiva, dependiendo del tipo de trastorno o problema y del tipo de terapia.</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sicoterapia no funciona para todos se supone que un 10% de los casos tratados no muestran mejoría o empeoran</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ertos tratamientos o tipos específicos son mejores pero en problemas puntuales. Por ejemplo la terapia cognitiva funciona bien en trastornos de pánico, la desensibilización sistemática alivia fobias especificas. En  general no existe evidencia que permita hacer diferencias entre los distintos enfoques.</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inguna forma particular de terapia funciona mejor en todos los problemas, por lo que no hay una respuesta definitiva a la pregunta de cual terapia funciona mejor, y es difícil que se encuentre la respuesta ya que es difícil clasificar los factores que inciden en el éxito de la terapia.</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misión espontánea:</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uperación del problema sin tratamiento</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0T04:10:37Z</dcterms:created>
  <dc:creator>Andrea Ampuero Belmar</dc:creator>
  <dc:description/>
  <dc:language>en-US</dc:language>
  <cp:lastModifiedBy>Andrea Ampuero</cp:lastModifiedBy>
  <dcterms:modified xsi:type="dcterms:W3CDTF">2004-12-27T17:46:32Z</dcterms:modified>
  <cp:revision>6</cp:revision>
  <dc:subject/>
  <dc:title>Presentación de PowerPoint</dc:title>
</cp:coreProperties>
</file>