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84A-238F-4299-AED9-277730AF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404-BEE9-4259-8300-E2CEA609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B5A1-B435-4E89-ACA6-47B60D2E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8B95-9002-4DE5-AE8F-B43C4783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BD20-EC10-4EBE-BD67-30E56F79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8FD4-A190-4CD9-A7D2-13F247CF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C1E5-4806-41DF-857E-2FB589C5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EA26-D29E-4E64-A61B-C91AE8D5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64E-4A12-4A24-814B-4359F004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2CC-0830-46FA-A09D-66653FB2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F1E-13A3-4435-B2EC-691BC134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45C-AB6A-4BC4-8256-2F3C6094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AF4E-3974-4097-89C6-319C85C39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6920" y="292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Arial"/>
              </a:rPr>
              <a:t>INTELIGENCIA Y COGNI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97320" y="5410080"/>
            <a:ext cx="3946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. Sebastián Vidal To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2588" t="7473" r="68868" b="10149"/>
          <a:stretch/>
        </p:blipFill>
        <p:spPr>
          <a:xfrm>
            <a:off x="1905120" y="2209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36324" t="7473" r="35147" b="10149"/>
          <a:stretch/>
        </p:blipFill>
        <p:spPr>
          <a:xfrm>
            <a:off x="2819520" y="2209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68765" t="7473" r="2706" b="10149"/>
          <a:stretch/>
        </p:blipFill>
        <p:spPr>
          <a:xfrm>
            <a:off x="3733920" y="22096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Sinop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é es la Intelig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 formas de entender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rocesos Cogni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85800"/>
            <a:ext cx="76197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0000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. ¿Qué es la Intelig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ficultad de la definición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rencia v/s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teligencia y su relación con la 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lativismo de lo que es una conducta inteli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ilemas éticos respecto a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85800"/>
            <a:ext cx="8001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170028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La propuesta del Coeficiente Intele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907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II. 5 Propuestas sobre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2565360"/>
            <a:ext cx="79930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oque del factor G Spearman (1927) v/s Multifactorialidad de Thurstone (193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precursores: Galton F. (medición sensorio-motriz) Binnet, Simon (Satanford- Bin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noción de C.I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test Verb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test de ejec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gunas Críticas: Sesgo Cultural, de género, bajo nivel predi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800600"/>
            <a:ext cx="142920" cy="64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685800"/>
            <a:ext cx="79250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38088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II. 5 Propuestas sobre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1989000"/>
            <a:ext cx="432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rgumento de Vygotski, 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ción triádica de la construcción de lo real (Signific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638360"/>
            <a:ext cx="34560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16480" y="1709640"/>
          <a:ext cx="56988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6480" y="1709640"/>
                    <a:ext cx="5698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396120" y="2933640"/>
          <a:ext cx="56988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6120" y="2933640"/>
                    <a:ext cx="5698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404120" y="1709640"/>
            <a:ext cx="604800" cy="617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96120" y="1998720"/>
            <a:ext cx="650880" cy="1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261200" y="2501640"/>
            <a:ext cx="380880" cy="3459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5748480" y="2501640"/>
            <a:ext cx="434880" cy="393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3789360"/>
            <a:ext cx="3809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Zona de Desarrollo Próx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ción de Medi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0360" y="3827520"/>
            <a:ext cx="3492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0000" y="4403880"/>
            <a:ext cx="1568520" cy="179280"/>
          </a:xfrm>
          <a:prstGeom prst="rightArrow">
            <a:avLst>
              <a:gd name="adj1" fmla="val 50000"/>
              <a:gd name="adj2" fmla="val 218725"/>
            </a:avLst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197320"/>
            <a:ext cx="2556000" cy="179640"/>
          </a:xfrm>
          <a:prstGeom prst="rightArrow">
            <a:avLst>
              <a:gd name="adj1" fmla="val 50000"/>
              <a:gd name="adj2" fmla="val 355711"/>
            </a:avLst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76720" y="44038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5124600"/>
            <a:ext cx="46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6121440" y="4131000"/>
            <a:ext cx="268200" cy="1422360"/>
          </a:xfrm>
          <a:custGeom>
            <a:avLst/>
            <a:gdLst>
              <a:gd name="textAreaLeft" fmla="*/ 171000 w 268200"/>
              <a:gd name="textAreaRight" fmla="*/ 268200 w 268200"/>
              <a:gd name="textAreaTop" fmla="*/ 37080 h 1422360"/>
              <a:gd name="textAreaBottom" fmla="*/ 1385280 h 142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51"/>
                </a:lnTo>
                <a:cubicBezTo>
                  <a:pt x="10800" y="10151"/>
                  <a:pt x="5400" y="11051"/>
                  <a:pt x="0" y="11051"/>
                </a:cubicBezTo>
                <a:cubicBezTo>
                  <a:pt x="5400" y="11051"/>
                  <a:pt x="10800" y="11951"/>
                  <a:pt x="10800" y="128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6737400" y="4518360"/>
            <a:ext cx="268200" cy="2381400"/>
          </a:xfrm>
          <a:custGeom>
            <a:avLst/>
            <a:gdLst>
              <a:gd name="textAreaLeft" fmla="*/ 171000 w 268200"/>
              <a:gd name="textAreaRight" fmla="*/ 268200 w 268200"/>
              <a:gd name="textAreaTop" fmla="*/ 61920 h 2381400"/>
              <a:gd name="textAreaBottom" fmla="*/ 2319480 h 238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51"/>
                </a:lnTo>
                <a:cubicBezTo>
                  <a:pt x="10800" y="10151"/>
                  <a:pt x="5400" y="11051"/>
                  <a:pt x="0" y="11051"/>
                </a:cubicBezTo>
                <a:cubicBezTo>
                  <a:pt x="5400" y="11051"/>
                  <a:pt x="10800" y="11951"/>
                  <a:pt x="10800" y="128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05440" y="4991040"/>
            <a:ext cx="52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.d.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88200" y="5929200"/>
            <a:ext cx="52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.d.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01080" y="5124600"/>
            <a:ext cx="58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67440" y="4189320"/>
            <a:ext cx="465120" cy="23832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c8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04160" y="4981680"/>
            <a:ext cx="465120" cy="23796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c8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56360" y="3900600"/>
            <a:ext cx="174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1414"/>
                </a:solidFill>
                <a:latin typeface="Arial"/>
              </a:rPr>
              <a:t>AYU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81414"/>
                </a:solidFill>
                <a:latin typeface="Arial"/>
              </a:rPr>
              <a:t>EXT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20000" y="4692600"/>
            <a:ext cx="174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1414"/>
                </a:solidFill>
                <a:latin typeface="Arial"/>
              </a:rPr>
              <a:t>AYUDA EXT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1447920"/>
            <a:ext cx="35049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3886200"/>
            <a:ext cx="350496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04920"/>
            <a:ext cx="75438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4160" y="1628640"/>
            <a:ext cx="85658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765000"/>
            <a:ext cx="777240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II. 5 Propuestas sobre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773360"/>
            <a:ext cx="8064360" cy="35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 La propuesta Piagetana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Inteligencia como capacidad de resolver un problema nuev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ligencia desde el primer momento de v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sgo que se compartiría con otras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teria prima para el desarrollo de lo 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nteligencia y la importancia del tiemp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nsoriomotriz, Preoperacional, Operaciones concretas, Operaciones Form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5014800"/>
            <a:ext cx="792000" cy="4320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ff6600"/>
          </a:solidFill>
          <a:ln cap="sq"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49417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</a:rPr>
              <a:t>FUNCIÓN SIMBÓ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5014800"/>
            <a:ext cx="792000" cy="4320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73800" y="508644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</a:rPr>
              <a:t>PENS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4797360"/>
            <a:ext cx="7632720" cy="1008000"/>
          </a:xfrm>
          <a:prstGeom prst="rect">
            <a:avLst/>
          </a:prstGeom>
          <a:noFill/>
          <a:ln cap="sq" w="1260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50864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</a:rPr>
              <a:t>INTELIG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609480"/>
            <a:ext cx="81532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0000" y="765000"/>
            <a:ext cx="777240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IV. 5 Propuestas sobre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 La propuesta de Howard Gardne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“Inteligencias Múltiples”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versos tipos de intelig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ógico- 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ngü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a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poral-Kinesté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ra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tural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685800"/>
            <a:ext cx="8077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64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I. 5 Propuestas sobre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opuesta de Mead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Inteligencia como acción retardad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nteligencia y la importancia de lo simbó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09480"/>
            <a:ext cx="8076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II. Cogn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Qué son los procesos cognitivos? 2 Perspec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Comput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centrado en el Signif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ción entre afecto y cognición (la propuesta de Guida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cia de la cognición en psic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762120"/>
            <a:ext cx="8077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3:31:59Z</dcterms:created>
  <dc:creator>Alejandra Avila</dc:creator>
  <dc:description/>
  <dc:language>en-US</dc:language>
  <cp:lastModifiedBy>Andrea Ampuero</cp:lastModifiedBy>
  <dcterms:modified xsi:type="dcterms:W3CDTF">2004-12-27T17:45:35Z</dcterms:modified>
  <cp:revision>10</cp:revision>
  <dc:subject/>
  <dc:title>Presentación de PowerPoint</dc:title>
</cp:coreProperties>
</file>