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AA1-428C-4298-9E3B-96E76806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2C3-1A6D-4ECA-BDA1-57ED63D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202-FEB8-4839-9785-78F96540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F16-1E9A-4CF5-9CAC-99C1A7EF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237-9673-4747-98BD-8C8D6C12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3E7-2A64-4680-BA23-0ACEA7F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7E5-7AE5-473E-AA1E-7C2089AF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B51-706D-4F0A-B3CB-0C2014F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201-9307-4286-BAC2-125BC068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471-BB02-4387-A5C2-44B2DEE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D53-4715-4DB4-A6A8-6FDD21B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836-4D1F-4609-9A45-75F0872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2D09-703F-4273-A9DA-3C9FE27DF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292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Arial"/>
              </a:rPr>
              <a:t>INTELIGENCIA Y COGN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732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. Sebastián Vidal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588" t="7473" r="68868" b="10149"/>
          <a:stretch/>
        </p:blipFill>
        <p:spPr>
          <a:xfrm>
            <a:off x="19051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36324" t="7473" r="35147" b="10149"/>
          <a:stretch/>
        </p:blipFill>
        <p:spPr>
          <a:xfrm>
            <a:off x="2819520" y="2209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68765" t="7473" r="2706" b="10149"/>
          <a:stretch/>
        </p:blipFill>
        <p:spPr>
          <a:xfrm>
            <a:off x="3733920" y="22096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Sinop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formas de entender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cesos Cogn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8580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. ¿Qué es la Intelig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icultad de la definición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encia v/s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ligencia y su relación con la 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ivismo de lo que es una conducta intel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lemas éticos respecto a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85800"/>
            <a:ext cx="8001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70028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propuesta del Coeficiente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90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2565360"/>
            <a:ext cx="7993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del factor G Spearman (1927) v/s Multifactorialidad de Thurstone (19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precursores: Galton F. (medición sensorio-motriz) Binnet, Simon (Satanford- Bi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noción de C.I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Verb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st de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as Críticas: Sesgo Cultural, de género, bajo nive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8006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7925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4321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gumento de Vygotski, 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triádica de la construcción de lo real (Signific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38360"/>
            <a:ext cx="34560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16480" y="1709640"/>
          <a:ext cx="56988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1709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96120" y="2933640"/>
          <a:ext cx="569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6120" y="2933640"/>
                    <a:ext cx="569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404120" y="1709640"/>
            <a:ext cx="604800" cy="617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96120" y="1998720"/>
            <a:ext cx="65088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261200" y="2501640"/>
            <a:ext cx="380880" cy="345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748480" y="2501640"/>
            <a:ext cx="434880" cy="393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78936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ona de Desarrollo Pró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ción de Med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0360" y="3827520"/>
            <a:ext cx="3492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4403880"/>
            <a:ext cx="1568520" cy="179280"/>
          </a:xfrm>
          <a:prstGeom prst="rightArrow">
            <a:avLst>
              <a:gd name="adj1" fmla="val 50000"/>
              <a:gd name="adj2" fmla="val 218725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197320"/>
            <a:ext cx="2556000" cy="179640"/>
          </a:xfrm>
          <a:prstGeom prst="rightArrow">
            <a:avLst>
              <a:gd name="adj1" fmla="val 50000"/>
              <a:gd name="adj2" fmla="val 355711"/>
            </a:avLst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4038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5124600"/>
            <a:ext cx="4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6121440" y="4131000"/>
            <a:ext cx="268200" cy="1422360"/>
          </a:xfrm>
          <a:custGeom>
            <a:avLst/>
            <a:gdLst>
              <a:gd name="textAreaLeft" fmla="*/ 171000 w 268200"/>
              <a:gd name="textAreaRight" fmla="*/ 268200 w 26820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6737400" y="4518360"/>
            <a:ext cx="268200" cy="2381400"/>
          </a:xfrm>
          <a:custGeom>
            <a:avLst/>
            <a:gdLst>
              <a:gd name="textAreaLeft" fmla="*/ 171000 w 268200"/>
              <a:gd name="textAreaRight" fmla="*/ 268200 w 268200"/>
              <a:gd name="textAreaTop" fmla="*/ 61920 h 2381400"/>
              <a:gd name="textAreaBottom" fmla="*/ 2319480 h 238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05440" y="499104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88200" y="5929200"/>
            <a:ext cx="5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.d.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1080" y="5124600"/>
            <a:ext cx="58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67440" y="4189320"/>
            <a:ext cx="465120" cy="23832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4160" y="4981680"/>
            <a:ext cx="465120" cy="23796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3900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4692600"/>
            <a:ext cx="17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Arial"/>
              </a:rPr>
              <a:t>AYUDA EXT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447920"/>
            <a:ext cx="35049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886200"/>
            <a:ext cx="350496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04920"/>
            <a:ext cx="7543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4160" y="1628640"/>
            <a:ext cx="8565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806436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 propuesta Piagetan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nteligencia como capacidad de resolver un problema nuev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ligencia desde el primer momen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sgo que se compartiría con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 prima para el desarrollo de lo 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teligencia y la importancia del tiem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oriomotriz, Preoperacional, Operaciones concretas, Operaciones 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941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FUNCIÓN SIM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480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3800" y="508644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PENS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97360"/>
            <a:ext cx="7632720" cy="1008000"/>
          </a:xfrm>
          <a:prstGeom prst="rect">
            <a:avLst/>
          </a:prstGeom>
          <a:noFill/>
          <a:ln cap="sq" w="126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</a:rPr>
              <a:t>INTELI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6094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765000"/>
            <a:ext cx="77724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IV. 5 Propuestas sobre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a propuesta de Howard Gardne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“Inteligencias Múltiples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os tipos de intelig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ógico- 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gü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oral-Kinesté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a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tur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8580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I. 5 Propuestas sobre la inte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puesta de Me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Inteligencia como acción retarda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nteligencia y la importancia de lo simb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8076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II. Cog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Qué son los procesos cognitivos? 2 Persp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ompu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centrado en el Sign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ón entre afecto y cognición (la propuesta de Guid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ia de la cognición en psic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762120"/>
            <a:ext cx="8077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3:31:59Z</dcterms:created>
  <dc:creator>Alejandra Avila</dc:creator>
  <dc:description/>
  <dc:language>en-US</dc:language>
  <cp:lastModifiedBy>Andrea Ampuero</cp:lastModifiedBy>
  <dcterms:modified xsi:type="dcterms:W3CDTF">2004-12-27T17:45:35Z</dcterms:modified>
  <cp:revision>10</cp:revision>
  <dc:subject/>
  <dc:title>Presentación de PowerPoint</dc:title>
</cp:coreProperties>
</file>