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24E-E6C5-4D57-97CF-42BFB363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274-F123-493A-A492-7528A93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C16-63D4-42BF-82FE-71303318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DD8-E97E-49BF-9175-E0801829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EF9-6291-402E-B638-D9AC2F7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D92-618E-468B-8846-53762D5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631-B875-482A-BA9F-4690981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976-820C-433D-AC53-D536930C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69F-90B0-4517-AAFA-2B5D3BF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779-5F37-4A19-8900-BF756AD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B49-314B-4A72-819F-9595082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446-01C3-4382-86D5-158F71C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6E7-0171-4CEA-AD20-C7EF36006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INTELIGENCIA Y COGN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19051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28195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37339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formas de entender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cesos Cogn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8580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. ¿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icultad de la definición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encia v/s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ligencia y su relación con l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ivismo de lo que es una conducta intel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lemas éticos respecto a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85800"/>
            <a:ext cx="8001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propuesta del Coeficiente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2565360"/>
            <a:ext cx="7993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del factor G Spearman (1927) v/s Multifactorialidad de Thurstone (19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precursores: Galton F. (medición sensorio-motriz) Binnet, Simon (Satanford- Bi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ción de C.I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Verb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Críticas: Sesgo Cultural, de género, bajo nive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8006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432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gumento de Vygotski,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38360"/>
            <a:ext cx="34560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16480" y="1709640"/>
          <a:ext cx="5698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1709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96120" y="2933640"/>
          <a:ext cx="569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6120" y="2933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404120" y="1709640"/>
            <a:ext cx="604800" cy="61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96120" y="1998720"/>
            <a:ext cx="6508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61200" y="2501640"/>
            <a:ext cx="380880" cy="345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748480" y="2501640"/>
            <a:ext cx="434880" cy="393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78936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ona de Desarrollo Pró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de Med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0360" y="3827520"/>
            <a:ext cx="3492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4403880"/>
            <a:ext cx="1568520" cy="179280"/>
          </a:xfrm>
          <a:prstGeom prst="rightArrow">
            <a:avLst>
              <a:gd name="adj1" fmla="val 50000"/>
              <a:gd name="adj2" fmla="val 218725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197320"/>
            <a:ext cx="2556000" cy="179640"/>
          </a:xfrm>
          <a:prstGeom prst="rightArrow">
            <a:avLst>
              <a:gd name="adj1" fmla="val 50000"/>
              <a:gd name="adj2" fmla="val 35571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4038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5124600"/>
            <a:ext cx="4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6121440" y="4131000"/>
            <a:ext cx="268200" cy="1422360"/>
          </a:xfrm>
          <a:custGeom>
            <a:avLst/>
            <a:gdLst>
              <a:gd name="textAreaLeft" fmla="*/ 171000 w 268200"/>
              <a:gd name="textAreaRight" fmla="*/ 268200 w 26820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6737400" y="4518360"/>
            <a:ext cx="268200" cy="2381400"/>
          </a:xfrm>
          <a:custGeom>
            <a:avLst/>
            <a:gdLst>
              <a:gd name="textAreaLeft" fmla="*/ 171000 w 268200"/>
              <a:gd name="textAreaRight" fmla="*/ 268200 w 268200"/>
              <a:gd name="textAreaTop" fmla="*/ 61920 h 2381400"/>
              <a:gd name="textAreaBottom" fmla="*/ 2319480 h 23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05440" y="499104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88200" y="592920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1080" y="5124600"/>
            <a:ext cx="58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67440" y="4189320"/>
            <a:ext cx="465120" cy="23832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4160" y="4981680"/>
            <a:ext cx="465120" cy="23796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3900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4692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447920"/>
            <a:ext cx="3504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88620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920"/>
            <a:ext cx="7543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806436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 propuesta Piagetan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ligencia como capacidad de resolver un problema nuev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ligencia desde el primer momen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sgo que se compartiría con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 prima para el desarrollo de lo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ligencia y la importancia del tiem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oriomotriz, Preoperacional, Operaciones concretas, Operaciones 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941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FUNCIÓN SIM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3800" y="50864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97360"/>
            <a:ext cx="7632720" cy="1008000"/>
          </a:xfrm>
          <a:prstGeom prst="rect">
            <a:avLst/>
          </a:prstGeom>
          <a:noFill/>
          <a:ln cap="sq"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V. 5 Propuestas sobre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a propuesta de Howard Gardn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“Inteligencias Múltiples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os tipos de inteli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ógico- 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oral-Kinesté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tur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8580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puesta de Me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Inteligencia como acción retarda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nteligencia y la importancia de lo sim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II. 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son los procesos cognitivos? 2 Persp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entrado en el 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ón entre afecto y cognición (la propuesta de Guid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 la cognición en psic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76212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31:59Z</dcterms:created>
  <dc:creator>Alejandra Avila</dc:creator>
  <dc:description/>
  <dc:language>en-US</dc:language>
  <cp:lastModifiedBy>Andrea Ampuero</cp:lastModifiedBy>
  <dcterms:modified xsi:type="dcterms:W3CDTF">2004-12-27T17:45:35Z</dcterms:modified>
  <cp:revision>10</cp:revision>
  <dc:subject/>
  <dc:title>Presentación de PowerPoint</dc:title>
</cp:coreProperties>
</file>