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2E8-FBDB-4EAF-8C68-4687D169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AB9-1988-41A3-83EC-FED17017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912-4624-430A-9108-BE43A587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296-C442-489B-A206-13002F1F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547-BB52-4999-9574-6E51FE22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CC3-DBDD-4281-8ADA-A770693D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640-2B3D-4F5B-BDC1-3E575D1F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075-BF49-4F02-B1E7-A697F423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68E-319A-4E19-9DC0-3B4F62C9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F33-21A6-473B-9929-50BD9A8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D3D-D819-423A-8E1E-9C772118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92F-FC40-463D-B119-AE4557C9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2517-4BD6-4344-9C48-CF98EF57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ff"/>
                </a:solidFill>
                <a:latin typeface="Arial"/>
              </a:rPr>
              <a:t>Aprendizaje y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ff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4280" y="6477120"/>
            <a:ext cx="330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2005    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457200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548640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6400800" y="4038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emoria: VIDEO RECORDAR OLV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9480"/>
            <a:ext cx="81532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549360"/>
            <a:ext cx="84582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. ¿Qué es el aprendizaj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necesidad evolutiva del aprendizaj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portancia de la información ex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mayor complejidad de la especie mayor necesidad de 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plica un cambio de conducta, actitud o conocimiento, relativamente estab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nerado por la experi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procesos m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gn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la 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¿Existe un aprendizaje eminentemente huma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cccc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4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I. 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nductis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noción de Condicionamiento Clásico (Pavl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dicionamiento Operante (Skin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prendizaje por observación (Bandu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nnatismo: (Choms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uestas Constructivistas (Vygotski, Pia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153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II. 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rendizaje y los procesos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noción de Zona de Desarrollo Próxi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pone una naturaleza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un proceso espec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2781360"/>
            <a:ext cx="410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24360" y="3646440"/>
            <a:ext cx="1944720" cy="217440"/>
          </a:xfrm>
          <a:prstGeom prst="rightArrow">
            <a:avLst>
              <a:gd name="adj1" fmla="val 50000"/>
              <a:gd name="adj2" fmla="val 223593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4510080"/>
            <a:ext cx="3168720" cy="217440"/>
          </a:xfrm>
          <a:prstGeom prst="rightArrow">
            <a:avLst>
              <a:gd name="adj1" fmla="val 50000"/>
              <a:gd name="adj2" fmla="val 364321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1080" y="3573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1080" y="44388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5400000">
            <a:off x="5543280" y="3213720"/>
            <a:ext cx="324000" cy="17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45720 h 1763640"/>
              <a:gd name="textAreaBottom" fmla="*/ 17179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5400000">
            <a:off x="6211080" y="3556800"/>
            <a:ext cx="324000" cy="2951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0720" y="4222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48360" y="5230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69080" y="35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1800" y="4438800"/>
            <a:ext cx="5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21440" y="321480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73800" y="407844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05440" y="292572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85080" y="378936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7621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V. 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intas Nociones de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uesta Computacion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moria de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moria de largo plaz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cuencia: codificar, almace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pe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uesta Interac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ción de memoria extend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2708280"/>
            <a:ext cx="216000" cy="12254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92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 concep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8580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V. 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ón entre la memoria y 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nes” el memori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ichard Nolan en “Mem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ortancia de la memoria en la constitución de la mism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ortancia de la memoria y el olvido en la terapia psic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vivir v/s recor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85800"/>
            <a:ext cx="7696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45:26Z</dcterms:created>
  <dc:creator>Alejandra Avila</dc:creator>
  <dc:description/>
  <dc:language>en-US</dc:language>
  <cp:lastModifiedBy>Andrea Ampuero</cp:lastModifiedBy>
  <dcterms:modified xsi:type="dcterms:W3CDTF">2004-12-27T17:44:03Z</dcterms:modified>
  <cp:revision>10</cp:revision>
  <dc:subject/>
  <dc:title>Presentación de PowerPoint</dc:title>
</cp:coreProperties>
</file>