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DA0-6D21-4C11-811B-9D02F308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D68-7D2E-416D-AF34-A3253B09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551-2BC1-4B6F-817E-BEDA9043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E38-4DF1-42D1-BE8C-9577AEBB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093-E25A-4B7D-956E-C62C1B06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712-3B71-46BE-BE9B-35C2D644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89C-46BE-4881-9444-CBE85A76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730-50F9-4EED-BD0F-7147C57C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7EC-53FA-455F-B30A-1FAEDD66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64E-5024-4DDF-A882-9C375F3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7E4-1D50-41D0-9F90-4B176EA3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50D-78F5-4E10-B8F5-5D8A712C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F84C-F204-4383-BA9E-36DACE0D7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ff"/>
                </a:solidFill>
                <a:latin typeface="Arial"/>
              </a:rPr>
              <a:t>Aprendizaje y Mem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7320" y="5410080"/>
            <a:ext cx="3946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ff"/>
                </a:solidFill>
                <a:latin typeface="Arial"/>
              </a:rPr>
              <a:t>Ps. Sebastián Vidal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4280" y="6477120"/>
            <a:ext cx="330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2005    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588" t="7473" r="68868" b="10149"/>
          <a:stretch/>
        </p:blipFill>
        <p:spPr>
          <a:xfrm>
            <a:off x="4572000" y="4038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36324" t="7473" r="35147" b="10149"/>
          <a:stretch/>
        </p:blipFill>
        <p:spPr>
          <a:xfrm>
            <a:off x="5486400" y="4038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68765" t="7473" r="2706" b="10149"/>
          <a:stretch/>
        </p:blipFill>
        <p:spPr>
          <a:xfrm>
            <a:off x="6400800" y="4038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Sino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7724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es aprend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emoria: VIDEO RECORDAR OLVI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9480"/>
            <a:ext cx="81532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549360"/>
            <a:ext cx="84582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. ¿Qué es el aprendizaj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necesidad evolutiva del aprendizaj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mportancia de la información ex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mayor complejidad de la especie mayor necesidad de 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¿Que es aprend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mplica un cambio de conducta, actitud o conocimiento, relativamente establ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nerado por la experi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procesos m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gn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lación con la 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¿Existe un aprendizaje eminentemente human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cccc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480"/>
            <a:ext cx="8153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I. Distintas propuestas sobre los mecanism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nductis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noción de Condicionamiento Clásico (Pavlo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dicionamiento Operante (Skin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aprendizaje por observación (Bandu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Innatismo: (Choms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uestas Constructivistas (Vygotski, Piag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153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II. La propuesta de Vygotski sobre el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prendizaje y los procesos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noción de Zona de Desarrollo Próxi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pone una naturaleza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un proceso especí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2781360"/>
            <a:ext cx="410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24360" y="3646440"/>
            <a:ext cx="1944720" cy="217440"/>
          </a:xfrm>
          <a:prstGeom prst="rightArrow">
            <a:avLst>
              <a:gd name="adj1" fmla="val 50000"/>
              <a:gd name="adj2" fmla="val 223593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4510080"/>
            <a:ext cx="3168720" cy="217440"/>
          </a:xfrm>
          <a:prstGeom prst="rightArrow">
            <a:avLst>
              <a:gd name="adj1" fmla="val 50000"/>
              <a:gd name="adj2" fmla="val 364321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1080" y="3573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1080" y="44388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rot="5400000">
            <a:off x="5543280" y="3213720"/>
            <a:ext cx="324000" cy="17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45720 h 1763640"/>
              <a:gd name="textAreaBottom" fmla="*/ 17179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5400000">
            <a:off x="6211080" y="3556800"/>
            <a:ext cx="324000" cy="2951280"/>
          </a:xfrm>
          <a:custGeom>
            <a:avLst/>
            <a:gdLst>
              <a:gd name="textAreaLeft" fmla="*/ 207000 w 324000"/>
              <a:gd name="textAreaRight" fmla="*/ 324360 w 32400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0720" y="4222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48360" y="5230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69080" y="35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21800" y="4438800"/>
            <a:ext cx="5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21440" y="321480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73800" y="407844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05440" y="292572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UDA 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85080" y="378936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UDA 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7621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V. La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tintas Nociones de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puesta Computacion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moria de corto p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moria de largo plaz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cuencia: codificar, almace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upe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puesta Interac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ción de memoria extend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2708280"/>
            <a:ext cx="216000" cy="12254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2924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 concept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68580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V. La importancia del olv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ón entre la memoria y el 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nes” el memorio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ichard Nolan en “Mem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ortancia de la memoria en la constitución de la mism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ortancia de la memoria y el olvido en la terapia psic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vivir v/s recor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85800"/>
            <a:ext cx="7696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45:26Z</dcterms:created>
  <dc:creator>Alejandra Avila</dc:creator>
  <dc:description/>
  <dc:language>en-US</dc:language>
  <cp:lastModifiedBy>Andrea Ampuero</cp:lastModifiedBy>
  <dcterms:modified xsi:type="dcterms:W3CDTF">2004-12-27T17:44:03Z</dcterms:modified>
  <cp:revision>10</cp:revision>
  <dc:subject/>
  <dc:title>Presentación de PowerPoint</dc:title>
</cp:coreProperties>
</file>