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02E-8583-40D9-8AF3-DA3DA338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B51-B5FB-4BF9-8BBE-127F708C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D1E-B0A0-4B52-930E-696A8B39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F18-89F4-4964-8378-8F881473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032-2F87-4D5A-B4CA-9FAC3C50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9E5-9A68-4FA7-BA15-20E31DE2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DA4-6039-40FF-8699-02E225CD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BA7-CD92-496C-99A5-1D60EDED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FAB-F96D-47B9-B895-1CB20C19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3BB-4D5E-4180-A41B-4C3E2CDB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213-52EF-46E4-9A53-629B7868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3E0-8146-4CCE-89A4-4A2AE152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A8F9-5891-46C4-B48A-8656EBBB0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859280" y="6381720"/>
            <a:ext cx="38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6920" y="292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Arial"/>
              </a:rPr>
              <a:t>SUJETO Y SOCIE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97320" y="3505320"/>
            <a:ext cx="3946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. Sebastián Vidal To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2588" t="7473" r="68868" b="10149"/>
          <a:stretch/>
        </p:blipFill>
        <p:spPr>
          <a:xfrm>
            <a:off x="3352680" y="15238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36324" t="7473" r="35147" b="10149"/>
          <a:stretch/>
        </p:blipFill>
        <p:spPr>
          <a:xfrm>
            <a:off x="4267080" y="15238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68765" t="7473" r="2706" b="10149"/>
          <a:stretch/>
        </p:blipFill>
        <p:spPr>
          <a:xfrm>
            <a:off x="5181480" y="15238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9966ff"/>
                </a:solidFill>
                <a:latin typeface="Arial"/>
              </a:rPr>
              <a:t>Sinop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ser humano y sus “rarez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noción de 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onstrucción social de la subje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533520"/>
            <a:ext cx="7848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I. El ser humano y sus “rarez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¿Existe una diferencia significativa entre el ser humano y otras especi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Neoten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a nervioso especifico en ser inespecíf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sólo se adapta sino que simplemente adap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voluciona cambiando sus formas de relación con la naturale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imera especie cultural (por ej. percepció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609480"/>
            <a:ext cx="80769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70028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como un gran depósito de sistemas de amplificación (próte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2565360"/>
            <a:ext cx="81532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as de amplificació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nti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ns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9907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66ff"/>
                </a:solidFill>
                <a:latin typeface="Arial"/>
              </a:rPr>
              <a:t>II. El concepto de 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284640"/>
            <a:ext cx="215640" cy="1368360"/>
          </a:xfrm>
          <a:custGeom>
            <a:avLst/>
            <a:gdLst>
              <a:gd name="textAreaLeft" fmla="*/ 0 w 215640"/>
              <a:gd name="textAreaRight" fmla="*/ 7776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35002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to  de la evolución                    sociogené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645000"/>
            <a:ext cx="64764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93080" y="3789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U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762120"/>
            <a:ext cx="81532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941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66ff"/>
                </a:solidFill>
                <a:latin typeface="Arial"/>
              </a:rPr>
              <a:t>III. La construcción social de la subje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989000"/>
            <a:ext cx="3809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1. El argumento de Vygot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ción triádica de la construcción de lo real (Signific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859280" y="1773360"/>
          <a:ext cx="4478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73360"/>
                    <a:ext cx="447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572000" y="1557360"/>
            <a:ext cx="3097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940360" y="2781360"/>
          <a:ext cx="5112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2781360"/>
                    <a:ext cx="511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804000" y="1773360"/>
            <a:ext cx="561960" cy="574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724360" y="2060640"/>
            <a:ext cx="863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32720" y="2492280"/>
            <a:ext cx="28872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5292360" y="2491920"/>
            <a:ext cx="36036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4076640"/>
            <a:ext cx="3809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2. El argumento de Pop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fecto espejo (solo es posible acceder a quien es uno a través de los otr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4221000"/>
            <a:ext cx="3095640" cy="2160720"/>
          </a:xfrm>
          <a:prstGeom prst="rect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5867280" y="4797360"/>
            <a:ext cx="752760" cy="847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4859280" y="1844640"/>
            <a:ext cx="447840" cy="50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7308720" y="4797360"/>
            <a:ext cx="765360" cy="863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020000" y="4581360"/>
            <a:ext cx="1368360" cy="1368720"/>
          </a:xfrm>
          <a:prstGeom prst="flowChartInputOutput">
            <a:avLst/>
          </a:prstGeom>
          <a:noFill/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523880"/>
            <a:ext cx="3276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762120"/>
            <a:ext cx="6324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4160" y="1628640"/>
            <a:ext cx="85658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4365720"/>
            <a:ext cx="685800" cy="609480"/>
          </a:xfrm>
          <a:prstGeom prst="ellips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0368000">
            <a:off x="1136880" y="4575960"/>
            <a:ext cx="3047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24200" y="5127480"/>
            <a:ext cx="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3068640"/>
            <a:ext cx="1152720" cy="93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2492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32000" y="4365720"/>
            <a:ext cx="2376720" cy="792000"/>
          </a:xfrm>
          <a:prstGeom prst="leftArrow">
            <a:avLst>
              <a:gd name="adj1" fmla="val 50000"/>
              <a:gd name="adj2" fmla="val 75023"/>
            </a:avLst>
          </a:prstGeom>
          <a:solidFill>
            <a:srgbClr val="c8141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50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78912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ff"/>
                </a:solidFill>
                <a:latin typeface="Arial"/>
              </a:rPr>
              <a:t>III. La construcción social de la subje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53006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5813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lengu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773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Resum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762120"/>
            <a:ext cx="7696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4:01:31Z</dcterms:created>
  <dc:creator>Alejandra Avila</dc:creator>
  <dc:description/>
  <dc:language>en-US</dc:language>
  <cp:lastModifiedBy>Andrea Ampuero</cp:lastModifiedBy>
  <dcterms:modified xsi:type="dcterms:W3CDTF">2004-12-27T17:45:11Z</dcterms:modified>
  <cp:revision>7</cp:revision>
  <dc:subject/>
  <dc:title>Presentación de PowerPoint</dc:title>
</cp:coreProperties>
</file>