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94F-5C7E-418A-B3AE-34029E56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AF9-3DAE-46C6-BD79-C503F200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F78-1310-43C6-B340-B61F240C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E38-8C07-43D8-B681-98CC5FEA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0B7-5825-4A28-B977-1BC9DF5E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B6A-84B1-40FA-A69F-E82CF326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A15-6ED4-4906-AE38-D6083B4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7A4-FF52-498E-8078-0CF69608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473-E472-471A-ACF5-EEEDACF3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CAA-4B1E-402A-9BEE-8EA0C10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6DF-A354-4E7C-B249-1A6F233F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4AE-49E5-4889-86F1-0966981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EC19-332F-4701-9A6A-5824CA797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59280" y="6381720"/>
            <a:ext cx="38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Arial"/>
              </a:rPr>
              <a:t>SUJETO Y SOCIE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7320" y="3505320"/>
            <a:ext cx="3946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. Sebastián Vidal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588" t="7473" r="68868" b="10149"/>
          <a:stretch/>
        </p:blipFill>
        <p:spPr>
          <a:xfrm>
            <a:off x="3352680" y="15238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36324" t="7473" r="35147" b="10149"/>
          <a:stretch/>
        </p:blipFill>
        <p:spPr>
          <a:xfrm>
            <a:off x="4267080" y="15238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68765" t="7473" r="2706" b="10149"/>
          <a:stretch/>
        </p:blipFill>
        <p:spPr>
          <a:xfrm>
            <a:off x="5181480" y="15238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9966ff"/>
                </a:solidFill>
                <a:latin typeface="Arial"/>
              </a:rPr>
              <a:t>Sino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er humano y sus “rarez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noción de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strucción social de la subje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33520"/>
            <a:ext cx="7848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I. El ser humano y sus “rarez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¿Existe una diferencia significativa entre el ser humano y otras espec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Neoten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a nervioso especifico en ser inespecíf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sólo se adapta sino que simplemente adap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voluciona cambiando sus formas de relación con la naturale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imera especie cultural (por ej. percepció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70028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como un gran depósito de sistemas de amplificación (próte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565360"/>
            <a:ext cx="81532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as de amplificació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nti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990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ff"/>
                </a:solidFill>
                <a:latin typeface="Arial"/>
              </a:rPr>
              <a:t>II. El concepto de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28464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500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 de la evolución                    sociogen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645000"/>
            <a:ext cx="64764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3789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762120"/>
            <a:ext cx="81532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94140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ff"/>
                </a:solidFill>
                <a:latin typeface="Arial"/>
              </a:rPr>
              <a:t>III. La construcción social de la subje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98900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1. El argumento de Vygot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ción triádica de la construcción de lo real (Signific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859280" y="1773360"/>
          <a:ext cx="447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447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72000" y="1557360"/>
            <a:ext cx="3097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940360" y="2781360"/>
          <a:ext cx="5112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81360"/>
                    <a:ext cx="511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804000" y="1773360"/>
            <a:ext cx="561960" cy="57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24360" y="2060640"/>
            <a:ext cx="863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32720" y="2492280"/>
            <a:ext cx="28872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292360" y="2491920"/>
            <a:ext cx="36036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07664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2. El argumento de Pop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fecto espejo (solo es posible acceder a quien es uno a través de los otr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4221000"/>
            <a:ext cx="3095640" cy="21607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867280" y="4797360"/>
            <a:ext cx="752760" cy="84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4859280" y="1844640"/>
            <a:ext cx="44784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7308720" y="4797360"/>
            <a:ext cx="765360" cy="86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20000" y="4581360"/>
            <a:ext cx="1368360" cy="1368720"/>
          </a:xfrm>
          <a:prstGeom prst="flowChartInputOutput">
            <a:avLst/>
          </a:pr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5238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762120"/>
            <a:ext cx="6324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4160" y="1628640"/>
            <a:ext cx="8565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4365720"/>
            <a:ext cx="685800" cy="609480"/>
          </a:xfrm>
          <a:prstGeom prst="ellips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368000">
            <a:off x="1136880" y="4575960"/>
            <a:ext cx="304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4200" y="51274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068640"/>
            <a:ext cx="115272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2492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4365720"/>
            <a:ext cx="2376720" cy="792000"/>
          </a:xfrm>
          <a:prstGeom prst="leftArrow">
            <a:avLst>
              <a:gd name="adj1" fmla="val 50000"/>
              <a:gd name="adj2" fmla="val 75023"/>
            </a:avLst>
          </a:prstGeom>
          <a:solidFill>
            <a:srgbClr val="c8141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78912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ff"/>
                </a:solidFill>
                <a:latin typeface="Arial"/>
              </a:rPr>
              <a:t>III. La construcción social de la subje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5300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581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lengu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773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su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762120"/>
            <a:ext cx="7696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4:01:31Z</dcterms:created>
  <dc:creator>Alejandra Avila</dc:creator>
  <dc:description/>
  <dc:language>en-US</dc:language>
  <cp:lastModifiedBy>Andrea Ampuero</cp:lastModifiedBy>
  <dcterms:modified xsi:type="dcterms:W3CDTF">2004-12-27T17:45:11Z</dcterms:modified>
  <cp:revision>7</cp:revision>
  <dc:subject/>
  <dc:title>Presentación de PowerPoint</dc:title>
</cp:coreProperties>
</file>