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E2F-03AB-4B0D-918C-2C0599C6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8E9-A35B-4ADA-8384-E194875B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183-22E2-4FF8-A440-88DCACD7C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F98-4522-49AE-900C-67597581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65B1-EC8D-4F88-B1C9-D5ECA59D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67E0-EF64-4DDE-8CF0-B9BD5B8D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E28A-9D07-46E9-BA92-9D9B494E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DABA-5A03-471C-91C9-68F69203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E075-7994-44E1-A1A9-99495B88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44B1-2359-4382-A924-81CB8960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9FAF-42F5-4BFD-A50B-5687B72B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94D-CD42-45C8-9B98-674F2F68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6BF3-145F-4AA7-BDBC-2BF423E2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B3A2-9DB8-4F79-9D94-6E1F1F97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9E04-9250-46A6-BF52-8FD9A399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A53C-6E67-4EF5-8AF9-1B58627A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1A3A-D84F-4EAE-9B6B-2AE0D978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6FC-5851-4188-9EA5-0A060257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CA2-B2D9-4276-AEDE-4B7091A3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E4E-2F44-4726-B755-33F301C0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FAE1-0B79-4DC6-B8D0-E1F7ACF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9FD-5190-41FC-BED2-BC726F36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860-A61F-409E-8948-C0E2FF88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0D3-6DBC-4880-9D2D-4BF99AEF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A08C-2D35-4534-B6F3-A20691819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AF50-1E4C-412E-8847-D2BC2A23D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6600"/>
                </a:solidFill>
                <a:latin typeface="Arial Black"/>
              </a:rPr>
              <a:t>INTRODUCCIÓN A LA PSICOLOGÍA</a:t>
            </a:r>
            <a:br>
              <a:rPr sz="4800"/>
            </a:b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4220640"/>
            <a:ext cx="6782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CUELA DE VERAN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609300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6600"/>
                </a:solidFill>
                <a:latin typeface="Arial Black"/>
              </a:rPr>
              <a:t>SUJETO Y VINCULO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3349080" y="14842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65b00"/>
                </a:solidFill>
                <a:latin typeface="Arial"/>
              </a:rPr>
              <a:t>ESTILO VIN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060640"/>
            <a:ext cx="1150920" cy="431640"/>
          </a:xfrm>
          <a:prstGeom prst="downArrow">
            <a:avLst>
              <a:gd name="adj1" fmla="val 60556"/>
              <a:gd name="adj2" fmla="val 57722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2360" y="270828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nera en que cada persona se relaciona consigo mism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 los otros y con el mu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3789360"/>
            <a:ext cx="1513080" cy="504720"/>
          </a:xfrm>
          <a:prstGeom prst="downArrow">
            <a:avLst>
              <a:gd name="adj1" fmla="val 65370"/>
              <a:gd name="adj2" fmla="val 68556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r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360" y="4653000"/>
            <a:ext cx="72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El patrón vincular</a:t>
            </a: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 decir, forma particular en que cada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va desarrollando la conducta explorato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Patrón vincular hace referencia al modo en que se relaciona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iño con sus pad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609300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2843280" y="1413000"/>
            <a:ext cx="1009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480" y="2205000"/>
            <a:ext cx="460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e4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ecesario para la sobreviv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la espec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lica cuidados de alimentac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salud, abri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ase del desarrollo emocional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l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pacio propio, en lo personal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terpersonal, domin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racterizado por poca exigencia p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persona, tranquilidad, baja demanda</a:t>
            </a: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1413000"/>
            <a:ext cx="10810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10040" y="2205000"/>
            <a:ext cx="417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               </a:t>
            </a: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e4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ecesario para la sobreviv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la espec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lica activación en el suje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sociado al descubrimiento,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ntura, al conocim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nera mayor estado de tens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tar aler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xigencias y demandas pers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 interperso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3280" y="549360"/>
            <a:ext cx="3887640" cy="792000"/>
          </a:xfrm>
          <a:prstGeom prst="roundRect">
            <a:avLst>
              <a:gd name="adj" fmla="val 16667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DUCTA EXPLORA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5373720"/>
            <a:ext cx="3960720" cy="720720"/>
          </a:xfrm>
          <a:custGeom>
            <a:avLst/>
            <a:gdLst>
              <a:gd name="textAreaLeft" fmla="*/ 747720 w 3960720"/>
              <a:gd name="textAreaRight" fmla="*/ 2598480 w 3960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56" hR="21600" stAng="10800000" swAng="-5400000"/>
                <a:lnTo>
                  <a:pt x="10094" y="21600"/>
                </a:lnTo>
                <a:arcTo wR="8156" hR="21600" stAng="5400000" swAng="-3651000"/>
                <a:lnTo>
                  <a:pt x="21425" y="4451"/>
                </a:lnTo>
                <a:lnTo>
                  <a:pt x="17280" y="0"/>
                </a:lnTo>
                <a:lnTo>
                  <a:pt x="12785" y="4451"/>
                </a:lnTo>
                <a:lnTo>
                  <a:pt x="16136" y="4451"/>
                </a:lnTo>
                <a:arcTo wR="8156" hR="21600" stAng="1749000" swAng="3495784"/>
                <a:lnTo>
                  <a:pt x="9125" y="21447"/>
                </a:lnTo>
                <a:arcTo wR="8156" hR="21600" stAng="5555216" swAng="5244784"/>
                <a:close/>
              </a:path>
              <a:path fill="darkenLess" w="21600" h="21600">
                <a:moveTo>
                  <a:pt x="0" y="0"/>
                </a:moveTo>
                <a:arcTo wR="8156" hR="21600" stAng="10800000" swAng="-5400000"/>
                <a:lnTo>
                  <a:pt x="10094" y="21600"/>
                </a:lnTo>
                <a:arcTo wR="8156" hR="21600" stAng="5400000" swAng="155216"/>
                <a:lnTo>
                  <a:pt x="9125" y="21447"/>
                </a:lnTo>
                <a:arcTo wR="8156" hR="21600" stAng="5555216" swAng="5244784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645336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68360" y="260280"/>
            <a:ext cx="4969080" cy="720720"/>
          </a:xfrm>
          <a:prstGeom prst="roundRect">
            <a:avLst>
              <a:gd name="adj" fmla="val 16667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TAPAS EVOLU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341360"/>
          <a:ext cx="8569080" cy="4862520"/>
        </p:xfrm>
        <a:graphic>
          <a:graphicData uri="http://schemas.openxmlformats.org/drawingml/2006/table">
            <a:tbl>
              <a:tblPr/>
              <a:tblGrid>
                <a:gridCol w="1852560"/>
                <a:gridCol w="671652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ETA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CARACTERÍS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INFA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(0 a los 7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Sensorio – Motor (0 a 2 años) :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inteligencia práctica" que se hace exclusivamente en la manipulación de objetos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suceso importante en el desarrollo cognoscitivo del niño es la aparición del lenguaje ya que da inicio a la socialización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 suceso en esta etapa es la interiorización de la palabra, es decir, que el pequeño tendrá en la mente su propia interpretación de una palabra, hasta llegar a interiorizar acciones, lo cual hace que se genera el pensamiento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Pre Operacional (2 a los 7 años) Se desarrolla la lógica intuitiva es decir, todo se acepta sin comprender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NIÑ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(7 a 11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Operaciones Concretas: se desarrolla la reflexión dejando atrás la lógica intuitiva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 empiezan a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r una serie de operaciones como "reuniones y disociaciones de clases, clasificación y almacenamiento de relaciones, variaciones, correspondencias”. Sin embargo,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campo de acción del niño es muy limitado puesto que sólo actuará sobre los objetos y no sobre hipótesis o enunciados verbales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050920" y="645336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50920" y="1052640"/>
          <a:ext cx="8521560" cy="5173560"/>
        </p:xfrm>
        <a:graphic>
          <a:graphicData uri="http://schemas.openxmlformats.org/drawingml/2006/table">
            <a:tbl>
              <a:tblPr/>
              <a:tblGrid>
                <a:gridCol w="2016000"/>
                <a:gridCol w="65055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OLESC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es Formales: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ensamiento actúa en un plano hipotético-deductivo, de esta manera es posible distinguir entre lo real y lo posible 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sarrollo de capacidades operativas abstractas. Se caracteriza por la consolidación de la identidad y la búsqueda de la autonomí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ULTO JOV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lidación de la autonomía, proyectos en torno a las competencias personales y la vida amoros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ULT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lidación de los proyectos personales y posterior evaluación “Crisis de la Edad Media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ULTO MAY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(61 años en adelant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o en la noción del tiempo, deseo por dejar un legado a los otros y transmitir las propias experiencias. En este sentido la “sabiduría” es un recurso psicológico importante. Búsqueda por encontrar un nuevo espacio; pérdida de las actividades productivas (trabajo) y baja de las capacidades físicas (pérdida audición, vista,etc.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340000" y="333360"/>
            <a:ext cx="5040360" cy="574560"/>
          </a:xfrm>
          <a:prstGeom prst="roundRect">
            <a:avLst>
              <a:gd name="adj" fmla="val 16667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TAPAS EVOLU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645336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23:16:27Z</dcterms:created>
  <dc:creator>Paula Vergara</dc:creator>
  <dc:description/>
  <dc:language>en-US</dc:language>
  <cp:lastModifiedBy>Andrea Ampuero</cp:lastModifiedBy>
  <dcterms:modified xsi:type="dcterms:W3CDTF">2004-12-27T17:43:05Z</dcterms:modified>
  <cp:revision>12</cp:revision>
  <dc:subject/>
  <dc:title>INTRODUCCIÓN A LA PSICOLOGÍA </dc:title>
</cp:coreProperties>
</file>