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022975" cy="8183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9019-28EF-4C4E-81F6-4B8AB381F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D87B-C958-42BB-80D4-0AEF901BD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4B78-A618-4E67-8CE3-85A625247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F805-B082-4F99-9E56-FAC1C961A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8D33F-82A7-4D3E-80AD-FC4DC07E7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6867A-5980-453C-B290-1FDC28D91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DFB69-224E-4CDF-9EE9-0E738F0C1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29EBD-AABC-42CF-97F8-02A5B7046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780F2-3B87-46D5-A043-EC0BDE51D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1CCEE-1C78-4B18-8529-820740FE7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F287D-8006-45C5-BFFC-254C1299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192E-A933-490B-884C-20BDAA79B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F5F8A-B216-483B-8580-CF3DC5F55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80DE2-99D6-4DE5-932F-37A12F365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7C635-0551-428F-A11F-71D5A85D7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F9EE3-3966-4906-A2E5-8507D4662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B5D72-BF38-4110-A5C6-5E6365512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F79E-57E6-4C4C-A514-27FFEB8B5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2741-8E82-47C4-8CD1-18793657A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008A-03E1-44A3-AD9B-B341DAF8F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715A-0C00-4238-8380-DCDE17C9D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6036-20BC-409F-AD1D-20248B1A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BD98-5174-4CEF-BF58-61F855DA8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0DF0-AE79-48E0-A89B-4647D114D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4FF72-76A3-4276-B278-FD113758AD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DCE37-A9EE-4DA8-8082-5DF136153B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cc6600"/>
                </a:solidFill>
                <a:latin typeface="Arial Black"/>
              </a:rPr>
              <a:t>INTRODUCCIÓN A LA PSICOLOGÍA</a:t>
            </a:r>
            <a:br>
              <a:rPr sz="4800"/>
            </a:br>
            <a:endParaRPr b="1" lang="en-US" sz="48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547280" y="4220640"/>
            <a:ext cx="6782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SCUELA DE VERANO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95640" y="6093000"/>
            <a:ext cx="532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Grupo Constructivista- Cognitivo. Universidad de Chile 200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cc6600"/>
                </a:solidFill>
                <a:latin typeface="Arial Black"/>
              </a:rPr>
              <a:t>SUJETO Y VINCULO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3349080" y="1484280"/>
            <a:ext cx="225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65b00"/>
                </a:solidFill>
                <a:latin typeface="Arial"/>
              </a:rPr>
              <a:t>ESTILO VINCU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780000" y="2060640"/>
            <a:ext cx="1150920" cy="431640"/>
          </a:xfrm>
          <a:prstGeom prst="downArrow">
            <a:avLst>
              <a:gd name="adj1" fmla="val 60556"/>
              <a:gd name="adj2" fmla="val 57722"/>
            </a:avLst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052360" y="2708280"/>
            <a:ext cx="649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Manera en que cada persona se relaciona consigo misma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con los otros y con el mun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08360" y="3789360"/>
            <a:ext cx="1513080" cy="504720"/>
          </a:xfrm>
          <a:prstGeom prst="downArrow">
            <a:avLst>
              <a:gd name="adj1" fmla="val 65370"/>
              <a:gd name="adj2" fmla="val 68556"/>
            </a:avLst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Sur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32360" y="4653000"/>
            <a:ext cx="724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e4d00"/>
                </a:solidFill>
                <a:latin typeface="Arial"/>
              </a:rPr>
              <a:t>El patrón vincular</a:t>
            </a:r>
            <a:r>
              <a:rPr b="0" lang="es-ES_tradnl" sz="1800" spc="-1" strike="noStrike">
                <a:solidFill>
                  <a:srgbClr val="be4d00"/>
                </a:solidFill>
                <a:latin typeface="Arial"/>
              </a:rPr>
              <a:t>,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s decir, forma particular en que cada suje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va desarrollando la conducta exploratori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l Patrón vincular hace referencia al modo en que se relaciona 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niño con sus pad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195640" y="6093000"/>
            <a:ext cx="532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Grupo Constructivista- Cognitivo. Universidad de Chile 20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 flipH="1">
            <a:off x="2843280" y="1413000"/>
            <a:ext cx="100944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3480" y="2205000"/>
            <a:ext cx="4606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e4d00"/>
                </a:solidFill>
                <a:latin typeface="Arial"/>
              </a:rPr>
              <a:t>                 </a:t>
            </a:r>
            <a:r>
              <a:rPr b="1" lang="es-ES_tradnl" sz="1800" spc="-1" strike="noStrike">
                <a:solidFill>
                  <a:srgbClr val="be4d00"/>
                </a:solidFill>
                <a:latin typeface="Arial"/>
              </a:rPr>
              <a:t>APE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be4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be4d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Necesario para la sobreviven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de la especi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Implica cuidados de alimentación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de salud, abrig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Base del desarrollo emocional 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relacion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spacio propio, en lo personal 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interpersonal, domini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Caracterizado por poca exigencia pa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la persona, tranquilidad, baja demanda</a:t>
            </a:r>
            <a:r>
              <a:rPr b="0" lang="es-ES_tradnl" sz="1800" spc="-1" strike="noStrike">
                <a:solidFill>
                  <a:srgbClr val="be4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796000" y="1413000"/>
            <a:ext cx="108108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910040" y="2205000"/>
            <a:ext cx="41716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e4d00"/>
                </a:solidFill>
                <a:latin typeface="Arial"/>
              </a:rPr>
              <a:t>               </a:t>
            </a:r>
            <a:r>
              <a:rPr b="1" lang="es-ES_tradnl" sz="1800" spc="-1" strike="noStrike">
                <a:solidFill>
                  <a:srgbClr val="be4d00"/>
                </a:solidFill>
                <a:latin typeface="Arial"/>
              </a:rPr>
              <a:t>ALEJAMI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be4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be4d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Necesario para la sobrevivenci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de la especi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Implica activación en el sujet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Asociado al descubrimiento, l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aventura, al conocimient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Genera mayor estado de tensión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star alert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xigencias y demandas person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 interpersonal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43280" y="549360"/>
            <a:ext cx="3887640" cy="792000"/>
          </a:xfrm>
          <a:prstGeom prst="roundRect">
            <a:avLst>
              <a:gd name="adj" fmla="val 16667"/>
            </a:avLst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CONDUCTA EXPLORATO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56000" y="5373720"/>
            <a:ext cx="3960720" cy="720720"/>
          </a:xfrm>
          <a:custGeom>
            <a:avLst/>
            <a:gdLst>
              <a:gd name="textAreaLeft" fmla="*/ 747720 w 3960720"/>
              <a:gd name="textAreaRight" fmla="*/ 2598480 w 3960720"/>
              <a:gd name="textAreaTop" fmla="*/ 96480 h 720720"/>
              <a:gd name="textAreaBottom" fmla="*/ 62424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156" hR="21600" stAng="10800000" swAng="-5400000"/>
                <a:lnTo>
                  <a:pt x="10094" y="21600"/>
                </a:lnTo>
                <a:arcTo wR="8156" hR="21600" stAng="5400000" swAng="-3651000"/>
                <a:lnTo>
                  <a:pt x="21425" y="4451"/>
                </a:lnTo>
                <a:lnTo>
                  <a:pt x="17280" y="0"/>
                </a:lnTo>
                <a:lnTo>
                  <a:pt x="12785" y="4451"/>
                </a:lnTo>
                <a:lnTo>
                  <a:pt x="16136" y="4451"/>
                </a:lnTo>
                <a:arcTo wR="8156" hR="21600" stAng="1749000" swAng="3495784"/>
                <a:lnTo>
                  <a:pt x="9125" y="21447"/>
                </a:lnTo>
                <a:arcTo wR="8156" hR="21600" stAng="5555216" swAng="5244784"/>
                <a:close/>
              </a:path>
              <a:path fill="darkenLess" w="21600" h="21600">
                <a:moveTo>
                  <a:pt x="0" y="0"/>
                </a:moveTo>
                <a:arcTo wR="8156" hR="21600" stAng="10800000" swAng="-5400000"/>
                <a:lnTo>
                  <a:pt x="10094" y="21600"/>
                </a:lnTo>
                <a:arcTo wR="8156" hR="21600" stAng="5400000" swAng="155216"/>
                <a:lnTo>
                  <a:pt x="9125" y="21447"/>
                </a:lnTo>
                <a:arcTo wR="8156" hR="21600" stAng="5555216" swAng="5244784"/>
                <a:close/>
              </a:path>
            </a:pathLst>
          </a:cu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050920" y="6453360"/>
            <a:ext cx="532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Grupo Constructivista- Cognitivo. Universidad de Chile 20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268360" y="260280"/>
            <a:ext cx="4969080" cy="720720"/>
          </a:xfrm>
          <a:prstGeom prst="roundRect">
            <a:avLst>
              <a:gd name="adj" fmla="val 16667"/>
            </a:avLst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TAPAS EVOLUTIV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24000" y="1341360"/>
          <a:ext cx="8569080" cy="4862520"/>
        </p:xfrm>
        <a:graphic>
          <a:graphicData uri="http://schemas.openxmlformats.org/drawingml/2006/table">
            <a:tbl>
              <a:tblPr/>
              <a:tblGrid>
                <a:gridCol w="1852560"/>
                <a:gridCol w="6716520"/>
              </a:tblGrid>
              <a:tr h="50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d85700"/>
                          </a:solidFill>
                          <a:latin typeface="Arial"/>
                        </a:rPr>
                        <a:t>ETAP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d85700"/>
                          </a:solidFill>
                          <a:latin typeface="Arial"/>
                        </a:rPr>
                        <a:t>CARACTERÍSTIC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3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d85700"/>
                          </a:solidFill>
                          <a:latin typeface="Arial"/>
                        </a:rPr>
                        <a:t>INFANC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d85700"/>
                          </a:solidFill>
                          <a:latin typeface="Arial"/>
                        </a:rPr>
                        <a:t>(0 a los 7 año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apa Sensorio – Motor (0 a 2 años) :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"inteligencia práctica" que se hace exclusivamente en la manipulación de objetos.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 suceso importante en el desarrollo cognoscitivo del niño es la aparición del lenguaje ya que da inicio a la socialización.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tro suceso en esta etapa es la interiorización de la palabra, es decir, que el pequeño tendrá en la mente su propia interpretación de una palabra, hasta llegar a interiorizar acciones, lo cual hace que se genera el pensamiento.</a:t>
                      </a: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apa Pre Operacional (2 a los 7 años) Se desarrolla la lógica intuitiva es decir, todo se acepta sin comprenderl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d85700"/>
                          </a:solidFill>
                          <a:latin typeface="Arial"/>
                        </a:rPr>
                        <a:t>NIÑEZ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d85700"/>
                          </a:solidFill>
                          <a:latin typeface="Arial"/>
                        </a:rPr>
                        <a:t>(7 a 11 año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apa Operaciones Concretas: se desarrolla la reflexión dejando atrás la lógica intuitiva</a:t>
                      </a: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e empiezan a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rmar una serie de operaciones como "reuniones y disociaciones de clases, clasificación y almacenamiento de relaciones, variaciones, correspondencias”. Sin embargo,</a:t>
                      </a: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 campo de acción del niño es muy limitado puesto que sólo actuará sobre los objetos y no sobre hipótesis o enunciados verbales.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2050920" y="6453360"/>
            <a:ext cx="532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Grupo Constructivista- Cognitivo. Universidad de Chile 20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250920" y="1052640"/>
          <a:ext cx="8521560" cy="5173560"/>
        </p:xfrm>
        <a:graphic>
          <a:graphicData uri="http://schemas.openxmlformats.org/drawingml/2006/table">
            <a:tbl>
              <a:tblPr/>
              <a:tblGrid>
                <a:gridCol w="2016000"/>
                <a:gridCol w="6505560"/>
              </a:tblGrid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d85700"/>
                          </a:solidFill>
                          <a:latin typeface="Arial"/>
                        </a:rPr>
                        <a:t>ADOLESCENC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ciones Formales: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 pensamiento actúa en un plano hipotético-deductivo, de esta manera es posible distinguir entre lo real y lo posible .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esarrollo de capacidades operativas abstractas. Se caracteriza por la consolidación de la identidad y la búsqueda de la autonomía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0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d85700"/>
                          </a:solidFill>
                          <a:latin typeface="Arial"/>
                        </a:rPr>
                        <a:t>ADULTO JOV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olidación de la autonomía, proyectos en torno a las competencias personales y la vida amorosa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d85700"/>
                          </a:solidFill>
                          <a:latin typeface="Arial"/>
                        </a:rPr>
                        <a:t>ADULTEZ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olidación de los proyectos personales y posterior evaluación “Crisis de la Edad Media”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d85700"/>
                          </a:solidFill>
                          <a:latin typeface="Arial"/>
                        </a:rPr>
                        <a:t>ADULTO MAY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d85700"/>
                          </a:solidFill>
                          <a:latin typeface="Arial"/>
                        </a:rPr>
                        <a:t>(61 años en adelante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mbio en la noción del tiempo, deseo por dejar un legado a los otros y transmitir las propias experiencias. En este sentido la “sabiduría” es un recurso psicológico importante. Búsqueda por encontrar un nuevo espacio; pérdida de las actividades productivas (trabajo) y baja de las capacidades físicas (pérdida audición, vista,etc.)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2340000" y="333360"/>
            <a:ext cx="5040360" cy="574560"/>
          </a:xfrm>
          <a:prstGeom prst="roundRect">
            <a:avLst>
              <a:gd name="adj" fmla="val 16667"/>
            </a:avLst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TAPAS EVOLUTIV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79640" y="6453360"/>
            <a:ext cx="532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Grupo Constructivista- Cognitivo. Universidad de Chile 20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4T23:16:27Z</dcterms:created>
  <dc:creator>Paula Vergara</dc:creator>
  <dc:description/>
  <dc:language>en-US</dc:language>
  <cp:lastModifiedBy>Andrea Ampuero</cp:lastModifiedBy>
  <dcterms:modified xsi:type="dcterms:W3CDTF">2004-12-27T17:43:05Z</dcterms:modified>
  <cp:revision>12</cp:revision>
  <dc:subject/>
  <dc:title>INTRODUCCIÓN A LA PSICOLOGÍA </dc:title>
</cp:coreProperties>
</file>