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392-0643-4712-9026-50D360B2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832-9E14-40EF-9017-6133605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B65-9E0E-41C0-9EBA-3BE0625F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5038-EC92-47E3-98C0-B35C35E3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BD7C-EA51-4291-9507-C170632E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8700-5928-4C16-8284-EFE5C1B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8349-E11D-44FD-89E0-1E661BF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3924-3C4F-43F8-AE0B-16BE7DD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55C1-040D-4D76-BCBA-CF2F458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0012-9872-4A2E-825C-5A21342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509F-6AE3-4E55-868D-A1571DA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E8B-A7CC-4484-9B64-A4467DF2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0540-B294-4E66-BAA5-7834852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301C-9351-48C3-A095-59F3FE3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B59B-5EAE-49AC-83EB-5137C16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A30D-D071-4105-9BE5-7F06DA0B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0B5-D488-4E14-8B30-E4C04A03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839-8139-462E-B68D-388EE41D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CDD-CCDA-4150-AFA2-F0DFA701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BDA-99DA-4132-B38D-3BF4E119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D52-8D09-4BB1-9447-4DF72736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550-5335-4460-A75D-72784B97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188-8649-48C9-B72F-EFA77FD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9AF-C236-46C4-AA30-1B06292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B825-2AF0-47DF-B62D-DFBA5CFDF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1BE-6169-4651-ADB8-1B26300090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6600"/>
                </a:solidFill>
                <a:latin typeface="Arial Black"/>
              </a:rPr>
              <a:t>INTRODUCCIÓN A LA PSICOLOGÍA</a:t>
            </a:r>
            <a:br>
              <a:rPr sz="4800"/>
            </a:b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42206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6600"/>
                </a:solidFill>
                <a:latin typeface="Arial Black"/>
              </a:rPr>
              <a:t>SUJETO Y VINCULO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349080" y="1484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5b00"/>
                </a:solidFill>
                <a:latin typeface="Arial"/>
              </a:rPr>
              <a:t>ESTILO VIN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060640"/>
            <a:ext cx="1150920" cy="431640"/>
          </a:xfrm>
          <a:prstGeom prst="downArrow">
            <a:avLst>
              <a:gd name="adj1" fmla="val 60556"/>
              <a:gd name="adj2" fmla="val 57722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2360" y="27082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nera en que cada persona se relaciona consigo mis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 los otros y con el mu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3789360"/>
            <a:ext cx="1513080" cy="504720"/>
          </a:xfrm>
          <a:prstGeom prst="downArrow">
            <a:avLst>
              <a:gd name="adj1" fmla="val 65370"/>
              <a:gd name="adj2" fmla="val 68556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360" y="4653000"/>
            <a:ext cx="72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El patrón vincular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 decir, forma particular en que cada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 desarrollando la conducta explorato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Patrón vincular hace referencia al modo en que se relaciona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iño con sus 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2843280" y="1413000"/>
            <a:ext cx="1009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80" y="2205000"/>
            <a:ext cx="460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cuidados de aliment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salud, abri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ase del desarrollo emocional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l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pacio propio, en lo personal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rpersonal, domin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cterizado por poca exigencia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ersona, tranquilidad, baja demanda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13000"/>
            <a:ext cx="1081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0040" y="2205000"/>
            <a:ext cx="417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activación en el suj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do al descubrimiento,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ntura, al conoci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nera mayor estado de tens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ar aler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xigencias y demanda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549360"/>
            <a:ext cx="3887640" cy="79200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DUCTA EXPL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5373720"/>
            <a:ext cx="3960720" cy="720720"/>
          </a:xfrm>
          <a:custGeom>
            <a:avLst/>
            <a:gdLst>
              <a:gd name="textAreaLeft" fmla="*/ 747720 w 3960720"/>
              <a:gd name="textAreaRight" fmla="*/ 2598480 w 3960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-3651000"/>
                <a:lnTo>
                  <a:pt x="21425" y="4451"/>
                </a:lnTo>
                <a:lnTo>
                  <a:pt x="17280" y="0"/>
                </a:lnTo>
                <a:lnTo>
                  <a:pt x="12785" y="4451"/>
                </a:lnTo>
                <a:lnTo>
                  <a:pt x="16136" y="4451"/>
                </a:lnTo>
                <a:arcTo wR="8156" hR="21600" stAng="1749000" swAng="3495784"/>
                <a:lnTo>
                  <a:pt x="9125" y="21447"/>
                </a:lnTo>
                <a:arcTo wR="8156" hR="21600" stAng="5555216" swAng="5244784"/>
                <a:close/>
              </a:path>
              <a:path fill="darkenLess"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155216"/>
                <a:lnTo>
                  <a:pt x="9125" y="21447"/>
                </a:lnTo>
                <a:arcTo wR="8156" hR="21600" stAng="5555216" swAng="5244784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260280"/>
            <a:ext cx="4969080" cy="72072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341360"/>
          <a:ext cx="8569080" cy="4862520"/>
        </p:xfrm>
        <a:graphic>
          <a:graphicData uri="http://schemas.openxmlformats.org/drawingml/2006/table">
            <a:tbl>
              <a:tblPr/>
              <a:tblGrid>
                <a:gridCol w="1852560"/>
                <a:gridCol w="67165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ETA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INFA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0 a los 7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Sensorio – Motor (0 a 2 años) :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inteligencia práctica" que se hace exclusivamente en la manipulación de objetos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suceso importante en el desarrollo cognoscitivo del niño es la aparición del lenguaje ya que da inicio a la socialización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suceso en esta etapa es la interiorización de la palabra, es decir, que el pequeño tendrá en la mente su propia interpretación de una palabra, hasta llegar a interiorizar acciones, lo cual hace que se genera el pensamiento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Pre Operacional (2 a los 7 años) Se desarrolla la lógica intuitiva es decir, todo se acepta sin comprender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NIÑ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7 a 11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Operaciones Concretas: se desarrolla la reflexión dejando atrás la lógica intuitiv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 empiezan a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r una serie de operaciones como "reuniones y disociaciones de clases, clasificación y almacenamiento de relaciones, variaciones, correspondencias”. Sin embarg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campo de acción del niño es muy limitado puesto que sólo actuará sobre los objetos y no sobre hipótesis o enunciados verbal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1052640"/>
          <a:ext cx="8521560" cy="5173560"/>
        </p:xfrm>
        <a:graphic>
          <a:graphicData uri="http://schemas.openxmlformats.org/drawingml/2006/table">
            <a:tbl>
              <a:tblPr/>
              <a:tblGrid>
                <a:gridCol w="2016000"/>
                <a:gridCol w="6505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OLESC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es Formales: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ensamiento actúa en un plano hipotético-deductivo, de esta manera es posible distinguir entre lo real y lo posible 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sarrollo de capacidades operativas abstractas. Se caracteriza por la consolidación de la identidad y la búsqueda de la autonomí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JO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a autonomía, proyectos en torno a las competencias personales y la vida amoros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os proyectos personales y posterior evaluación “Crisis de la Edad Media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MA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61 años en adela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en la noción del tiempo, deseo por dejar un legado a los otros y transmitir las propias experiencias. En este sentido la “sabiduría” es un recurso psicológico importante. Búsqueda por encontrar un nuevo espacio; pérdida de las actividades productivas (trabajo) y baja de las capacidades físicas (pérdida audición, vista,etc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340000" y="333360"/>
            <a:ext cx="5040360" cy="57456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645336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23:16:27Z</dcterms:created>
  <dc:creator>Paula Vergara</dc:creator>
  <dc:description/>
  <dc:language>en-US</dc:language>
  <cp:lastModifiedBy>Andrea Ampuero</cp:lastModifiedBy>
  <dcterms:modified xsi:type="dcterms:W3CDTF">2004-12-27T17:43:05Z</dcterms:modified>
  <cp:revision>12</cp:revision>
  <dc:subject/>
  <dc:title>INTRODUCCIÓN A LA PSICOLOGÍA </dc:title>
</cp:coreProperties>
</file>