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AF96F-93AC-43DB-BBE2-1081B2D3B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833B8-40CE-4366-99B1-1519A5C2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22248-C66B-48D4-9F03-5D46EB7EF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EDA29-4BD9-4964-A7FE-ED1BA6016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FBB4-9CE8-4672-B3A4-853F46053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11BBF-B9D9-4A58-AC06-372F4BDD7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E45F2-0616-4191-8328-045939CE1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AFE87-40BC-41F5-9813-B06B5BCA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D8E03-6F97-422D-BDC6-7DBB65FB1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64F50-9589-4BB5-AB07-374BA55D9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0FE2-B91F-4B85-ADCF-E2AB655BA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E1AF-DFEE-40F9-B956-92C9A6FB9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45EF-F08F-4E83-B892-BDEAB8110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019200" y="6537240"/>
            <a:ext cx="276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Apuntes Psicología</a:t>
            </a:r>
            <a:endParaRPr b="0" lang="en-US" sz="10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52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imes New Roman"/>
              </a:rPr>
              <a:t>EMOC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60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activación inespecífica</a:t>
            </a:r>
            <a:endParaRPr b="0" lang="en-US" sz="4400" spc="-1" strike="noStrike">
              <a:solidFill>
                <a:srgbClr val="000000"/>
              </a:solidFill>
              <a:latin typeface="Times New Roman"/>
            </a:endParaRPr>
          </a:p>
        </p:txBody>
      </p:sp>
      <p:sp>
        <p:nvSpPr>
          <p:cNvPr id="60" name="PlaceHolder 2"/>
          <p:cNvSpPr>
            <a:spLocks noGrp="1"/>
          </p:cNvSpPr>
          <p:nvPr>
            <p:ph/>
          </p:nvPr>
        </p:nvSpPr>
        <p:spPr>
          <a:xfrm>
            <a:off x="0" y="1523880"/>
            <a:ext cx="9144000" cy="45720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eventos activatorios remueven, casi al mismo tiempo, sentimientos, conducta expresiva y reacciones fisiológic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respuestas fisiológicas son bastante similares, es decir, no corresponden a emociones particular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tinciones que las personas establecen entre la tristeza, miedo, furia, goce y otros sentimientos son aprend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activación inespecífica</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0720"/>
            <a:ext cx="9144000" cy="4876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eoría Cognoscitiva</a:t>
            </a:r>
            <a:r>
              <a:rPr b="0" lang="es-ES_tradnl" sz="3200" spc="-1" strike="noStrike">
                <a:solidFill>
                  <a:srgbClr val="000000"/>
                </a:solidFill>
                <a:latin typeface="Times New Roman"/>
              </a:rPr>
              <a:t> ....”Una experiencia libera una reacción en cadena. La vivencia conduce tanto a </a:t>
            </a:r>
            <a:r>
              <a:rPr b="0" i="1" lang="es-ES_tradnl" sz="3200" spc="-1" strike="noStrike">
                <a:solidFill>
                  <a:srgbClr val="000000"/>
                </a:solidFill>
                <a:latin typeface="Times New Roman"/>
              </a:rPr>
              <a:t>respuestas fisiológicas</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activación inespecífica)</a:t>
            </a:r>
            <a:r>
              <a:rPr b="0" lang="es-ES_tradnl" sz="3200" spc="-1" strike="noStrike">
                <a:solidFill>
                  <a:srgbClr val="000000"/>
                </a:solidFill>
                <a:latin typeface="Times New Roman"/>
              </a:rPr>
              <a:t>y a </a:t>
            </a:r>
            <a:r>
              <a:rPr b="0" i="1" lang="es-ES_tradnl" sz="3200" spc="-1" strike="noStrike">
                <a:solidFill>
                  <a:srgbClr val="000000"/>
                </a:solidFill>
                <a:latin typeface="Times New Roman"/>
              </a:rPr>
              <a:t>cogniciones (evaluación de la situación). </a:t>
            </a:r>
            <a:r>
              <a:rPr b="0" lang="es-ES_tradnl" sz="3200" spc="-1" strike="noStrike">
                <a:solidFill>
                  <a:srgbClr val="000000"/>
                </a:solidFill>
                <a:latin typeface="Times New Roman"/>
              </a:rPr>
              <a:t>Para que se</a:t>
            </a:r>
            <a:r>
              <a:rPr b="1" i="1" lang="es-ES_tradnl" sz="3200" spc="-1" strike="noStrike">
                <a:solidFill>
                  <a:srgbClr val="000000"/>
                </a:solidFill>
                <a:latin typeface="Times New Roman"/>
              </a:rPr>
              <a:t> </a:t>
            </a:r>
            <a:r>
              <a:rPr b="0" lang="es-ES_tradnl" sz="3200" spc="-1" strike="noStrike">
                <a:solidFill>
                  <a:srgbClr val="000000"/>
                </a:solidFill>
                <a:latin typeface="Times New Roman"/>
              </a:rPr>
              <a:t>experimente una emoción, un individuo debe atribuir la activación física a la circunstancia. La emoción precisa que se sienta depende de la manera en que la persona ha aprendido a clasificar la sit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frentándose a la Ansiedad</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33520" y="685440"/>
            <a:ext cx="8229600" cy="6172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 Estrategias Conductuales de enfrentamient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Solución intencional de problemas.</a:t>
            </a:r>
            <a:endParaRPr b="0" lang="en-US" sz="3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valuar la situación a nivel racional y elaborar una solución. Se hacen planes, fortalecen los recursos y protegen las debilidades.</a:t>
            </a:r>
            <a:endParaRPr b="0" lang="en-US" sz="24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Búsqueda de apoyo y catarsi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Ag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eg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Retrac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Evitación físic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frentándose a la Ansiedad</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228600" y="1143000"/>
            <a:ext cx="8686800" cy="54864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 Mecanismos de Defens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Rep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Neg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Fantasí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acionaliz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Intelectualiz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Formación reactiv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Proye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presión:</a:t>
            </a:r>
            <a:r>
              <a:rPr b="0" lang="es-ES_tradnl" sz="3200" spc="-1" strike="noStrike">
                <a:solidFill>
                  <a:srgbClr val="000000"/>
                </a:solidFill>
                <a:latin typeface="Times New Roman"/>
              </a:rPr>
              <a:t> Exclusión de motivos, ideas, conflictos, recuerdos, y cosas parecidas de la conciencia. Si bien el material no entra a la conciencia, puede determinar la conduct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egación: </a:t>
            </a:r>
            <a:r>
              <a:rPr b="0" lang="es-ES_tradnl" sz="3200" spc="-1" strike="noStrike">
                <a:solidFill>
                  <a:srgbClr val="000000"/>
                </a:solidFill>
                <a:latin typeface="Times New Roman"/>
              </a:rPr>
              <a:t>Estrategia cognoscitiva por medio de la cual la gente ignora o se niega a reconocer la existencia de una experiencia aversiva para aliviar la angusti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antasía:</a:t>
            </a:r>
            <a:r>
              <a:rPr b="0" lang="es-ES_tradnl" sz="3200" spc="-1" strike="noStrike">
                <a:solidFill>
                  <a:srgbClr val="000000"/>
                </a:solidFill>
                <a:latin typeface="Times New Roman"/>
              </a:rPr>
              <a:t> Estrategia cognoscitiva para satisfacer necesidades o metas en la imaginación, mientras se escapa de realidades desagradables y que generan ansieda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acionalización:</a:t>
            </a:r>
            <a:r>
              <a:rPr b="0" lang="es-ES_tradnl" sz="3200" spc="-1" strike="noStrike">
                <a:solidFill>
                  <a:srgbClr val="000000"/>
                </a:solidFill>
                <a:latin typeface="Times New Roman"/>
              </a:rPr>
              <a:t> Estrategia cognoscitiva que implica inventar razones plausibles y aceptables para ocultar las explicaciones reales de uno mismo</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lectualización:</a:t>
            </a:r>
            <a:r>
              <a:rPr b="0" lang="es-ES_tradnl" sz="3200" spc="-1" strike="noStrike">
                <a:solidFill>
                  <a:srgbClr val="000000"/>
                </a:solidFill>
                <a:latin typeface="Times New Roman"/>
              </a:rPr>
              <a:t>Estrategia cognoscitiva</a:t>
            </a:r>
            <a:r>
              <a:rPr b="1" lang="es-ES_tradnl" sz="3200" spc="-1" strike="noStrike">
                <a:solidFill>
                  <a:srgbClr val="000000"/>
                </a:solidFill>
                <a:latin typeface="Times New Roman"/>
              </a:rPr>
              <a:t> </a:t>
            </a:r>
            <a:r>
              <a:rPr b="0" lang="es-ES_tradnl" sz="3200" spc="-1" strike="noStrike">
                <a:solidFill>
                  <a:srgbClr val="000000"/>
                </a:solidFill>
                <a:latin typeface="Times New Roman"/>
              </a:rPr>
              <a:t>que maneja situaciones, que por lo común generan fuertes sentimientos de una manera distante y analític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ormación reactiva:</a:t>
            </a:r>
            <a:r>
              <a:rPr b="0" lang="es-ES_tradnl" sz="3200" spc="-1" strike="noStrike">
                <a:solidFill>
                  <a:srgbClr val="000000"/>
                </a:solidFill>
                <a:latin typeface="Times New Roman"/>
              </a:rPr>
              <a:t>Estrategia cognoscitiva que ocurre cuando las personas ocultan un motivo o emoción real de ellas mismas y expresan el opuesto por medio de actitudes y conducta, con el supuesto de evitar la ansieda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ción:</a:t>
            </a:r>
            <a:r>
              <a:rPr b="0" lang="es-ES_tradnl" sz="3200" spc="-1" strike="noStrike">
                <a:solidFill>
                  <a:srgbClr val="000000"/>
                </a:solidFill>
                <a:latin typeface="Times New Roman"/>
              </a:rPr>
              <a:t>Estrategia cognoscitiva</a:t>
            </a:r>
            <a:r>
              <a:rPr b="1" lang="es-ES_tradnl" sz="3200" spc="-1" strike="noStrike">
                <a:solidFill>
                  <a:srgbClr val="000000"/>
                </a:solidFill>
                <a:latin typeface="Times New Roman"/>
              </a:rPr>
              <a:t> </a:t>
            </a:r>
            <a:r>
              <a:rPr b="0" lang="es-ES_tradnl" sz="3200" spc="-1" strike="noStrike">
                <a:solidFill>
                  <a:srgbClr val="000000"/>
                </a:solidFill>
                <a:latin typeface="Times New Roman"/>
              </a:rPr>
              <a:t>que se manifiesta cuando los individuos asignan características personales indeseables, dificultades, impulsos, sin reconocerlas como propias; se supone que la proyección reduce la ansiedad que se produciría al aceptar que las cualidades desagradables son propia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imes New Roman"/>
              </a:rPr>
              <a:t>Especialidades en Psicologí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ecialidades en Psicología</a:t>
            </a:r>
            <a:endParaRPr b="0" lang="en-US" sz="4400" spc="-1" strike="noStrike">
              <a:solidFill>
                <a:srgbClr val="000000"/>
              </a:solidFill>
              <a:latin typeface="Times New Roman"/>
            </a:endParaRPr>
          </a:p>
        </p:txBody>
      </p:sp>
      <p:graphicFrame>
        <p:nvGraphicFramePr>
          <p:cNvPr id="77" name=""/>
          <p:cNvGraphicFramePr/>
          <p:nvPr/>
        </p:nvGraphicFramePr>
        <p:xfrm>
          <a:off x="528480" y="1287360"/>
          <a:ext cx="8202600" cy="5997600"/>
        </p:xfrm>
        <a:graphic>
          <a:graphicData uri="http://schemas.openxmlformats.org/presentationml/2006/ole">
            <p:oleObj progId="Word.Document.12" r:id="rId2" spid="">
              <p:embed/>
              <p:pic>
                <p:nvPicPr>
                  <p:cNvPr id="78" name="" descr=""/>
                  <p:cNvPicPr/>
                  <p:nvPr/>
                </p:nvPicPr>
                <p:blipFill>
                  <a:blip r:embed="rId3"/>
                  <a:stretch/>
                </p:blipFill>
                <p:spPr>
                  <a:xfrm>
                    <a:off x="528480" y="1287360"/>
                    <a:ext cx="8202600" cy="59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430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moción</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609480" y="2514600"/>
            <a:ext cx="7772400" cy="31240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no caracterizado por cogniciones y sensaciones específicas, reacciones fisiológicas y conducta expresiva que aparecen de manera repentina y que son difíciles de contro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mociones básicas</a:t>
            </a:r>
            <a:br>
              <a:rPr sz="4400"/>
            </a:br>
            <a:r>
              <a:rPr b="0" lang="es-ES_tradnl" sz="2400" spc="-1" strike="noStrike">
                <a:solidFill>
                  <a:srgbClr val="000000"/>
                </a:solidFill>
                <a:latin typeface="Times New Roman"/>
              </a:rPr>
              <a:t>Ekman, 1982, e Izard</a:t>
            </a:r>
            <a:endParaRPr b="0" lang="en-US" sz="2400" spc="-1" strike="noStrike">
              <a:solidFill>
                <a:srgbClr val="000000"/>
              </a:solidFill>
              <a:latin typeface="Times New Roman"/>
            </a:endParaRPr>
          </a:p>
        </p:txBody>
      </p:sp>
      <p:sp>
        <p:nvSpPr>
          <p:cNvPr id="46"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egrí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o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ie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r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iste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onentes</a:t>
            </a:r>
            <a:br>
              <a:rPr sz="4400"/>
            </a:br>
            <a:r>
              <a:rPr b="0" lang="es-ES_tradnl" sz="2400" spc="-1" strike="noStrike">
                <a:solidFill>
                  <a:srgbClr val="000000"/>
                </a:solidFill>
                <a:latin typeface="Times New Roman"/>
              </a:rPr>
              <a:t>Las emociones están constituidas por componentes</a:t>
            </a:r>
            <a:endParaRPr b="0" lang="en-US" sz="2400" spc="-1" strike="noStrike">
              <a:solidFill>
                <a:srgbClr val="000000"/>
              </a:solidFill>
              <a:latin typeface="Times New Roman"/>
            </a:endParaRPr>
          </a:p>
        </p:txBody>
      </p:sp>
      <p:sp>
        <p:nvSpPr>
          <p:cNvPr id="48" name="PlaceHolder 2"/>
          <p:cNvSpPr>
            <a:spLocks noGrp="1"/>
          </p:cNvSpPr>
          <p:nvPr>
            <p:ph/>
          </p:nvPr>
        </p:nvSpPr>
        <p:spPr>
          <a:xfrm>
            <a:off x="304920" y="1600200"/>
            <a:ext cx="8534160" cy="4952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Subjetivos</a:t>
            </a:r>
            <a:r>
              <a:rPr b="0" lang="es-ES_tradnl" sz="3200" spc="-1" strike="noStrike">
                <a:solidFill>
                  <a:srgbClr val="000000"/>
                </a:solidFill>
                <a:latin typeface="Times New Roman"/>
              </a:rPr>
              <a:t>, se refiere a los aspectos más vívidos de las emociones que son los sentimientos y los pensamien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Conductuales</a:t>
            </a:r>
            <a:r>
              <a:rPr b="0" lang="es-ES_tradnl" sz="3200" spc="-1" strike="noStrike">
                <a:solidFill>
                  <a:srgbClr val="000000"/>
                </a:solidFill>
                <a:latin typeface="Times New Roman"/>
              </a:rPr>
              <a:t>, se refiere a que la conducta en las respuestas emocionales incluye expresiones faciales, gestos y ac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Fisiológicos</a:t>
            </a:r>
            <a:r>
              <a:rPr b="0" lang="es-ES_tradnl" sz="3200" spc="-1" strike="noStrike">
                <a:solidFill>
                  <a:srgbClr val="000000"/>
                </a:solidFill>
                <a:latin typeface="Times New Roman"/>
              </a:rPr>
              <a:t>, se refiere a que se experimentan reacciones físicas, como temblar, sonrojarse, palidecer, sudar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Herramienta de Manejo Emo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762120" y="213372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p-out o “paso de salida”: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un estado emocional neutro, en que la persona esta atenta al exterior, pero fundamentalmente centrada en si misma, con un ritmo respiratorio regular y tranquilo. Permite salir de estados emocionales inten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sos para un “Step-out”</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143000"/>
            <a:ext cx="8534160" cy="51055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trucci</a:t>
            </a:r>
            <a:r>
              <a:rPr b="0" lang="es-ES_tradnl" sz="2400" spc="-1" strike="noStrike">
                <a:solidFill>
                  <a:srgbClr val="000000"/>
                </a:solidFill>
                <a:latin typeface="Times New Roman"/>
              </a:rPr>
              <a:t>ó</a:t>
            </a:r>
            <a:r>
              <a:rPr b="0" lang="es-ES" sz="2400" spc="-1" strike="noStrike">
                <a:solidFill>
                  <a:srgbClr val="000000"/>
                </a:solidFill>
                <a:latin typeface="Times New Roman"/>
              </a:rPr>
              <a:t>n: De pie, con la columna erguida, los pies paralelos, alineados con los bordes externos de la cadera; la mirada fija al frente en un punto lejano en el horizonte, con los ojos abiertos y los músculos de la cara relajados. En esta postura se respira por la nariz en forma tranquila, suave y relajada, sin forzar, manteniendo un ritmo en que la inspiración tiene la misma duración que la espiración. El ritmo en la inspiración tiene la misma duración que la espiración El ritmo respiratorio, se sincroniza luego con un movimiento continuo de los brazos: al inhalar éstos se llevan estirados, desde abajo, con las manos entrelazadas por delante del cuerpo, trazando una suerte de “arco generoso”, y luego doblando los codos hasta llegar a tocar la nu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sos para un “Step-out”</a:t>
            </a:r>
            <a:endParaRPr b="0" lang="en-US" sz="4400" spc="-1" strike="noStrike">
              <a:solidFill>
                <a:srgbClr val="000000"/>
              </a:solidFill>
              <a:latin typeface="Times New Roman"/>
            </a:endParaRPr>
          </a:p>
        </p:txBody>
      </p:sp>
      <p:sp>
        <p:nvSpPr>
          <p:cNvPr id="54"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rante todo este lapso se va inhalando por la nariz. Luego se exhala el aire suavemente por entre los labios, mientras los brazos vuelven a la posición inicial siguiendo el trayecto inverso, siempre conservando las manos entrelazadas. Se repite al menos tres veces, conscientemente la misma secuencia. Luego se toca la cara con las dos manos, con movimientos como de masaje suave con ligeros golpes con la yema de los dedos desde la línea central hacia fuera. Finalmente se cambia la postura, sacudiendo el cuerpo, las piernas y la cab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ómo surgen las Emociones</a:t>
            </a:r>
            <a:endParaRPr b="0" lang="en-US" sz="4400" spc="-1" strike="noStrike">
              <a:solidFill>
                <a:srgbClr val="000000"/>
              </a:solidFill>
              <a:latin typeface="Times New Roman"/>
            </a:endParaRPr>
          </a:p>
        </p:txBody>
      </p:sp>
      <p:sp>
        <p:nvSpPr>
          <p:cNvPr id="56"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oría de la respuesta periférica (James y L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oría de la activación inespecífica (Cannon y B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respuesta periférica</a:t>
            </a:r>
            <a:endParaRPr b="0" lang="en-US" sz="4400" spc="-1" strike="noStrike">
              <a:solidFill>
                <a:srgbClr val="000000"/>
              </a:solidFill>
              <a:latin typeface="Times New Roman"/>
            </a:endParaRPr>
          </a:p>
        </p:txBody>
      </p:sp>
      <p:sp>
        <p:nvSpPr>
          <p:cNvPr id="58" name="PlaceHolder 2"/>
          <p:cNvSpPr>
            <a:spLocks noGrp="1"/>
          </p:cNvSpPr>
          <p:nvPr>
            <p:ph/>
          </p:nvPr>
        </p:nvSpPr>
        <p:spPr>
          <a:xfrm>
            <a:off x="838080" y="190512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sucesos que generan emociones evocan respuestas periféricas ( controladas por el sistema nervioso periférico, responsable de los reflejos y reacciones fisiológic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respuestas de cada emoción son distintivas, de modo que se reconoce cada patrón como característico de una emoción difer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 Ampuero</cp:lastModifiedBy>
  <dcterms:modified xsi:type="dcterms:W3CDTF">2004-12-27T17:42:17Z</dcterms:modified>
  <cp:revision>18</cp:revision>
  <dc:subject/>
  <dc:title>EMOCION</dc:title>
</cp:coreProperties>
</file>