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022975" cy="81835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25D6D-3B2D-4A61-A590-47FC12354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10546-4D15-4CCF-B146-01410313B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4DF1B-4CD1-4720-9C10-C0C3F80C5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13B51-7A56-4341-9DEC-9D287975C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4B6CC-4961-4CAB-B6ED-FAC91D2E1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8E306-E108-4D0D-8628-56E88F9A4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BD5EB-7FC7-4061-82CD-7D7E44DAF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EDE69-CD3B-47C0-B3BB-8A4589807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41275-7371-43BA-8A19-2BD3456D1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A2D26-561A-4AFC-A38A-BF1A4A4B4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C7F9F-A97B-412E-8648-5B867B8AD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2CD2B-5003-4137-9FD5-C6BC89C6A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"/>
          <p:cNvSpPr/>
          <p:nvPr/>
        </p:nvSpPr>
        <p:spPr>
          <a:xfrm>
            <a:off x="5715000" y="6400800"/>
            <a:ext cx="3200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Arial"/>
              </a:rPr>
              <a:t>Escuela de verano_ 2005 Introducción a la psicologí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5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6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7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5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6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7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27634-765E-4B57-997B-DD15A4A6289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9640" y="11556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9933"/>
                </a:solidFill>
                <a:latin typeface="Arial"/>
              </a:rPr>
              <a:t>Psicología: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tudio</a:t>
            </a: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ientífico del</a:t>
            </a: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mportamiento y de los procesos mentales</a:t>
            </a:r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3500280"/>
            <a:ext cx="7772400" cy="2595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sicología como cienci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Métodos de investigació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Método científic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Fuentes del conocimient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Teorí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495680" y="1676520"/>
            <a:ext cx="2087640" cy="580680"/>
          </a:xfrm>
          <a:prstGeom prst="rect">
            <a:avLst/>
          </a:prstGeom>
          <a:noFill/>
          <a:ln cap="sq"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Acciones y conduct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19720" y="2438280"/>
            <a:ext cx="3887640" cy="946440"/>
          </a:xfrm>
          <a:prstGeom prst="rect">
            <a:avLst/>
          </a:prstGeom>
          <a:noFill/>
          <a:ln cap="sq"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Arial"/>
              </a:rPr>
              <a:t>Pensamiento, sentimientos, percepción, procesos de razonamiento, recuerdos, actividad biológica que mantienen el funcionamiento corpora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84360" y="2349360"/>
            <a:ext cx="2592360" cy="825480"/>
          </a:xfrm>
          <a:prstGeom prst="rect">
            <a:avLst/>
          </a:prstGeom>
          <a:noFill/>
          <a:ln cap="sq"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omportamiento Human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3429000" y="2209680"/>
            <a:ext cx="792000" cy="432000"/>
          </a:xfrm>
          <a:prstGeom prst="line">
            <a:avLst/>
          </a:prstGeom>
          <a:ln cap="sq" w="28440">
            <a:solidFill>
              <a:srgbClr val="ff993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429000" y="2666880"/>
            <a:ext cx="719280" cy="432000"/>
          </a:xfrm>
          <a:prstGeom prst="line">
            <a:avLst/>
          </a:prstGeom>
          <a:ln cap="sq" w="28440">
            <a:solidFill>
              <a:srgbClr val="ff993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458200" cy="2057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gnición:</a:t>
            </a:r>
            <a:br>
              <a:rPr sz="4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ceso mental superior por medio del cual comprendemos el mundo, procesamos información, elaboramos juicios, tomamos decisiones y comunicamos nuestros conocimientos </a:t>
            </a:r>
            <a:br>
              <a:rPr sz="2000"/>
            </a:br>
            <a:br>
              <a:rPr sz="2000"/>
            </a:br>
            <a:r>
              <a:rPr b="0" lang="en-US" sz="4400" spc="-1" strike="noStrike">
                <a:solidFill>
                  <a:srgbClr val="cbcbcb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73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nsamiento y razonamient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ágenes menta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cept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zonamiento:   - inductiv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deductiv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lución de problem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paración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ducción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uici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ivida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348000" y="328464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348000" y="364500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581280" y="4038480"/>
            <a:ext cx="1524240" cy="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6095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33"/>
                </a:solidFill>
                <a:latin typeface="Arial"/>
              </a:rPr>
              <a:t>Conciencia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ocimiento que los humanos tienen de su propi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istencia, de sus estados, de sus actos, y del mundo que los rodea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iveles de Concienc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gilancia excesiv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gilancia atent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gilancia relajad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soña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eño liger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eño profund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ado de com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astornos de la concienc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po Cuantitativ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po Cualitativ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tivación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ctores que dirigen y energizan el comportamiento</a:t>
            </a:r>
            <a:endParaRPr b="0" lang="en-US" sz="2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7772400" cy="5029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foq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19000" indent="-285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int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19000" indent="-285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ción de pulsion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19000" indent="-285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entiv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19000" indent="-2854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cesidade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ro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afiliació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poder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ción biológic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19000" indent="-285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aves intern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19000" indent="-285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ímul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19000" indent="-285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ódigos social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267080" y="3048120"/>
            <a:ext cx="762120" cy="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4191120" y="3335400"/>
            <a:ext cx="838080" cy="17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4191120" y="3623760"/>
            <a:ext cx="838080" cy="334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228240" y="75960"/>
            <a:ext cx="8534520" cy="6095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33"/>
                </a:solidFill>
                <a:latin typeface="Arial"/>
              </a:rPr>
              <a:t>Emociones:</a:t>
            </a:r>
            <a:br>
              <a:rPr sz="4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timientos (como la felicidad, la desesperación y la  tristeza)  que suelen tener tanto elementos fisiológicos como cognitivos y que influyen sobre el comportamient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ntimient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onente fisiológic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onente cognitiv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iones de las emociones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posición para la ac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ldeamient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ció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oría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-676800" y="188640"/>
            <a:ext cx="9286920" cy="725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9933"/>
                </a:solidFill>
                <a:latin typeface="Arial"/>
              </a:rPr>
              <a:t>Psicopatología:</a:t>
            </a:r>
            <a:r>
              <a:rPr b="0" lang="es-ES_tradnl" sz="4000" spc="-1" strike="noStrike">
                <a:solidFill>
                  <a:srgbClr val="cbcbcb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studio de los trastornos mentales</a:t>
            </a:r>
            <a:r>
              <a:rPr b="0" lang="es-ES_tradnl" sz="4000" spc="-1" strike="noStrike">
                <a:solidFill>
                  <a:srgbClr val="cbcbcb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-360" y="1125000"/>
            <a:ext cx="8915400" cy="4970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erenciación normalidad y anormalidad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el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sificación, categorías diagnóstic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ncipales trastorno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stornos  de ansiedad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blemas en los que la ansiedad imposibilita el desempeño cotidian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stornos  del estado de ánimo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ntimientos de euforia o depresión que son lo bastante fuertes como para afectar la vida cotidia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quizofrenia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blemas de desempeño, perturbaciones del lenguaje y el pensamiento, trastornos de percepción, trastornos emocionales y aislamiento de los demás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-360" y="0"/>
            <a:ext cx="8839080" cy="6238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9933"/>
                </a:solidFill>
                <a:latin typeface="Arial"/>
              </a:rPr>
              <a:t>Principales trastornos psicológico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rastornos  somatoformes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omplicaciones psicológicas que se manifiestan a través de problemas físico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rastornos  disociativos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división de partes importantes de la personalidad que suelen estar integrada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rastornos  de la personalidad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roblemas que generan poco malestar personal pero que conducen a una dificultad para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desempeñarse como miembros normales de la socieda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rastornos  sexuales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roblemas relacionados con la excitación a partir de objetos extraños, o problem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vinculados con el desempeño sexual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rastornos  relacionados con el uso de sustancias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roblemas relacionados con el uso y abuso de sustancia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838080" y="1523880"/>
          <a:ext cx="7631280" cy="4891320"/>
        </p:xfrm>
        <a:graphic>
          <a:graphicData uri="http://schemas.openxmlformats.org/drawingml/2006/table">
            <a:tbl>
              <a:tblPr/>
              <a:tblGrid>
                <a:gridCol w="2543400"/>
                <a:gridCol w="2544480"/>
                <a:gridCol w="2543400"/>
              </a:tblGrid>
              <a:tr h="45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pecialida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ugar de Trabaj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ida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6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ganizac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mpresas e Institucion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eso de selección y capacitació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esorías gerencial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6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ínic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tituciones de Salud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ultas Psicológicas y psiquiátrica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sicodiagnóstico y evaluació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sicoterapia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rivacion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40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ci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tituciones de desarrollo Social y comunitario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.N.G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ntros de Rehabilitació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nes y Proyectos de Desarrollo Comunitario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tección de necesidades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yectos de Gestión comunitari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0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ducac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tituciones educacional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puestas y mejoras en planes educacionales y curricular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esoría vocacional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agnóstico, evaluación y derivación de alumno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6" name=""/>
          <p:cNvSpPr/>
          <p:nvPr/>
        </p:nvSpPr>
        <p:spPr>
          <a:xfrm>
            <a:off x="457200" y="304920"/>
            <a:ext cx="698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9933"/>
                </a:solidFill>
                <a:latin typeface="Arial"/>
              </a:rPr>
              <a:t>Especialidades en Psicología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9933"/>
                </a:solidFill>
                <a:latin typeface="Arial"/>
              </a:rPr>
              <a:t>Psicología y Étic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 ética en las diversas áreas de la psicología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sicología Labor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sicología Social-Comunitar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sicología Educacio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sicología Clínic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álisis de cas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0" y="260280"/>
            <a:ext cx="9144000" cy="640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9933"/>
                </a:solidFill>
                <a:latin typeface="Arial"/>
              </a:rPr>
              <a:t>Psicología clínica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Rama de la psicología que se especializa en la evaluación y tratamiento de los problemas psicológic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Modelos teóricos clínic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nfoque Psicodinámico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tratamiento que se basa en la idea sugerida por Freud de que las fuentes básicas del comportamiento anormal son los conflictos sin resolver del pasado y la ansieda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Terapia Racional emotiva: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psicoterapia que esta basada en la perspectiva de Ellis de que el objetivo de la terapia debe ser reestructurar el sistema de creencias de la persona para hacerla mas realista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Terapia Cognitiva: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psicoterapia basada en el objetivo de Beck de cambiar los pensamiento ilógicos de las personas acerca de si mismas y del mundo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Terapia Humanista :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tratamiento que se sustenta en el supuesto de que las personas tienen el control de su comportamiento, pueden tomar decisiones acerca de su vida y son responsables en esencia de la solución de sus problemas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erapia Centrada en el cliente: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tratamiento con el cual el terapeuta refleja con sus declaraciones las del propio cliente en una forma que causa que este ultimo encuentre sus propias soluciones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erapia Existencial: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Enfoque humanista que aborda el sentido de la vida y la libertad humana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erapia Gestáltica: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propuesta terapéutica que trata de integrar en una totalidad los pensamientos, sentimientos y comportamiento de un cliente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6095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9933"/>
                </a:solidFill>
                <a:latin typeface="Arial"/>
              </a:rPr>
              <a:t>	</a:t>
            </a:r>
            <a:r>
              <a:rPr b="0" lang="es-ES_tradnl" sz="4000" spc="-1" strike="noStrike">
                <a:solidFill>
                  <a:srgbClr val="ff9933"/>
                </a:solidFill>
                <a:latin typeface="Arial"/>
              </a:rPr>
              <a:t>	</a:t>
            </a:r>
            <a:r>
              <a:rPr b="0" lang="es-ES_tradnl" sz="4000" spc="-1" strike="noStrike">
                <a:solidFill>
                  <a:srgbClr val="ff9933"/>
                </a:solidFill>
                <a:latin typeface="Arial"/>
              </a:rPr>
              <a:t>	</a:t>
            </a:r>
            <a:r>
              <a:rPr b="0" lang="es-ES_tradnl" sz="4000" spc="-1" strike="noStrike">
                <a:solidFill>
                  <a:srgbClr val="ff9933"/>
                </a:solidFill>
                <a:latin typeface="Arial"/>
              </a:rPr>
              <a:t>	</a:t>
            </a:r>
            <a:r>
              <a:rPr b="0" lang="es-ES_tradnl" sz="4000" spc="-1" strike="noStrike">
                <a:solidFill>
                  <a:srgbClr val="ff9933"/>
                </a:solidFill>
                <a:latin typeface="Arial"/>
              </a:rPr>
              <a:t>Psicología clínica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Diagnóstico y evaluació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ipos de Terap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Individu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Grup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arej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Familia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rocesos terapéutic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erapeuta, paciente y relación terapéutic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9933"/>
                </a:solidFill>
                <a:latin typeface="Arial"/>
              </a:rPr>
              <a:t>Psicología y Sujet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eorías Psicodinámicas y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ujet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Teoría humanista y sujet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eoría Conductual y sujet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eoría Cognitiva y sujet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volución del concepto sujeto, realidad y conocimient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9933"/>
                </a:solidFill>
                <a:latin typeface="Arial"/>
              </a:rPr>
              <a:t>Sujeto y Sociedad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11280" y="1916280"/>
            <a:ext cx="4572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l ser humano y sus “rarezas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La noción de cultur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La construcción social de la subjetivid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9933"/>
                </a:solidFill>
                <a:latin typeface="Arial"/>
              </a:rPr>
              <a:t>Sujeto y Víncul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11280" y="2276640"/>
            <a:ext cx="1800000" cy="368280"/>
          </a:xfrm>
          <a:prstGeom prst="rect">
            <a:avLst/>
          </a:prstGeom>
          <a:noFill/>
          <a:ln cap="sq"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APEG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700360" y="2276640"/>
            <a:ext cx="1800360" cy="368280"/>
          </a:xfrm>
          <a:prstGeom prst="rect">
            <a:avLst/>
          </a:prstGeom>
          <a:noFill/>
          <a:ln cap="sq"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ALEJAMIENT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59280" y="2276640"/>
            <a:ext cx="1800360" cy="398880"/>
          </a:xfrm>
          <a:prstGeom prst="rect">
            <a:avLst/>
          </a:prstGeom>
          <a:noFill/>
          <a:ln cap="sq"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DECEP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948360" y="2276640"/>
            <a:ext cx="1800360" cy="368280"/>
          </a:xfrm>
          <a:prstGeom prst="rect">
            <a:avLst/>
          </a:prstGeom>
          <a:noFill/>
          <a:ln cap="sq"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INTEGRACIÓ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116000" y="285264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00999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276720" y="278136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00999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508720" y="285264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00999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667640" y="285264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00999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55640" y="4149720"/>
            <a:ext cx="1368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55640" y="4149720"/>
            <a:ext cx="1440000" cy="580680"/>
          </a:xfrm>
          <a:prstGeom prst="rect">
            <a:avLst/>
          </a:prstGeom>
          <a:noFill/>
          <a:ln cap="sq"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ESTILO DEPRESIV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843280" y="4149720"/>
            <a:ext cx="1439640" cy="580680"/>
          </a:xfrm>
          <a:prstGeom prst="rect">
            <a:avLst/>
          </a:prstGeom>
          <a:noFill/>
          <a:ln cap="sq"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ESTILO FÓBIC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076720" y="4149720"/>
            <a:ext cx="1440000" cy="580680"/>
          </a:xfrm>
          <a:prstGeom prst="rect">
            <a:avLst/>
          </a:prstGeom>
          <a:noFill/>
          <a:ln cap="sq"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ESTILO DÁPICO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164360" y="4149720"/>
            <a:ext cx="1440000" cy="580680"/>
          </a:xfrm>
          <a:prstGeom prst="rect">
            <a:avLst/>
          </a:prstGeom>
          <a:noFill/>
          <a:ln cap="sq"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ESTILO OBSESIV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332000" y="4797360"/>
            <a:ext cx="0" cy="2872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332000" y="5084640"/>
            <a:ext cx="662472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796000" y="4797360"/>
            <a:ext cx="0" cy="2872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564000" y="4797360"/>
            <a:ext cx="0" cy="2872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956720" y="4797360"/>
            <a:ext cx="0" cy="2872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572000" y="5084640"/>
            <a:ext cx="0" cy="2890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276720" y="5410080"/>
            <a:ext cx="2950920" cy="459720"/>
          </a:xfrm>
          <a:prstGeom prst="rect">
            <a:avLst/>
          </a:prstGeom>
          <a:noFill/>
          <a:ln cap="sq"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SÍ  MISM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9933"/>
                </a:solidFill>
                <a:latin typeface="Arial"/>
              </a:rPr>
              <a:t>Sí Mismo y Personalidad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826920" y="2637000"/>
            <a:ext cx="1873440" cy="459720"/>
          </a:xfrm>
          <a:prstGeom prst="rect">
            <a:avLst/>
          </a:prstGeom>
          <a:noFill/>
          <a:ln cap="sq"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í Mism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132000" y="3141720"/>
            <a:ext cx="936720" cy="459720"/>
          </a:xfrm>
          <a:prstGeom prst="rect">
            <a:avLst/>
          </a:prstGeom>
          <a:noFill/>
          <a:ln cap="sq"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M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132000" y="1844640"/>
            <a:ext cx="1008360" cy="459720"/>
          </a:xfrm>
          <a:prstGeom prst="rect">
            <a:avLst/>
          </a:prstGeom>
          <a:noFill/>
          <a:ln cap="sq"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Y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643280" y="1844640"/>
            <a:ext cx="1873440" cy="459720"/>
          </a:xfrm>
          <a:prstGeom prst="rect">
            <a:avLst/>
          </a:prstGeom>
          <a:noFill/>
          <a:ln cap="sq"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xperienc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788000" y="3141720"/>
            <a:ext cx="1873080" cy="459720"/>
          </a:xfrm>
          <a:prstGeom prst="rect">
            <a:avLst/>
          </a:prstGeom>
          <a:noFill/>
          <a:ln cap="sq"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xplic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2843280" y="2349000"/>
            <a:ext cx="216000" cy="57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843280" y="2997360"/>
            <a:ext cx="144360" cy="43164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55640" y="4365720"/>
            <a:ext cx="7704000" cy="1572120"/>
          </a:xfrm>
          <a:prstGeom prst="rect">
            <a:avLst/>
          </a:prstGeom>
          <a:noFill/>
          <a:ln cap="sq"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onstantes experiencia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356000" y="2060640"/>
            <a:ext cx="216000" cy="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211640" y="3357720"/>
            <a:ext cx="360360" cy="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9933"/>
                </a:solidFill>
                <a:latin typeface="Times New Roman"/>
              </a:rPr>
              <a:t>Atención, Sensación y Percepción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19120" y="1649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419640" y="2349360"/>
            <a:ext cx="2016000" cy="459720"/>
          </a:xfrm>
          <a:prstGeom prst="rect">
            <a:avLst/>
          </a:prstGeom>
          <a:noFill/>
          <a:ln cap="sq"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ENS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227640" y="2349360"/>
            <a:ext cx="2382840" cy="459720"/>
          </a:xfrm>
          <a:prstGeom prst="rect">
            <a:avLst/>
          </a:prstGeom>
          <a:noFill/>
          <a:ln cap="sq"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ERCEP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11280" y="2349360"/>
            <a:ext cx="1873080" cy="459720"/>
          </a:xfrm>
          <a:prstGeom prst="rect">
            <a:avLst/>
          </a:prstGeom>
          <a:noFill/>
          <a:ln cap="sq"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TEN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771640" y="2349360"/>
            <a:ext cx="360360" cy="4860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999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651640" y="2349360"/>
            <a:ext cx="360360" cy="4860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999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55640" y="3213000"/>
            <a:ext cx="2087640" cy="2378160"/>
          </a:xfrm>
          <a:prstGeom prst="rect">
            <a:avLst/>
          </a:prstGeom>
          <a:noFill/>
          <a:ln cap="sq"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s-ES" sz="1000" spc="-1" strike="noStrike">
                <a:solidFill>
                  <a:srgbClr val="ffffff"/>
                </a:solidFill>
                <a:latin typeface="Arial"/>
              </a:rPr>
              <a:t>ES  LA   ORIENTACIÓN   DE NUESTRA   VIDA    PSIQUICA (CONCIENCIA)   HACIA   ALGO QUE   SE   EXPERIMENTA   EN ESE   MOMENTO”              (Arellano, 2002)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Arial"/>
              </a:rPr>
              <a:t>Lo que se experimenta son estímulos, y éstos  pueden ser: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s-ES" sz="1000" spc="-1" strike="noStrike">
                <a:solidFill>
                  <a:srgbClr val="ffffff"/>
                </a:solidFill>
                <a:latin typeface="Arial"/>
              </a:rPr>
              <a:t>Estímulos interno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s-ES" sz="1000" spc="-1" strike="noStrike">
                <a:solidFill>
                  <a:srgbClr val="ffffff"/>
                </a:solidFill>
                <a:latin typeface="Arial"/>
              </a:rPr>
              <a:t>Estímulos externo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419640" y="3357720"/>
            <a:ext cx="2232000" cy="824040"/>
          </a:xfrm>
          <a:prstGeom prst="rect">
            <a:avLst/>
          </a:prstGeom>
          <a:noFill/>
          <a:ln cap="sq"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ESTIMULACIÓN DE LOS ORGANOS SENSORI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156360" y="3429000"/>
            <a:ext cx="2160720" cy="1310760"/>
          </a:xfrm>
          <a:prstGeom prst="rect">
            <a:avLst/>
          </a:prstGeom>
          <a:noFill/>
          <a:ln cap="sq"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Proceso de Organización, Interpretación, análisis e Integración de estímulos”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9933"/>
                </a:solidFill>
                <a:latin typeface="Arial"/>
              </a:rPr>
              <a:t>Aprendizaje y Memoria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¿Que es aprender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istintas propuestas sobre los mecanismos de aprendizaj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 propuesta de Vygotski sobre el aprendizaj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 memor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istintas nociones de la memoria (relación con el pensamiento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 importancia del olvid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9933"/>
                </a:solidFill>
                <a:latin typeface="Arial"/>
              </a:rPr>
              <a:t>Lenguaj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844640"/>
            <a:ext cx="7772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parición del lenguaje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n la especi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n los sujet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 importancia del lenguaje para los seres humano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mplejizacion de lo social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istema de amplificacion del pensamient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istintas propuestas sobre el lenguaje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nstructivism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nnatism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Filosofía del lenguaj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137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33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ff9933"/>
                </a:solidFill>
                <a:latin typeface="Tahoma"/>
              </a:rPr>
              <a:t>Inteligencia:</a:t>
            </a:r>
            <a:r>
              <a:rPr b="0" lang="en-US" sz="4000" spc="-1" strike="noStrike">
                <a:solidFill>
                  <a:srgbClr val="cbcbcb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pacidad para comprender el mundo, pensar en forma racional y utilizar los recursos de manera efectiva cuando se enfrentan desafíos</a:t>
            </a:r>
            <a:endParaRPr b="0" lang="en-US" sz="2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864800"/>
            <a:ext cx="8229600" cy="499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ortamiento inteligen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di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pos de inteligencia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riaciones en la capacidad intelectu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rencia y medio ambien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luencia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sg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binación de facto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27T13:35:21Z</dcterms:created>
  <dc:creator>UAP</dc:creator>
  <dc:description/>
  <dc:language>en-US</dc:language>
  <cp:lastModifiedBy>Andrea Ampuero</cp:lastModifiedBy>
  <dcterms:modified xsi:type="dcterms:W3CDTF">2004-12-27T17:41:55Z</dcterms:modified>
  <cp:revision>86</cp:revision>
  <dc:subject/>
  <dc:title>Inteligencia y cognición </dc:title>
</cp:coreProperties>
</file>