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022975" cy="8183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A7C8-9311-4B52-8C25-2DE954FD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8B92-03C3-4617-B4C3-4A6B2ACE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05FD-D46B-485C-8C17-EB13B8B5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9E1-D2F9-4265-9920-9FF57564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253-E35E-40E5-96F6-54382987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B5F-E411-4BCD-BBD9-232B7F34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7C74-DD7C-4876-89A3-7E57405F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ECEC-423C-4FE6-BD1C-E5AFF62F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397C-D87C-49C9-AF00-63BD1597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85BE-7351-476A-B90D-04982D39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7878-7FE0-455A-9A37-D420C2E5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7D5-0B76-4DED-8DD0-D55BD0D4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5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7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7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EC96-F6BB-48F0-81EF-920429B023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Psicología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udio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entífico del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rtamiento y de los procesos mentale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3500280"/>
            <a:ext cx="7772400" cy="259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icología como ci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étodos de invest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étodo científ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uentes del conoci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eorí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1676520"/>
            <a:ext cx="2087640" cy="5806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cciones y conduc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2438280"/>
            <a:ext cx="3887640" cy="94644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Pensamiento, sentimientos, percepción, procesos de razonamiento, recuerdos, actividad biológica que mantienen el funcionamiento corpor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2349360"/>
            <a:ext cx="2592360" cy="8254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mportamiento Hum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429000" y="2209680"/>
            <a:ext cx="792000" cy="432000"/>
          </a:xfrm>
          <a:prstGeom prst="line">
            <a:avLst/>
          </a:prstGeom>
          <a:ln cap="sq" w="2844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2666880"/>
            <a:ext cx="719280" cy="432000"/>
          </a:xfrm>
          <a:prstGeom prst="line">
            <a:avLst/>
          </a:prstGeom>
          <a:ln cap="sq" w="2844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gnición: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 mental superior por medio del cual comprendemos el mundo, procesamos información, elaboramos juicios, tomamos decisiones y comunicamos nuestros conocimientos </a:t>
            </a:r>
            <a:br>
              <a:rPr sz="2000"/>
            </a:br>
            <a:br>
              <a:rPr sz="2000"/>
            </a:b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samiento y razon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ágenes ment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onamiento:   - induc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duc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ción de proble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v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48000" y="328464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48000" y="364500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4038480"/>
            <a:ext cx="1524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Concienci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ocimiento que los humanos tienen de su propi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ncia, de sus estados, de sus actos, y del mundo que los rodea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veles de Conci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ilancia exces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ilancia at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ilancia relaj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oñ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eño lig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eño profun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do de co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stornos de la conci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Cuantita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Cualita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ivació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dirigen y energizan el comportamiento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ción de puls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en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idad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r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fili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oder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ción biológ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ves inter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ímu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digos socia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3048120"/>
            <a:ext cx="7621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191120" y="3335400"/>
            <a:ext cx="838080" cy="17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191120" y="3623760"/>
            <a:ext cx="838080" cy="334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8240" y="75960"/>
            <a:ext cx="8534520" cy="60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Emociones: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imientos (como la felicidad, la desesperación y la  tristeza)  que suelen tener tanto elementos fisiológicos como cognitivos y que influyen sobre el comport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mie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e fisiológ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e cogni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iones de las emocione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ición para la a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de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orí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676800" y="188640"/>
            <a:ext cx="928692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Psicopatología:</a:t>
            </a:r>
            <a:r>
              <a:rPr b="0" lang="es-ES_tradnl" sz="40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udio de los trastornos mentales</a:t>
            </a:r>
            <a:r>
              <a:rPr b="0" lang="es-ES_tradnl" sz="40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915400" cy="497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ciación normalidad y anormalida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ificación, categorías diagnóst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es trastorn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tornos  de ansiedad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s en los que la ansiedad imposibilita el desempeño cotidia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tornos  del estado de ánimo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imientos de euforia o depresión que son lo bastante fuertes como para afectar la vida cotidia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quizofreni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s de desempeño, perturbaciones del lenguaje y el pensamiento, trastornos de percepción, trastornos emocionales y aislamiento de los demá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39080" cy="623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Principales trastornos psicológ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somatoform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licaciones psicológicas que se manifiestan a través de problemas físic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disociativo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visión de partes importantes de la personalidad que suelen estar integrad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de la personalidad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que generan poco malestar personal pero que conducen a una dificultad par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empeñarse como miembros normales de la socied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sexual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lemas relacionados con la excitación a partir de objetos extraños, o proble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nculados con el desempeño sexual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relacionados con el uso de sustancia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lemas relacionados con el uso y abuso de sustanci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38080" y="1523880"/>
          <a:ext cx="7631280" cy="4891320"/>
        </p:xfrm>
        <a:graphic>
          <a:graphicData uri="http://schemas.openxmlformats.org/drawingml/2006/table">
            <a:tbl>
              <a:tblPr/>
              <a:tblGrid>
                <a:gridCol w="2543400"/>
                <a:gridCol w="2544480"/>
                <a:gridCol w="2543400"/>
              </a:tblGrid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gar de Trabaj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resas e Institucion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de selección y capacit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s gerenci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Salu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s Psicológicas y psiquiátric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diagnóstico y evalu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terapi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ivacion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desarrollo Social y comunitari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.N.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s de Rehabilit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s y Proyectos de Desarrollo Comunitari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ción de necesidad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s de Gestión comunitar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c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educacion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uestas y mejoras en planes educacionales y curricular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 voc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, evaluación y derivación de alumn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457200" y="30492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9933"/>
                </a:solidFill>
                <a:latin typeface="Arial"/>
              </a:rPr>
              <a:t>Especialidades en Psicologí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Psicología y Étic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ética en las diversas áreas de la psicologí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cología Lab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cología Social-Comunit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cología Educ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cología Clí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álisis de ca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9933"/>
                </a:solidFill>
                <a:latin typeface="Arial"/>
              </a:rPr>
              <a:t>Psicología clínic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ma de la psicología que se especializa en la evaluación y tratamiento de los problemas psicológ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elos teóricos clín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foque Psicodinámic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tamiento que se basa en la idea sugerida por Freud de que las fuentes básicas del comportamiento anormal son los conflictos sin resolver del pasado y la ansie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Racional emotiva: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sicoterapia que esta basada en la perspectiva de Ellis de que el objetivo de la terapia debe ser reestructurar el sistema de creencias de la persona para hacerla mas realista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Cognitiva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sicoterapia basada en el objetivo de Beck de cambiar los pensamiento ilógicos de las personas acerca de si mismas y del mund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Humanista 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atamiento que se sustenta en el supuesto de que las personas tienen el control de su comportamiento, pueden tomar decisiones acerca de su vida y son responsables en esencia de la solución de sus problema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Centrada en el cliente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atamiento con el cual el terapeuta refleja con sus declaraciones las del propio cliente en una forma que causa que este ultimo encuentre sus propias solucion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Existencial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nfoque humanista que aborda el sentido de la vida y la libertad human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Gestáltica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ropuesta terapéutica que trata de integrar en una totalidad los pensamientos, sentimientos y comportamiento de un client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Psicología clínic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agnóstico y evalu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Terap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rup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e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mili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sos terapéu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rapeuta, paciente y relación terapéu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Psicología y Sujet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s Psicodinámicas y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j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eoría humanista y suj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Conductual y suj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Cognitiva y suj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volución del concepto sujeto, realidad y conoci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Sujeto y Socieda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19162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ser humano y sus “rareza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noción de 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strucción social de la subje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Sujeto y Víncul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2276640"/>
            <a:ext cx="1800000" cy="3682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PE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00360" y="2276640"/>
            <a:ext cx="1800360" cy="3682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LEJ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2276640"/>
            <a:ext cx="1800360" cy="3988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EP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48360" y="2276640"/>
            <a:ext cx="1800360" cy="3682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TEG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2852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2781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08720" y="2852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67640" y="2852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4149720"/>
            <a:ext cx="13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4149720"/>
            <a:ext cx="1440000" cy="5806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ILO DEPRES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4149720"/>
            <a:ext cx="1439640" cy="5806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ILO FÓB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4149720"/>
            <a:ext cx="1440000" cy="5806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ILO DÁP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4360" y="4149720"/>
            <a:ext cx="1440000" cy="5806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ILO OBSES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4797360"/>
            <a:ext cx="0" cy="287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5084640"/>
            <a:ext cx="6624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6000" y="4797360"/>
            <a:ext cx="0" cy="287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4797360"/>
            <a:ext cx="0" cy="287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56720" y="4797360"/>
            <a:ext cx="0" cy="287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084640"/>
            <a:ext cx="0" cy="2890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5410080"/>
            <a:ext cx="295092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Í  MIS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Sí Mismo y Personalida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637000"/>
            <a:ext cx="187344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í Mis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32000" y="3141720"/>
            <a:ext cx="93672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32000" y="1844640"/>
            <a:ext cx="100836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Y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3280" y="1844640"/>
            <a:ext cx="187344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peri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88000" y="3141720"/>
            <a:ext cx="187308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pl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843280" y="2349000"/>
            <a:ext cx="216000" cy="57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43280" y="2997360"/>
            <a:ext cx="144360" cy="4316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4365720"/>
            <a:ext cx="7704000" cy="15721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tantes experienc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060640"/>
            <a:ext cx="2160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3357720"/>
            <a:ext cx="36036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Times New Roman"/>
              </a:rPr>
              <a:t>Atención, Sensación y Percepció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9120" y="16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9640" y="2349360"/>
            <a:ext cx="201600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NS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27640" y="2349360"/>
            <a:ext cx="238284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CEP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2349360"/>
            <a:ext cx="187308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T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5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3213000"/>
            <a:ext cx="2087640" cy="237816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S  LA   ORIENTACIÓN   DE NUESTRA   VIDA    PSIQUICA (CONCIENCIA)   HACIA   ALGO QUE   SE   EXPERIMENTA   EN ESE   MOMENTO”              (Arellano, 200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Lo que se experimenta son estímulos, y éstos  pueden ser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stímulos interno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stímulos externo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19640" y="3357720"/>
            <a:ext cx="2232000" cy="82404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IMULACIÓN DE LOS ORGANOS SENSORI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56360" y="3429000"/>
            <a:ext cx="2160720" cy="131076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Proceso de Organización, Interpretación, análisis e Integración de estímul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Aprendizaje y Memori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Que es aprend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intas propuestas sobre los mecanismos de aprendiz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ropuesta de Vygotski sobre el aprendiz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emo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intas nociones de la memoria (relación con el pensamien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importancia del olv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Lenguaj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arición del lenguaj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a espec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os suje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mportancia del lenguaje para los seres human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lejizacion de lo soc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 de amplificacion del pens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tintas propuestas sobre el lenguaj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tructivis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atis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osofía del lengua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Inteligencia:</a:t>
            </a:r>
            <a:r>
              <a:rPr b="0" lang="en-US" sz="4000" spc="-1" strike="noStrike">
                <a:solidFill>
                  <a:srgbClr val="cbcbcb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dad para comprender el mundo, pensar en forma racional y utilizar los recursos de manera efectiva cuando se enfrentan desafíos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64800"/>
            <a:ext cx="8229600" cy="499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rtamiento intelig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os de inteligenc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ciones en la capacidad intelect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ncia y medio amb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enc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ción de fact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13:35:21Z</dcterms:created>
  <dc:creator>UAP</dc:creator>
  <dc:description/>
  <dc:language>en-US</dc:language>
  <cp:lastModifiedBy>Andrea Ampuero</cp:lastModifiedBy>
  <dcterms:modified xsi:type="dcterms:W3CDTF">2004-12-27T17:41:55Z</dcterms:modified>
  <cp:revision>86</cp:revision>
  <dc:subject/>
  <dc:title>Inteligencia y cognición </dc:title>
</cp:coreProperties>
</file>