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C56-A73F-4F46-840F-FA42F2FB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BE1-2901-43E8-B6C8-422F4414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270-BACA-4EAF-826B-1B68B69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BC2-C76B-4EDD-B6DA-B678BBF9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E3E-6F7D-4449-A409-607656A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573-7B6D-4F1F-BF7E-B1BDCE76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342-3A78-4870-B16B-1430E846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33C-1AED-4EC1-951C-859A3BFA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592-87AA-458D-B361-AD041A08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A80-5DEC-4B10-A092-BD8EBDAC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9F2-47BD-4F1A-86B5-60C1953E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9EE-F6F2-4B83-8322-C23A47FB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5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7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21B7-4BB0-400A-A387-B5F9499EE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3500280"/>
            <a:ext cx="777240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429000" y="2209680"/>
            <a:ext cx="79200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666880"/>
            <a:ext cx="71928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gnición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328464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364500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03848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ncienci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imiento que los humanos tienen de su prop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dirigen y energizan el comportamiento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304812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91120" y="3335400"/>
            <a:ext cx="83808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91120" y="3623760"/>
            <a:ext cx="838080" cy="334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75960"/>
            <a:ext cx="853452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mociones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676800" y="188640"/>
            <a:ext cx="928692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patología: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623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rincipales trastornos psicológ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16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er humano y sus “rareza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noción de 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strucción social de la subje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78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764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14972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antes experien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Times New Roman"/>
              </a:rPr>
              <a:t>Atención, Sensación y Percepció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912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Aprendizaje y Memor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Inteligencia:</a:t>
            </a:r>
            <a:r>
              <a:rPr b="0" lang="en-US" sz="4000" spc="-1" strike="noStrike">
                <a:solidFill>
                  <a:srgbClr val="cbcbc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499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3:35:21Z</dcterms:created>
  <dc:creator>UAP</dc:creator>
  <dc:description/>
  <dc:language>en-US</dc:language>
  <cp:lastModifiedBy>Andrea Ampuero</cp:lastModifiedBy>
  <dcterms:modified xsi:type="dcterms:W3CDTF">2004-12-27T17:41:55Z</dcterms:modified>
  <cp:revision>86</cp:revision>
  <dc:subject/>
  <dc:title>Inteligencia y cognición </dc:title>
</cp:coreProperties>
</file>