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7BB-178F-4E0C-8AA9-1F270F4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92F-C016-4948-A996-A81FDD0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D87-B77A-43DD-82F7-A354CA8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DFA-4003-4735-94CD-79623A79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BE3-E5C0-425F-B945-B2C5387E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CB3-3C3F-4AE1-8379-87AC8CF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588-C6F7-406B-AC4C-4653AF6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402-075E-422F-A1E1-B122CAF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16C-E035-4729-8803-EA93BEF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4ED-B8A4-4099-9FD4-18F46AF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E71-A601-4871-974C-68447D72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A02-CAE1-4681-9C76-86490EF8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1D8-EE4E-4BAB-829A-05B5CE1B5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2209680"/>
            <a:ext cx="79200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666880"/>
            <a:ext cx="71928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ción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28464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64500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0384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cienci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imiento que los humanos tienen de su pr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dirigen y energizan el comportamient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3335400"/>
            <a:ext cx="83808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3623760"/>
            <a:ext cx="838080" cy="33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5345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mociones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676800" y="188640"/>
            <a:ext cx="92869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patología: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2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rincipales trastornos psicológ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16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er humano y sus “rareza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oción de 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trucción social de la subje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antes experi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Times New Roman"/>
              </a:rPr>
              <a:t>Atención, Sensación y Percepció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eligencia:</a:t>
            </a:r>
            <a:r>
              <a:rPr b="0" lang="en-US" sz="4000" spc="-1" strike="noStrike">
                <a:solidFill>
                  <a:srgbClr val="cbcbc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499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35:21Z</dcterms:created>
  <dc:creator>UAP</dc:creator>
  <dc:description/>
  <dc:language>en-US</dc:language>
  <cp:lastModifiedBy>Andrea Ampuero</cp:lastModifiedBy>
  <dcterms:modified xsi:type="dcterms:W3CDTF">2004-12-27T17:41:55Z</dcterms:modified>
  <cp:revision>86</cp:revision>
  <dc:subject/>
  <dc:title>Inteligencia y cognición </dc:title>
</cp:coreProperties>
</file>