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0DA4-08FD-4737-B7A8-0DE2CA2E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716D-1A56-4A45-9C68-6B6E481F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7708-D3B0-4F11-8983-849E91AE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1E8F-BB95-45A8-BC9E-24C23118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27B0-1B7E-4E81-B41B-391FF2D5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5B2B-BF76-4426-BA60-9A2AEFC9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9407-AB8E-4790-B12B-FCCC4EEB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2164-F296-4E8E-8570-E3122BA0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A4AC-D11B-43F0-BB36-E00F5AC5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6858-5FF0-4E95-9F96-78A3A597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1E4A-2370-49C7-9D22-8F205FAD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E701-9DF8-4723-B1D1-369E71A2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648320" y="640080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523B-1467-4EF4-966F-6178AF69E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4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533520"/>
            <a:ext cx="8229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udio</a:t>
            </a: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entífico del</a:t>
            </a: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rtamiento y de los procesos 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2349360"/>
            <a:ext cx="2592360" cy="8254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rtamient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95680" y="1676520"/>
            <a:ext cx="2087640" cy="5806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ciones y conduc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2438280"/>
            <a:ext cx="3887640" cy="94644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ensamiento, sentimientos, percepción, procesos de razonamiento, recuerdos, actividad biológica que mantienen el funcionamiento corpo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581280" y="20574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2819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76360" y="3357720"/>
            <a:ext cx="431640" cy="718920"/>
          </a:xfrm>
          <a:prstGeom prst="downArrow">
            <a:avLst>
              <a:gd name="adj1" fmla="val 50000"/>
              <a:gd name="adj2" fmla="val 41639"/>
            </a:avLst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267080"/>
            <a:ext cx="8001000" cy="229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sicología como c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Métodos de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Método cientí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Fuentes del cono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Teor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sicologí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gnición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685800"/>
            <a:ext cx="7467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ceso mental superior por medio del cual comprendemos el mundo, procesamos información, elaboramos juicios, tomamos decisiones y comunicamos nuestros conocimientos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152280"/>
            <a:ext cx="72392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514600"/>
            <a:ext cx="77724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nsamiento y raz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ágenes 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ep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zonamiento:   - indu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dedu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ución de probl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pa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duc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u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81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ncienci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380880"/>
            <a:ext cx="5105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ocimiento que los humanos tienen de su propia existencia, de sus estados, de sus actos, y del mundo que los rode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228600"/>
            <a:ext cx="3200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0280" y="1447920"/>
            <a:ext cx="7543800" cy="51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iveles de Con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gilancia exces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gilancia at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gilancia relaj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soñ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eño lig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eño profu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do de c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stornos de la con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po Cuanti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po Cuali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7534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ctores que dirigen y energizan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1268280"/>
            <a:ext cx="77724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foqu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ti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ción de pul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en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cesidade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g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afil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pod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gulación bi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ve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ím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ódigos soci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1981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otivación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2680" y="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360" y="762120"/>
            <a:ext cx="81532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ntimientos (como la felicidad, la desesperación y la  tristeza)  que suelen tener tanto elementos fisiológicos como cognitivos y que influyen sobre el comport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nt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nente fisi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nente cogn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ciones de las emocion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posición para la 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lde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gul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orí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mo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28600"/>
            <a:ext cx="5486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sicopatologí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09400" y="533520"/>
            <a:ext cx="40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udio de los trastornos 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480" y="1447920"/>
            <a:ext cx="8915400" cy="497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erenciación normalidad y anormalid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asificación, categorías diagnós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ncipales trastor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de ansiedad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lemas en los que la ansiedad imposibilita el desempeño cotidi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del estado de ánimo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ntimientos de euforia o depresión que son lo bastante fuertes como para afectar la vida cotidi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quizofrenia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lemas de desempeño, perturbaciones del lenguaje y el pensamiento, trastornos de percepción, trastornos emocionales y aislamiento de los demá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39996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Principales trastornos psicológ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stornos  somatoform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mplicaciones psicológicas que se manifiestan a través de problemas físic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stornos  disociativ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visión de partes importantes de la personalidad que suelen estar integrad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stornos  de la personalida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blemas que generan poco malestar personal pero que conducen a una dificultad pa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sempeñarse como miembros normales de la socied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stornos  sexua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lemas relacionados con la excitación a partir de objetos extraños, o probl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inculados con el desempeño sexua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stornos  relacionados con el uso de sustanci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lemas relacionados con el uso y abuso de sustanci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04920"/>
            <a:ext cx="71629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1523880"/>
          <a:ext cx="7631280" cy="4891320"/>
        </p:xfrm>
        <a:graphic>
          <a:graphicData uri="http://schemas.openxmlformats.org/drawingml/2006/table">
            <a:tbl>
              <a:tblPr/>
              <a:tblGrid>
                <a:gridCol w="2543400"/>
                <a:gridCol w="2544480"/>
                <a:gridCol w="2543400"/>
              </a:tblGrid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gar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resas e Institu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de selección y capaci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sorías gerenc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de Sal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s Psicológicas y psiquiátr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diagnóstico y evalu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terap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iv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4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de desarrollo Social y com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.N.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s de Rehabili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s y Proyectos de Desarrollo Com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ción de necesidad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s de Gestión comunit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educaci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uestas y mejoras en planes educacionales y curricula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soría voca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, evaluación y derivación de alum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457200" y="30492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pecialidades en Psicologí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Psicología y É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ética en las diversas áreas de la psicolog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sicología Lab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sicología Social-Com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sicología Educ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sicología Clí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de c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04920"/>
            <a:ext cx="9144000" cy="63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Psicología clínic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ma de la psicología que se especializa en la evaluación y tratamiento de los problemas psic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elos teóricos clí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foque Psicodinámic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ratamiento que se basa en la idea sugerida por Freud de que las fuentes básicas del comportamiento anormal son los conflictos sin resolver del pasado y la ansi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Racional emotiva: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sicoterapia que esta basada en la perspectiva de Ellis de que el objetivo de la terapia debe ser reestructurar el sistema de creencias de la persona para hacerla mas realis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Cognitiva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psicoterapia basada en el objetivo de Beck de cambiar los pensamiento ilógicos de las personas acerca de si mismas y del mun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Humanista 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tratamiento que se sustenta en el supuesto de que las personas tienen el control de su comportamiento, pueden tomar decisiones acerca de su vida y son responsables en esencia de la solución de sus problem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Centrada en el cliente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tratamiento con el cual el terapeuta refleja con sus declaraciones las del propio cliente en una forma que causa que este ultimo encuentre sus propias solucion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Existencial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Enfoque humanista que aborda el sentido de la vida y la libertad huma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Gestáltica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propuesta terapéutica que trata de integrar en una totalidad los pensamientos, sentimientos y comportamiento de un cli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0880" y="236520"/>
            <a:ext cx="8763120" cy="66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sicología clínic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agnóstico y 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pos de Terap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ru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e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mili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cesos terapéu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rapeuta, paciente y relación terapéu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28600"/>
            <a:ext cx="4876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s Psicodinámicas y su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humanista y su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Conductual y su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Cognitiva y su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volución del concepto sujeto, realidad y cono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Psicología y Suje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95280" y="2209680"/>
            <a:ext cx="678204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ser humano y sus “rareza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noción de cul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construcción social de la subjetiv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Sujeto y Socie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Sujeto y Vínc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2276640"/>
            <a:ext cx="1800000" cy="3682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2276640"/>
            <a:ext cx="1800360" cy="3682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EJ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59280" y="2276640"/>
            <a:ext cx="1800360" cy="3988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E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48360" y="2276640"/>
            <a:ext cx="1800360" cy="3682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G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2852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28954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43800" y="28954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4149720"/>
            <a:ext cx="1440000" cy="5806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ILO DEPRES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43280" y="4149720"/>
            <a:ext cx="1439640" cy="5806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ILO FÓB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4149720"/>
            <a:ext cx="1440000" cy="5806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ILO DÁP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4360" y="4149720"/>
            <a:ext cx="1440000" cy="5806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ILO OBSES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32000" y="5084640"/>
            <a:ext cx="6624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32000" y="479736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479736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6000" y="479736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956720" y="479736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5084640"/>
            <a:ext cx="0" cy="289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5410080"/>
            <a:ext cx="295092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Í  M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Sujeto y Víncul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Sí Mismo y Person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2637000"/>
            <a:ext cx="187344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í M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3141720"/>
            <a:ext cx="93672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32000" y="1844640"/>
            <a:ext cx="100836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1844640"/>
            <a:ext cx="187344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88000" y="3141720"/>
            <a:ext cx="187308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843280" y="2349000"/>
            <a:ext cx="216000" cy="57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3280" y="2997360"/>
            <a:ext cx="144360" cy="431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4365720"/>
            <a:ext cx="7704000" cy="15721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antes experien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2060640"/>
            <a:ext cx="21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11640" y="33577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Sí Mismo y Person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2349360"/>
            <a:ext cx="187308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1640" y="2349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19640" y="2349360"/>
            <a:ext cx="201600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NS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51640" y="2349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27640" y="2349360"/>
            <a:ext cx="238284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3213000"/>
            <a:ext cx="2087640" cy="237816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  LA   ORIENTACIÓN   DE NUESTRA   VIDA    PSIQUICA (CONCIENCIA)   HACIA   ALGO QUE   SE   EXPERIMENTA   EN ESE   MOMENTO”              (Arellano, 200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 que se experimenta son estímulos, y éstos  pueden se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tímulos inter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tímulos exter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19640" y="3357720"/>
            <a:ext cx="2232000" cy="82404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IMULACIÓN DE LOS ORGANOS SENSO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56360" y="3429000"/>
            <a:ext cx="2160720" cy="131076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ceso de Organización, Interpretación, análisis e Integración de estímul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tención, Sensación y Percep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Arial"/>
              </a:rPr>
              <a:t>Aprendizaje y 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609480"/>
            <a:ext cx="6705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2057400"/>
            <a:ext cx="754380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Arial"/>
              </a:rPr>
              <a:t>¿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e es aprend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intas propuestas sobre los mecanismos de aprendiz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ropuesta de Vygotski sobre el aprendiz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em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intas nociones de la memoria (relación con el pensami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importancia del olv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Arial"/>
              </a:rPr>
              <a:t>Lengu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685800"/>
            <a:ext cx="69339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1752480"/>
            <a:ext cx="716292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arición del lengua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a espec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os suje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mportancia del lenguaje para los seres human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lejizacion de lo so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stema de amplificacion del pens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tintas propuestas sobre el lengua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tructiv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nat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losofía del lengu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53352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para comprender el mundo, pensar en forma racional y utilizar los recursos de manera efectiva cuando se enfrentan desafí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304920"/>
            <a:ext cx="7848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989000"/>
            <a:ext cx="8229600" cy="43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ortamiento intelig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pos de inteligen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riaciones en la capacidad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rencia y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fluenc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s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binación de 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1600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Tahoma"/>
              </a:rPr>
              <a:t>Inteligenci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0T02:59:52Z</dcterms:created>
  <dc:creator>Andrea Ampuero Belmar</dc:creator>
  <dc:description/>
  <dc:language>en-US</dc:language>
  <cp:lastModifiedBy>Andrea Ampuero</cp:lastModifiedBy>
  <dcterms:modified xsi:type="dcterms:W3CDTF">2004-12-27T17:41:46Z</dcterms:modified>
  <cp:revision>22</cp:revision>
  <dc:subject/>
  <dc:title>Presentación de PowerPoint</dc:title>
</cp:coreProperties>
</file>