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2825-06E2-4172-BADF-056C2A1F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AF3-A0DE-40AF-A377-6D7CC0C4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DCE-1B92-492D-BC01-16B7A00E4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9D0-82F9-4A9D-A308-F9CCC76E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BC16-05A8-4128-8773-25F7826B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FC9-14FF-42FC-A33F-2232E123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5855-1B3A-44EE-A096-C7D6C76A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23CC-5292-43AE-B7DB-31A9B8E3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23E8-0D0C-4E3A-814D-7F8DEC22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E34-F4D6-4B20-80F4-3CB10B07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AA2-C1D0-4C8D-B391-1224A91C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FD1D-99A3-463C-B1C9-655D5604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48320" y="640080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18B9-C8AB-48B3-9B31-E828BFDD4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4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533520"/>
            <a:ext cx="8229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udio</a:t>
            </a: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entífico del</a:t>
            </a: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rtamiento y de los procesos 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2349360"/>
            <a:ext cx="2592360" cy="8254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rtamient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1676520"/>
            <a:ext cx="208764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ciones y conduc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2438280"/>
            <a:ext cx="3887640" cy="94644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ensamiento, sentimientos, percepción, procesos de razonamiento, recuerdos, actividad biológica que mantienen el funcionamiento corpo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581280" y="20574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3357720"/>
            <a:ext cx="431640" cy="718920"/>
          </a:xfrm>
          <a:prstGeom prst="downArrow">
            <a:avLst>
              <a:gd name="adj1" fmla="val 50000"/>
              <a:gd name="adj2" fmla="val 41639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267080"/>
            <a:ext cx="8001000" cy="229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sicología como c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Métodos de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Método cientí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uentes del cono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Teor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sicologí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gnició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685800"/>
            <a:ext cx="7467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so mental superior por medio del cual comprendemos el mundo, procesamos información, elaboramos juicios, tomamos decisiones y comunicamos nuestros conocimientos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52280"/>
            <a:ext cx="72392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514600"/>
            <a:ext cx="77724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nsamiento y raz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ágenes 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zonamiento:   - in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de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ón de 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pa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du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81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ncienci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380880"/>
            <a:ext cx="510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ocimiento que los humanos tienen de su propia existencia, de sus estados, de sus actos, y del mundo que los rode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228600"/>
            <a:ext cx="3200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0280" y="1447920"/>
            <a:ext cx="754380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iveles de Con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gilancia exce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gilancia at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gilancia relaj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soñ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eño lig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eño profu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do de c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stornos de la con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p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po Cual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7534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ctores que dirigen y energizan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1268280"/>
            <a:ext cx="77724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foqu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ti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ción de pul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e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cesidade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g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afil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pod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ulación 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ve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ódigos soci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1981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tivación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2680" y="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360" y="762120"/>
            <a:ext cx="81532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ntimientos (como la felicidad, la desesperación y la  tristeza)  que suelen tener tanto elementos fisiológicos como cognitivos y que influyen sobre el compor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nt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nente fisi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nente cogn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ciones de las emocion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posición para la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lde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ul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orí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mo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28600"/>
            <a:ext cx="5486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sicopatologí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09400" y="533520"/>
            <a:ext cx="40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udio de los trastornos 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480" y="1447920"/>
            <a:ext cx="8915400" cy="497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ción normalidad y anormalid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asificación, categorías diagnó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ncipales trastor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de ansiedad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en los que la ansiedad imposibilita el desempeño cotid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del estado de ánimo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ntimientos de euforia o depresión que son lo bastante fuertes como para afectar la vida cotid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quizofrenia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de desempeño, perturbaciones del lenguaje y el pensamiento, trastornos de percepción, trastornos emocionales y aislamiento de los demá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39996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Principales trastornos psicológ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somatoform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plicaciones psicológicas que se manifiestan a través de problemas físic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disociativ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visión de partes importantes de la personalidad que suelen estar integrad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de la personalida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blemas que generan poco malestar personal pero que conducen a una dificultad p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empeñarse como miembros normales de la socie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sexua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relacionados con la excitación a partir de objetos extraños, o probl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inculados con el desempeño sexua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relacionados con el uso de sustanci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relacionados con el uso y abuso de sustanc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04920"/>
            <a:ext cx="71629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523880"/>
          <a:ext cx="7631280" cy="4891320"/>
        </p:xfrm>
        <a:graphic>
          <a:graphicData uri="http://schemas.openxmlformats.org/drawingml/2006/table">
            <a:tbl>
              <a:tblPr/>
              <a:tblGrid>
                <a:gridCol w="2543400"/>
                <a:gridCol w="2544480"/>
                <a:gridCol w="2543400"/>
              </a:tblGrid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gar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resas e Institu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de selección y capaci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s gerenc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Sal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s Psicológicas y psiquiátr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diagnóstico y evalu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terap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iv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4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desarrollo Social y com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.N.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s de Rehabili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s y Proyectos de Desarrollo Com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ción de necesidad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s de Gestión comunit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educac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uestas y mejoras en planes educacionales y curricula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 voc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, evaluación y derivación de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457200" y="30492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pecialidades en Psicologí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Psicología y É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ética en las diversas áreas de la psicolo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icología Lab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icología Social-Com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icología Edu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icología Clí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de c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04920"/>
            <a:ext cx="9144000" cy="63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Psicología clínic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ma de la psicología que se especializa en la evaluación y tratamiento de los problemas psic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elos teóricos clí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foque Psicodinámic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tamiento que se basa en la idea sugerida por Freud de que las fuentes básicas del comportamiento anormal son los conflictos sin resolver del pasado y la ansi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Racional emotiva: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sicoterapia que esta basada en la perspectiva de Ellis de que el objetivo de la terapia debe ser reestructurar el sistema de creencias de la persona para hacerla mas realis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Cognitiva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sicoterapia basada en el objetivo de Beck de cambiar los pensamiento ilógicos de las personas acerca de si mismas y del mun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Humanista 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tamiento que se sustenta en el supuesto de que las personas tienen el control de su comportamiento, pueden tomar decisiones acerca de su vida y son responsables en esencia de la solución de sus problem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Centrada en el cliente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tamiento con el cual el terapeuta refleja con sus declaraciones las del propio cliente en una forma que causa que este ultimo encuentre sus propias solucion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Existencial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nfoque humanista que aborda el sentido de la vida y la libertad huma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Gestáltica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ropuesta terapéutica que trata de integrar en una totalidad los pensamientos, sentimientos y comportamiento de un cl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236520"/>
            <a:ext cx="8763120" cy="66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sicología clínic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agnóstico y 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Terap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ru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e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mil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sos terapéu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rapeuta, paciente y relación terapéu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28600"/>
            <a:ext cx="4876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s Psicodinámicas y su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humanista y su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Conductual y su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Cognitiva y su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volución del concepto sujeto, realidad y cono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Psicología y Suje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2209680"/>
            <a:ext cx="67820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ser humano y sus “rareza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noción de cul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construcción social de la subjetiv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ujeto y Socie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ujeto y Vínc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276640"/>
            <a:ext cx="1800000" cy="3682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2276640"/>
            <a:ext cx="1800360" cy="3682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EJ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2276640"/>
            <a:ext cx="1800360" cy="3988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48360" y="2276640"/>
            <a:ext cx="1800360" cy="3682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G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2852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28954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43800" y="28954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4149720"/>
            <a:ext cx="144000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LO DEPRE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3280" y="4149720"/>
            <a:ext cx="143964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LO FÓB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4149720"/>
            <a:ext cx="144000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LO DÁP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4360" y="4149720"/>
            <a:ext cx="144000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LO OBSE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5084640"/>
            <a:ext cx="6624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32000" y="4797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4797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6000" y="4797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56720" y="4797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5084640"/>
            <a:ext cx="0" cy="289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5410080"/>
            <a:ext cx="295092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Í  M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ujeto y Víncul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í Mismo y Person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2637000"/>
            <a:ext cx="187344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í M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3141720"/>
            <a:ext cx="93672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32000" y="1844640"/>
            <a:ext cx="100836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1844640"/>
            <a:ext cx="187344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3141720"/>
            <a:ext cx="187308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843280" y="2349000"/>
            <a:ext cx="216000" cy="57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2997360"/>
            <a:ext cx="144360" cy="431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4365720"/>
            <a:ext cx="7704000" cy="15721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antes experien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2060640"/>
            <a:ext cx="21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11640" y="33577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í Mismo y Person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2349360"/>
            <a:ext cx="187308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9640" y="2349360"/>
            <a:ext cx="201600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NS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27640" y="2349360"/>
            <a:ext cx="238284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3213000"/>
            <a:ext cx="2087640" cy="237816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 LA   ORIENTACIÓN   DE NUESTRA   VIDA    PSIQUICA (CONCIENCIA)   HACIA   ALGO QUE   SE   EXPERIMENTA   EN ESE   MOMENTO”              (Arellano, 200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 que se experimenta son estímulos, y éstos  pueden se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ímulos inter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ímulos exter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19640" y="3357720"/>
            <a:ext cx="2232000" cy="82404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MULACIÓN DE LOS ORGANOS SENSO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56360" y="3429000"/>
            <a:ext cx="2160720" cy="131076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 de Organización, Interpretación, análisis e Integración de estímul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tención, Sensación y Percep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Arial"/>
              </a:rPr>
              <a:t>Aprendizaje y 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609480"/>
            <a:ext cx="6705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057400"/>
            <a:ext cx="754380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Arial"/>
              </a:rPr>
              <a:t>¿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es aprend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intas propuestas sobre los mecanismos de aprendiz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ropuesta de Vygotski sobre el aprendiz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em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intas nociones de la memoria (relación con el pensami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importancia del olv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Arial"/>
              </a:rPr>
              <a:t>Lengu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685800"/>
            <a:ext cx="69339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752480"/>
            <a:ext cx="716292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arición del lengua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espec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os suj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mportancia del lenguaje para los seres human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lejizacion de lo so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 de amplificacion del pens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tintas propuestas sobre el lengua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ructiv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at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osofía del lengu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53352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para comprender el mundo, pensar en forma racional y utilizar los recursos de manera efectiva cuando se enfrentan desafí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304920"/>
            <a:ext cx="7848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989000"/>
            <a:ext cx="8229600" cy="43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ortamiento inteli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inteligen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ciones en la capacidad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rencia y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fluenc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s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binación de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600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Tahoma"/>
              </a:rPr>
              <a:t>Inteligenci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02:59:52Z</dcterms:created>
  <dc:creator>Andrea Ampuero Belmar</dc:creator>
  <dc:description/>
  <dc:language>en-US</dc:language>
  <cp:lastModifiedBy>Andrea Ampuero</cp:lastModifiedBy>
  <dcterms:modified xsi:type="dcterms:W3CDTF">2004-12-27T17:41:46Z</dcterms:modified>
  <cp:revision>22</cp:revision>
  <dc:subject/>
  <dc:title>Presentación de PowerPoint</dc:title>
</cp:coreProperties>
</file>