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4EC-D7A5-4612-B0FF-41BDE22D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30A-88C6-4E45-AA5E-66E76A98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29B-00D0-4C1E-96BE-84E7F198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2CA-8332-4A1C-B1A7-BD420C40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743-663E-41A0-A9BB-8722B7B7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C91-AF46-4858-B5FB-225E012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D8F-60D4-4667-B02B-16379A0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B3D-3BFE-491C-B816-1787CF30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70B-6928-40F3-94FD-CDF1EC7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BCF-46E3-4A0F-9AB8-4877FED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0CD-5DFE-4279-8454-461A9D9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98A-FFEF-480E-B912-FEEB91B5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8320" y="6400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5C9-0D93-4927-8F24-8D2C6D18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4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8128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35772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8001000" cy="22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gnició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85800"/>
            <a:ext cx="746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52280"/>
            <a:ext cx="7239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i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80880"/>
            <a:ext cx="51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miento que los humanos tienen de su propia 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1447920"/>
            <a:ext cx="754380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753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tores que dirigen y energiza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26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762120"/>
            <a:ext cx="8153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mo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pat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9400" y="5335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480" y="144792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999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rincipales trastornos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7162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63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3652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4876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209680"/>
            <a:ext cx="6782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tes experi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Aprendizaje y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754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¿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s apren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685800"/>
            <a:ext cx="6933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04920"/>
            <a:ext cx="7848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989000"/>
            <a:ext cx="8229600" cy="43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ahoma"/>
              </a:rPr>
              <a:t>Intelig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2:59:52Z</dcterms:created>
  <dc:creator>Andrea Ampuero Belmar</dc:creator>
  <dc:description/>
  <dc:language>en-US</dc:language>
  <cp:lastModifiedBy>Andrea Ampuero</cp:lastModifiedBy>
  <dcterms:modified xsi:type="dcterms:W3CDTF">2004-12-27T17:41:46Z</dcterms:modified>
  <cp:revision>22</cp:revision>
  <dc:subject/>
  <dc:title>Presentación de PowerPoint</dc:title>
</cp:coreProperties>
</file>