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541-6986-4525-8018-F334F90D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B4F-2556-476E-B713-2341E8D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ADE-AAE8-4CC9-8AE4-4C745D7E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0E8-7C0C-4113-A4CA-7F4CB16A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D77-A0D8-4779-B7EB-59C8D9D1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609-0964-4DAF-9B43-FF21F705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258-A2ED-4662-8C5C-2C67CFE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BC6-853A-424F-9F01-8E118BF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A45-E986-4AD8-8B78-2DBC21AF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AB8-0B18-420F-B1A9-BE1885C9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7AA-32DB-4A61-A4DE-8E9C36D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450-57D6-4F34-8CA4-4994C2D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8320" y="64008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3B9-DE96-4888-9E58-B75B4362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4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2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58128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35772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67080"/>
            <a:ext cx="8001000" cy="22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gnició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685800"/>
            <a:ext cx="746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52280"/>
            <a:ext cx="7239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i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80880"/>
            <a:ext cx="51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imiento que los humanos tienen de su propia 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1447920"/>
            <a:ext cx="754380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753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tores que dirigen y energiza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2682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26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762120"/>
            <a:ext cx="81532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mo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860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patologí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9400" y="533520"/>
            <a:ext cx="40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480" y="144792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9996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rincipales trastornos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7162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63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36520"/>
            <a:ext cx="8763120" cy="66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4876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209680"/>
            <a:ext cx="6782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ser humano y sus “rarez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oción de cul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strucción social de la subjetiv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2895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ujeto y Víncul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tes experi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Aprendizaje y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6705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75438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¿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es apren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685800"/>
            <a:ext cx="6933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5335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04920"/>
            <a:ext cx="7848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989000"/>
            <a:ext cx="8229600" cy="43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ahoma"/>
              </a:rPr>
              <a:t>Inteligenc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02:59:52Z</dcterms:created>
  <dc:creator>Andrea Ampuero Belmar</dc:creator>
  <dc:description/>
  <dc:language>en-US</dc:language>
  <cp:lastModifiedBy>Andrea Ampuero</cp:lastModifiedBy>
  <dcterms:modified xsi:type="dcterms:W3CDTF">2004-12-27T17:41:46Z</dcterms:modified>
  <cp:revision>22</cp:revision>
  <dc:subject/>
  <dc:title>Presentación de PowerPoint</dc:title>
</cp:coreProperties>
</file>