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C38-BA0C-464F-95D3-2E56CAA3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ABE-E375-419B-9622-337794DB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ED7-1513-4D5B-A129-F4638F87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37C-24AA-4034-B478-3A51E153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781-AD86-49A7-B10C-99DF477E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6C0-0699-4FC2-8FFF-63FCFD64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AE4-F96A-4BA4-9EC9-273AA849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88B-6394-41BD-B42A-6CB9B951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087-8501-419B-9080-0F799492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C9D-17A9-410F-A463-9A152E4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5E5-325A-4EB5-A11A-BB9BC01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D38-1A90-4F19-97F6-3D59351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8320" y="6400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CDCD-71E0-4CCC-A851-967396A06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4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5335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8128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35772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67080"/>
            <a:ext cx="8001000" cy="22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gnició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685800"/>
            <a:ext cx="746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52280"/>
            <a:ext cx="72392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ci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80880"/>
            <a:ext cx="51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imiento que los humanos tienen de su propia 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0280" y="1447920"/>
            <a:ext cx="754380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753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tores que dirigen y energiza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26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762120"/>
            <a:ext cx="81532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mo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860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pat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9400" y="5335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480" y="144792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999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rincipales trastornos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920"/>
            <a:ext cx="7162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63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3652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4876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209680"/>
            <a:ext cx="6782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tes experi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Aprendizaje y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75438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¿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s apren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685800"/>
            <a:ext cx="6933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533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04920"/>
            <a:ext cx="7848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989000"/>
            <a:ext cx="8229600" cy="43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ahoma"/>
              </a:rPr>
              <a:t>Intelig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2:59:52Z</dcterms:created>
  <dc:creator>Andrea Ampuero Belmar</dc:creator>
  <dc:description/>
  <dc:language>en-US</dc:language>
  <cp:lastModifiedBy>Andrea Ampuero</cp:lastModifiedBy>
  <dcterms:modified xsi:type="dcterms:W3CDTF">2004-12-27T17:41:46Z</dcterms:modified>
  <cp:revision>22</cp:revision>
  <dc:subject/>
  <dc:title>Presentación de PowerPoint</dc:title>
</cp:coreProperties>
</file>