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F0AE-57D7-47AE-BD3C-B36AF65D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6BF0-2DD7-4B0A-AD90-B909768A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9529-A31F-4201-BB97-3AD06B07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2768-9B7D-455A-A52C-91FAFDA5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51A3-360D-4E1E-A460-7409618A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D52D-A03A-4502-BAD8-D353D217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AFC9-1511-4A36-97BE-DE83D7E2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3A8C-DDEA-4E1D-83EC-F503A8A3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B0BC-F4D3-4F03-B85F-184738F6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5E0B-43C8-49AF-AA4A-A55A2B8A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7EAD-A7C6-48D3-8121-7BC3E788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CE76-618D-4E64-8BF8-853085FD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7AEC-F639-4FF2-A68E-ABEC7EAE1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BORATORIO DE COMPUTACIÓN MATE I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signación a re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mplo de una asign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457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enemos la red de la figura con los siguientes costos para cada ar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8880" y="1851120"/>
            <a:ext cx="214200" cy="19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08440" y="1851120"/>
            <a:ext cx="215640" cy="19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57640" y="1851120"/>
            <a:ext cx="216000" cy="19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011240" y="1752480"/>
            <a:ext cx="1897200" cy="198720"/>
          </a:xfrm>
          <a:custGeom>
            <a:avLst/>
            <a:gdLst/>
            <a:ahLst/>
            <a:rect l="l" t="t" r="r" b="b"/>
            <a:pathLst>
              <a:path w="466" h="1">
                <a:moveTo>
                  <a:pt x="0" y="0"/>
                </a:moveTo>
                <a:cubicBezTo>
                  <a:pt x="155" y="0"/>
                  <a:pt x="311" y="0"/>
                  <a:pt x="46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720" y="3346560"/>
            <a:ext cx="216000" cy="19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71720" y="3346560"/>
            <a:ext cx="214560" cy="19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973080" y="3247920"/>
            <a:ext cx="1898640" cy="198720"/>
          </a:xfrm>
          <a:custGeom>
            <a:avLst/>
            <a:gdLst/>
            <a:ahLst/>
            <a:rect l="l" t="t" r="r" b="b"/>
            <a:pathLst>
              <a:path w="466" h="1">
                <a:moveTo>
                  <a:pt x="0" y="0"/>
                </a:moveTo>
                <a:cubicBezTo>
                  <a:pt x="155" y="0"/>
                  <a:pt x="311" y="0"/>
                  <a:pt x="46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0720" y="4943520"/>
            <a:ext cx="216000" cy="19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71720" y="4943520"/>
            <a:ext cx="214560" cy="19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973080" y="4844880"/>
            <a:ext cx="1898640" cy="198720"/>
          </a:xfrm>
          <a:custGeom>
            <a:avLst/>
            <a:gdLst/>
            <a:ahLst/>
            <a:rect l="l" t="t" r="r" b="b"/>
            <a:pathLst>
              <a:path w="466" h="1">
                <a:moveTo>
                  <a:pt x="0" y="0"/>
                </a:moveTo>
                <a:cubicBezTo>
                  <a:pt x="155" y="0"/>
                  <a:pt x="311" y="0"/>
                  <a:pt x="46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1280" y="4943520"/>
            <a:ext cx="214200" cy="19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124080" y="4844880"/>
            <a:ext cx="1897200" cy="198720"/>
          </a:xfrm>
          <a:custGeom>
            <a:avLst/>
            <a:gdLst/>
            <a:ahLst/>
            <a:rect l="l" t="t" r="r" b="b"/>
            <a:pathLst>
              <a:path w="466" h="1">
                <a:moveTo>
                  <a:pt x="0" y="0"/>
                </a:moveTo>
                <a:cubicBezTo>
                  <a:pt x="155" y="0"/>
                  <a:pt x="311" y="0"/>
                  <a:pt x="46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1280" y="3346560"/>
            <a:ext cx="214200" cy="19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124080" y="3247920"/>
            <a:ext cx="1897200" cy="198720"/>
          </a:xfrm>
          <a:custGeom>
            <a:avLst/>
            <a:gdLst/>
            <a:ahLst/>
            <a:rect l="l" t="t" r="r" b="b"/>
            <a:pathLst>
              <a:path w="466" h="1">
                <a:moveTo>
                  <a:pt x="0" y="0"/>
                </a:moveTo>
                <a:cubicBezTo>
                  <a:pt x="155" y="0"/>
                  <a:pt x="311" y="0"/>
                  <a:pt x="46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85960" y="2068560"/>
            <a:ext cx="1440" cy="1231920"/>
          </a:xfrm>
          <a:custGeom>
            <a:avLst/>
            <a:gdLst/>
            <a:ahLst/>
            <a:rect l="l" t="t" r="r" b="b"/>
            <a:pathLst>
              <a:path w="21" h="889">
                <a:moveTo>
                  <a:pt x="0" y="0"/>
                </a:moveTo>
                <a:cubicBezTo>
                  <a:pt x="7" y="296"/>
                  <a:pt x="21" y="889"/>
                  <a:pt x="21" y="8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53920" y="3594240"/>
            <a:ext cx="1800" cy="1292040"/>
          </a:xfrm>
          <a:custGeom>
            <a:avLst/>
            <a:gdLst/>
            <a:ahLst/>
            <a:rect l="l" t="t" r="r" b="b"/>
            <a:pathLst>
              <a:path w="1" h="932">
                <a:moveTo>
                  <a:pt x="0" y="0"/>
                </a:moveTo>
                <a:cubicBezTo>
                  <a:pt x="0" y="311"/>
                  <a:pt x="0" y="621"/>
                  <a:pt x="0" y="93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973080" y="2050560"/>
            <a:ext cx="1935360" cy="119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973080" y="3646080"/>
            <a:ext cx="1935360" cy="1397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3594240"/>
            <a:ext cx="1440" cy="1272960"/>
          </a:xfrm>
          <a:custGeom>
            <a:avLst/>
            <a:gdLst/>
            <a:ahLst/>
            <a:rect l="l" t="t" r="r" b="b"/>
            <a:pathLst>
              <a:path w="1" h="910">
                <a:moveTo>
                  <a:pt x="0" y="0"/>
                </a:moveTo>
                <a:cubicBezTo>
                  <a:pt x="0" y="303"/>
                  <a:pt x="0" y="607"/>
                  <a:pt x="0" y="91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89680" y="3537000"/>
            <a:ext cx="1440" cy="1319040"/>
          </a:xfrm>
          <a:custGeom>
            <a:avLst/>
            <a:gdLst/>
            <a:ahLst/>
            <a:rect l="l" t="t" r="r" b="b"/>
            <a:pathLst>
              <a:path w="21" h="952">
                <a:moveTo>
                  <a:pt x="21" y="0"/>
                </a:moveTo>
                <a:cubicBezTo>
                  <a:pt x="14" y="317"/>
                  <a:pt x="0" y="952"/>
                  <a:pt x="0" y="95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60800" y="1951200"/>
            <a:ext cx="1778040" cy="1440"/>
          </a:xfrm>
          <a:custGeom>
            <a:avLst/>
            <a:gdLst/>
            <a:ahLst/>
            <a:rect l="l" t="t" r="r" b="b"/>
            <a:pathLst>
              <a:path w="170" h="1">
                <a:moveTo>
                  <a:pt x="0" y="0"/>
                </a:moveTo>
                <a:cubicBezTo>
                  <a:pt x="57" y="0"/>
                  <a:pt x="113" y="0"/>
                  <a:pt x="17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4720" y="2068560"/>
            <a:ext cx="1800" cy="1177920"/>
          </a:xfrm>
          <a:custGeom>
            <a:avLst/>
            <a:gdLst/>
            <a:ahLst/>
            <a:rect l="l" t="t" r="r" b="b"/>
            <a:pathLst>
              <a:path w="1" h="254">
                <a:moveTo>
                  <a:pt x="0" y="0"/>
                </a:moveTo>
                <a:cubicBezTo>
                  <a:pt x="0" y="85"/>
                  <a:pt x="0" y="169"/>
                  <a:pt x="0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160020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160020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243828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90920"/>
            <a:ext cx="304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251460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312408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312408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3962520"/>
            <a:ext cx="304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4114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114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5105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5105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52388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19520" y="152388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152388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276720"/>
            <a:ext cx="380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297180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4120" y="312408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502920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518148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525780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562720" y="1447920"/>
            <a:ext cx="1514520" cy="425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562720" y="1981080"/>
            <a:ext cx="1573200" cy="425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638680" y="2514600"/>
            <a:ext cx="1220760" cy="425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638680" y="3048120"/>
            <a:ext cx="1400400" cy="428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5715000" y="3657600"/>
            <a:ext cx="1341360" cy="428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5715000" y="4191120"/>
            <a:ext cx="1455840" cy="425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5791320" y="4724280"/>
            <a:ext cx="1514520" cy="425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7391520" y="1447920"/>
            <a:ext cx="1400040" cy="428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9"/>
          <a:stretch/>
        </p:blipFill>
        <p:spPr>
          <a:xfrm>
            <a:off x="7467480" y="1905120"/>
            <a:ext cx="1032120" cy="428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0"/>
          <a:stretch/>
        </p:blipFill>
        <p:spPr>
          <a:xfrm>
            <a:off x="7238880" y="2514600"/>
            <a:ext cx="1808280" cy="425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1"/>
          <a:stretch/>
        </p:blipFill>
        <p:spPr>
          <a:xfrm>
            <a:off x="7238880" y="3048120"/>
            <a:ext cx="1751040" cy="425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2"/>
          <a:stretch/>
        </p:blipFill>
        <p:spPr>
          <a:xfrm>
            <a:off x="7391520" y="3581280"/>
            <a:ext cx="1090440" cy="428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3"/>
          <a:stretch/>
        </p:blipFill>
        <p:spPr>
          <a:xfrm>
            <a:off x="7238880" y="4114800"/>
            <a:ext cx="1752840" cy="425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2280" y="594360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ueremos encontrar la manera más óptima de enviar 2500 de D a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ODEL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029200" cy="1819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5800" y="3962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A LAS RESTRICCIONES DE CONSERVACIÓN DE FLUJO Y SATISFACCIÓN DE LA DEMANDA (Y POSITIVIDAD DE LOS FLUJ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06:07:27Z</dcterms:created>
  <dc:creator>Cristian OLATE</dc:creator>
  <dc:description/>
  <dc:language>en-US</dc:language>
  <cp:lastModifiedBy>Cristian OLATE</cp:lastModifiedBy>
  <dcterms:modified xsi:type="dcterms:W3CDTF">2005-01-13T07:14:50Z</dcterms:modified>
  <cp:revision>2</cp:revision>
  <dc:subject/>
  <dc:title>LABORATORIO DE COMPUTACIÓN MATE II.</dc:title>
</cp:coreProperties>
</file>