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1553-1A42-4474-B2B3-A695FF5A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6BA-19AD-4AC3-9BF9-F5909C9C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2DC1-8D7D-43B5-98B3-1593B8B8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DFB6-08AB-4B8E-AD72-9F5E9D30A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C55-C5F1-4E35-A03F-928563BD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C02-F0D4-4658-BA35-8FB050A9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E8F-4103-4854-817E-584E10EA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03A-F4B5-4FDF-90C6-ED5B3C18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1D3-B9B9-4DE1-8CB0-CFE14B4E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B0DF-966C-417E-80DE-82D16B3D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C8DC-ED82-4DB8-8366-3EE2A073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416B-0283-4C41-BCA5-F433A89D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B8D6-0EA4-4E0A-BEC9-E94E53121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BORATORIO DE COMPUTACIÓN MATE II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signación a re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 de una asign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4572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nemos la red de la figura con los siguientes costos para cada ar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58880" y="1851120"/>
            <a:ext cx="21420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08440" y="1851120"/>
            <a:ext cx="21564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57640" y="1851120"/>
            <a:ext cx="21600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011240" y="1752480"/>
            <a:ext cx="1897200" cy="19872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cubicBezTo>
                  <a:pt x="155" y="0"/>
                  <a:pt x="311" y="0"/>
                  <a:pt x="4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720" y="3346560"/>
            <a:ext cx="21600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71720" y="3346560"/>
            <a:ext cx="21456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973080" y="3247920"/>
            <a:ext cx="1898640" cy="19872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cubicBezTo>
                  <a:pt x="155" y="0"/>
                  <a:pt x="311" y="0"/>
                  <a:pt x="4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0720" y="4943520"/>
            <a:ext cx="21600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71720" y="4943520"/>
            <a:ext cx="21456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973080" y="4844880"/>
            <a:ext cx="1898640" cy="19872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cubicBezTo>
                  <a:pt x="155" y="0"/>
                  <a:pt x="311" y="0"/>
                  <a:pt x="4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1280" y="4943520"/>
            <a:ext cx="214200" cy="19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3124080" y="4844880"/>
            <a:ext cx="1897200" cy="19872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cubicBezTo>
                  <a:pt x="155" y="0"/>
                  <a:pt x="311" y="0"/>
                  <a:pt x="46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1280" y="3346560"/>
            <a:ext cx="21420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124080" y="3247920"/>
            <a:ext cx="1897200" cy="198720"/>
          </a:xfrm>
          <a:custGeom>
            <a:avLst/>
            <a:gdLst/>
            <a:ahLst/>
            <a:rect l="l" t="t" r="r" b="b"/>
            <a:pathLst>
              <a:path w="466" h="1">
                <a:moveTo>
                  <a:pt x="0" y="0"/>
                </a:moveTo>
                <a:cubicBezTo>
                  <a:pt x="155" y="0"/>
                  <a:pt x="311" y="0"/>
                  <a:pt x="46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5960" y="2068560"/>
            <a:ext cx="1440" cy="1231920"/>
          </a:xfrm>
          <a:custGeom>
            <a:avLst/>
            <a:gdLst/>
            <a:ahLst/>
            <a:rect l="l" t="t" r="r" b="b"/>
            <a:pathLst>
              <a:path w="21" h="889">
                <a:moveTo>
                  <a:pt x="0" y="0"/>
                </a:moveTo>
                <a:cubicBezTo>
                  <a:pt x="7" y="296"/>
                  <a:pt x="21" y="889"/>
                  <a:pt x="21" y="8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53920" y="3594240"/>
            <a:ext cx="1800" cy="1292040"/>
          </a:xfrm>
          <a:custGeom>
            <a:avLst/>
            <a:gdLst/>
            <a:ahLst/>
            <a:rect l="l" t="t" r="r" b="b"/>
            <a:pathLst>
              <a:path w="1" h="932">
                <a:moveTo>
                  <a:pt x="0" y="0"/>
                </a:moveTo>
                <a:cubicBezTo>
                  <a:pt x="0" y="311"/>
                  <a:pt x="0" y="621"/>
                  <a:pt x="0" y="93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973080" y="2050560"/>
            <a:ext cx="1935360" cy="119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973080" y="3646080"/>
            <a:ext cx="1935360" cy="1397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3594240"/>
            <a:ext cx="1440" cy="1272960"/>
          </a:xfrm>
          <a:custGeom>
            <a:avLst/>
            <a:gdLst/>
            <a:ahLst/>
            <a:rect l="l" t="t" r="r" b="b"/>
            <a:pathLst>
              <a:path w="1" h="910">
                <a:moveTo>
                  <a:pt x="0" y="0"/>
                </a:moveTo>
                <a:cubicBezTo>
                  <a:pt x="0" y="303"/>
                  <a:pt x="0" y="607"/>
                  <a:pt x="0" y="91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89680" y="3537000"/>
            <a:ext cx="1440" cy="1319040"/>
          </a:xfrm>
          <a:custGeom>
            <a:avLst/>
            <a:gdLst/>
            <a:ahLst/>
            <a:rect l="l" t="t" r="r" b="b"/>
            <a:pathLst>
              <a:path w="21" h="952">
                <a:moveTo>
                  <a:pt x="21" y="0"/>
                </a:moveTo>
                <a:cubicBezTo>
                  <a:pt x="14" y="317"/>
                  <a:pt x="0" y="952"/>
                  <a:pt x="0" y="95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60800" y="1951200"/>
            <a:ext cx="1778040" cy="1440"/>
          </a:xfrm>
          <a:custGeom>
            <a:avLst/>
            <a:gdLst/>
            <a:ahLst/>
            <a:rect l="l" t="t" r="r" b="b"/>
            <a:pathLst>
              <a:path w="170" h="1">
                <a:moveTo>
                  <a:pt x="0" y="0"/>
                </a:moveTo>
                <a:cubicBezTo>
                  <a:pt x="57" y="0"/>
                  <a:pt x="113" y="0"/>
                  <a:pt x="1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4720" y="2068560"/>
            <a:ext cx="1800" cy="1177920"/>
          </a:xfrm>
          <a:custGeom>
            <a:avLst/>
            <a:gdLst/>
            <a:ahLst/>
            <a:rect l="l" t="t" r="r" b="b"/>
            <a:pathLst>
              <a:path w="1" h="254">
                <a:moveTo>
                  <a:pt x="0" y="0"/>
                </a:moveTo>
                <a:cubicBezTo>
                  <a:pt x="0" y="85"/>
                  <a:pt x="0" y="169"/>
                  <a:pt x="0" y="2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16002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9880" y="16002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2438280"/>
            <a:ext cx="304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90920"/>
            <a:ext cx="304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251460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12408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312408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304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3962520"/>
            <a:ext cx="304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114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114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76520" y="5105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105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5238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15238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15238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2767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19520" y="297180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31240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502920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19520" y="51814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525780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33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562720" y="1447920"/>
            <a:ext cx="1514520" cy="425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1573200" cy="4255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638680" y="2514600"/>
            <a:ext cx="1220760" cy="425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5638680" y="3048120"/>
            <a:ext cx="1400400" cy="428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5715000" y="3657600"/>
            <a:ext cx="1341360" cy="428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5715000" y="4191120"/>
            <a:ext cx="1455840" cy="425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5791320" y="4724280"/>
            <a:ext cx="1514520" cy="425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7391520" y="1447920"/>
            <a:ext cx="1400040" cy="4284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7467480" y="1905120"/>
            <a:ext cx="1032120" cy="428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7238880" y="2514600"/>
            <a:ext cx="1808280" cy="425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1"/>
          <a:stretch/>
        </p:blipFill>
        <p:spPr>
          <a:xfrm>
            <a:off x="7238880" y="3048120"/>
            <a:ext cx="1751040" cy="425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7391520" y="3581280"/>
            <a:ext cx="1090440" cy="4287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3"/>
          <a:stretch/>
        </p:blipFill>
        <p:spPr>
          <a:xfrm>
            <a:off x="7238880" y="4114800"/>
            <a:ext cx="1752840" cy="425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52280" y="59436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ueremos encontrar la manera más óptima de enviar 2500 de D a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ODEL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029200" cy="18194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85800" y="39625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A LAS RESTRICCIONES DE CONSERVACIÓN DE FLUJO Y SATISFACCIÓN DE LA DEMANDA (Y POSITIVIDAD DE LOS FLUJ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06:07:27Z</dcterms:created>
  <dc:creator>Cristian OLATE</dc:creator>
  <dc:description/>
  <dc:language>en-US</dc:language>
  <cp:lastModifiedBy>Cristian OLATE</cp:lastModifiedBy>
  <dcterms:modified xsi:type="dcterms:W3CDTF">2005-01-13T07:14:50Z</dcterms:modified>
  <cp:revision>2</cp:revision>
  <dc:subject/>
  <dc:title>LABORATORIO DE COMPUTACIÓN MATE II.</dc:title>
</cp:coreProperties>
</file>