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BDA6-B870-4FCD-9364-4865BD34F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9A91-6B7D-4A3A-A936-9B59325D5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3D25-E9B7-4A26-B2FA-44D5F123E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1180-12D3-4A79-9FC4-2A7B688C1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2413-0B67-4F33-9433-C1BF3F7BA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A83C-EA2B-41C4-A0E0-0F3813C64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19EB-17C3-45FC-80EF-18A0A7BD7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1A2F-F5B7-4055-932E-7A4E625B5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263F-3CB2-4DDD-AEDE-7A6E7301D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56FD-7378-4E11-AC2C-AA3D19171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B035-3596-4F36-B43F-2A27C0BF7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3421-BDCC-444A-9FE7-0AD142F38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BC275-75D1-442C-8E05-95B215E690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13.wmf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LABORATORIO DE COMPUTACIÓN MATE II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signación a re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jemplo de una asign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45720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enemos la red de la figura con los siguientes costos para cada arc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58880" y="1851120"/>
            <a:ext cx="214200" cy="199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08440" y="1851120"/>
            <a:ext cx="215640" cy="199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057640" y="1851120"/>
            <a:ext cx="216000" cy="199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1011240" y="1752480"/>
            <a:ext cx="1897200" cy="198720"/>
          </a:xfrm>
          <a:custGeom>
            <a:avLst/>
            <a:gdLst/>
            <a:ahLst/>
            <a:rect l="l" t="t" r="r" b="b"/>
            <a:pathLst>
              <a:path w="466" h="1">
                <a:moveTo>
                  <a:pt x="0" y="0"/>
                </a:moveTo>
                <a:cubicBezTo>
                  <a:pt x="155" y="0"/>
                  <a:pt x="311" y="0"/>
                  <a:pt x="46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20720" y="3346560"/>
            <a:ext cx="216000" cy="199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71720" y="3346560"/>
            <a:ext cx="214560" cy="199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973080" y="3247920"/>
            <a:ext cx="1898640" cy="198720"/>
          </a:xfrm>
          <a:custGeom>
            <a:avLst/>
            <a:gdLst/>
            <a:ahLst/>
            <a:rect l="l" t="t" r="r" b="b"/>
            <a:pathLst>
              <a:path w="466" h="1">
                <a:moveTo>
                  <a:pt x="0" y="0"/>
                </a:moveTo>
                <a:cubicBezTo>
                  <a:pt x="155" y="0"/>
                  <a:pt x="311" y="0"/>
                  <a:pt x="46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20720" y="4943520"/>
            <a:ext cx="216000" cy="198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871720" y="4943520"/>
            <a:ext cx="214560" cy="198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973080" y="4844880"/>
            <a:ext cx="1898640" cy="198720"/>
          </a:xfrm>
          <a:custGeom>
            <a:avLst/>
            <a:gdLst/>
            <a:ahLst/>
            <a:rect l="l" t="t" r="r" b="b"/>
            <a:pathLst>
              <a:path w="466" h="1">
                <a:moveTo>
                  <a:pt x="0" y="0"/>
                </a:moveTo>
                <a:cubicBezTo>
                  <a:pt x="155" y="0"/>
                  <a:pt x="311" y="0"/>
                  <a:pt x="46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021280" y="4943520"/>
            <a:ext cx="214200" cy="198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3124080" y="4844880"/>
            <a:ext cx="1897200" cy="198720"/>
          </a:xfrm>
          <a:custGeom>
            <a:avLst/>
            <a:gdLst/>
            <a:ahLst/>
            <a:rect l="l" t="t" r="r" b="b"/>
            <a:pathLst>
              <a:path w="466" h="1">
                <a:moveTo>
                  <a:pt x="0" y="0"/>
                </a:moveTo>
                <a:cubicBezTo>
                  <a:pt x="155" y="0"/>
                  <a:pt x="311" y="0"/>
                  <a:pt x="46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021280" y="3346560"/>
            <a:ext cx="214200" cy="199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3124080" y="3247920"/>
            <a:ext cx="1897200" cy="198720"/>
          </a:xfrm>
          <a:custGeom>
            <a:avLst/>
            <a:gdLst/>
            <a:ahLst/>
            <a:rect l="l" t="t" r="r" b="b"/>
            <a:pathLst>
              <a:path w="466" h="1">
                <a:moveTo>
                  <a:pt x="0" y="0"/>
                </a:moveTo>
                <a:cubicBezTo>
                  <a:pt x="155" y="0"/>
                  <a:pt x="311" y="0"/>
                  <a:pt x="46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85960" y="2068560"/>
            <a:ext cx="1440" cy="1231920"/>
          </a:xfrm>
          <a:custGeom>
            <a:avLst/>
            <a:gdLst/>
            <a:ahLst/>
            <a:rect l="l" t="t" r="r" b="b"/>
            <a:pathLst>
              <a:path w="21" h="889">
                <a:moveTo>
                  <a:pt x="0" y="0"/>
                </a:moveTo>
                <a:cubicBezTo>
                  <a:pt x="7" y="296"/>
                  <a:pt x="21" y="889"/>
                  <a:pt x="21" y="88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53920" y="3594240"/>
            <a:ext cx="1800" cy="1292040"/>
          </a:xfrm>
          <a:custGeom>
            <a:avLst/>
            <a:gdLst/>
            <a:ahLst/>
            <a:rect l="l" t="t" r="r" b="b"/>
            <a:pathLst>
              <a:path w="1" h="932">
                <a:moveTo>
                  <a:pt x="0" y="0"/>
                </a:moveTo>
                <a:cubicBezTo>
                  <a:pt x="0" y="311"/>
                  <a:pt x="0" y="621"/>
                  <a:pt x="0" y="932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973080" y="2050560"/>
            <a:ext cx="1935360" cy="1197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973080" y="3646080"/>
            <a:ext cx="1935360" cy="1397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971800" y="3594240"/>
            <a:ext cx="1440" cy="1272960"/>
          </a:xfrm>
          <a:custGeom>
            <a:avLst/>
            <a:gdLst/>
            <a:ahLst/>
            <a:rect l="l" t="t" r="r" b="b"/>
            <a:pathLst>
              <a:path w="1" h="910">
                <a:moveTo>
                  <a:pt x="0" y="0"/>
                </a:moveTo>
                <a:cubicBezTo>
                  <a:pt x="0" y="303"/>
                  <a:pt x="0" y="607"/>
                  <a:pt x="0" y="91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089680" y="3537000"/>
            <a:ext cx="1440" cy="1319040"/>
          </a:xfrm>
          <a:custGeom>
            <a:avLst/>
            <a:gdLst/>
            <a:ahLst/>
            <a:rect l="l" t="t" r="r" b="b"/>
            <a:pathLst>
              <a:path w="21" h="952">
                <a:moveTo>
                  <a:pt x="21" y="0"/>
                </a:moveTo>
                <a:cubicBezTo>
                  <a:pt x="14" y="317"/>
                  <a:pt x="0" y="952"/>
                  <a:pt x="0" y="952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60800" y="1951200"/>
            <a:ext cx="1778040" cy="1440"/>
          </a:xfrm>
          <a:custGeom>
            <a:avLst/>
            <a:gdLst/>
            <a:ahLst/>
            <a:rect l="l" t="t" r="r" b="b"/>
            <a:pathLst>
              <a:path w="170" h="1">
                <a:moveTo>
                  <a:pt x="0" y="0"/>
                </a:moveTo>
                <a:cubicBezTo>
                  <a:pt x="57" y="0"/>
                  <a:pt x="113" y="0"/>
                  <a:pt x="17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184720" y="2068560"/>
            <a:ext cx="1800" cy="1177920"/>
          </a:xfrm>
          <a:custGeom>
            <a:avLst/>
            <a:gdLst/>
            <a:ahLst/>
            <a:rect l="l" t="t" r="r" b="b"/>
            <a:pathLst>
              <a:path w="1" h="254">
                <a:moveTo>
                  <a:pt x="0" y="0"/>
                </a:moveTo>
                <a:cubicBezTo>
                  <a:pt x="0" y="85"/>
                  <a:pt x="0" y="169"/>
                  <a:pt x="0" y="25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752480" y="1600200"/>
            <a:ext cx="3049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9880" y="1600200"/>
            <a:ext cx="3049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3520" y="2438280"/>
            <a:ext cx="3045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0" y="2590920"/>
            <a:ext cx="30492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724280" y="2514600"/>
            <a:ext cx="3049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828800" y="3124080"/>
            <a:ext cx="3049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886200" y="3124080"/>
            <a:ext cx="3049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3049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76520" y="3962520"/>
            <a:ext cx="30456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411480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11480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676520" y="5105520"/>
            <a:ext cx="4572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733920" y="5105520"/>
            <a:ext cx="4572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57200" y="1523880"/>
            <a:ext cx="3808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819520" y="1523880"/>
            <a:ext cx="3808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029200" y="1523880"/>
            <a:ext cx="3808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920" y="3276720"/>
            <a:ext cx="3808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819520" y="2971800"/>
            <a:ext cx="3808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3300"/>
                </a:solidFill>
                <a:latin typeface="Times New Roman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334120" y="3124080"/>
            <a:ext cx="3808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3300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04920" y="5029200"/>
            <a:ext cx="3808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3300"/>
                </a:solidFill>
                <a:latin typeface="Times New Roman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819520" y="5181480"/>
            <a:ext cx="3808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3300"/>
                </a:solidFill>
                <a:latin typeface="Times New Roman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029200" y="5257800"/>
            <a:ext cx="3808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3300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5562720" y="1447920"/>
            <a:ext cx="1514520" cy="4251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562720" y="1981080"/>
            <a:ext cx="1573200" cy="4255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5638680" y="2514600"/>
            <a:ext cx="1220760" cy="4255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5638680" y="3048120"/>
            <a:ext cx="1400400" cy="4284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5"/>
          <a:stretch/>
        </p:blipFill>
        <p:spPr>
          <a:xfrm>
            <a:off x="5715000" y="3657600"/>
            <a:ext cx="1341360" cy="4287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5715000" y="4191120"/>
            <a:ext cx="1455840" cy="4251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7"/>
          <a:stretch/>
        </p:blipFill>
        <p:spPr>
          <a:xfrm>
            <a:off x="5791320" y="4724280"/>
            <a:ext cx="1514520" cy="4255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8"/>
          <a:stretch/>
        </p:blipFill>
        <p:spPr>
          <a:xfrm>
            <a:off x="7391520" y="1447920"/>
            <a:ext cx="1400040" cy="4284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9"/>
          <a:stretch/>
        </p:blipFill>
        <p:spPr>
          <a:xfrm>
            <a:off x="7467480" y="1905120"/>
            <a:ext cx="1032120" cy="4284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10"/>
          <a:stretch/>
        </p:blipFill>
        <p:spPr>
          <a:xfrm>
            <a:off x="7238880" y="2514600"/>
            <a:ext cx="1808280" cy="4255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11"/>
          <a:stretch/>
        </p:blipFill>
        <p:spPr>
          <a:xfrm>
            <a:off x="7238880" y="3048120"/>
            <a:ext cx="1751040" cy="4251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12"/>
          <a:stretch/>
        </p:blipFill>
        <p:spPr>
          <a:xfrm>
            <a:off x="7391520" y="3581280"/>
            <a:ext cx="1090440" cy="4287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13"/>
          <a:stretch/>
        </p:blipFill>
        <p:spPr>
          <a:xfrm>
            <a:off x="7238880" y="4114800"/>
            <a:ext cx="1752840" cy="4255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52280" y="5943600"/>
            <a:ext cx="861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ueremos encontrar la manera más óptima de enviar 2500 de D a 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MODEL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828800" y="1981080"/>
            <a:ext cx="5029200" cy="18194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685800" y="396252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UJETO A LAS RESTRICCIONES DE CONSERVACIÓN DE FLUJO Y SATISFACCIÓN DE LA DEMANDA (Y POSITIVIDAD DE LOS FLUJ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9T06:07:27Z</dcterms:created>
  <dc:creator>Cristian OLATE</dc:creator>
  <dc:description/>
  <dc:language>en-US</dc:language>
  <cp:lastModifiedBy>Cristian OLATE</cp:lastModifiedBy>
  <dcterms:modified xsi:type="dcterms:W3CDTF">2005-01-13T07:14:50Z</dcterms:modified>
  <cp:revision>2</cp:revision>
  <dc:subject/>
  <dc:title>LABORATORIO DE COMPUTACIÓN MATE II.</dc:title>
</cp:coreProperties>
</file>