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837-92DD-4F79-B18E-06AC62F3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B5F-E0AB-428A-BD94-B64CBF96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69C-6100-4093-A8B9-AAA61885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D02-0822-4ED3-91CC-6FEC5656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CFA-C065-45D6-86AC-12CD4204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AD6-077D-42CF-B8B8-FAD7778C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32E-EDED-4970-8DAD-EF20E15A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5D0-D46F-41A1-8A85-D1DB6090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DAC-6103-4E18-B18C-8DA7CAB4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EBA-2469-4219-836F-30C24C4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FCE-13D1-465D-8F17-95EFB1D4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4CF-7045-4E2A-AA28-7FC50BB6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96A1-889E-4F13-9D4E-6CC950748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BORATORIO DE COMPUTACIÓN MATE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ignación a re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 de una asign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457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nemos la red de la figura con los siguientes costos para cada ar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8880" y="1851120"/>
            <a:ext cx="2142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8440" y="1851120"/>
            <a:ext cx="21564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57640" y="1851120"/>
            <a:ext cx="2160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011240" y="1752480"/>
            <a:ext cx="189720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3346560"/>
            <a:ext cx="2160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71720" y="3346560"/>
            <a:ext cx="21456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973080" y="3247920"/>
            <a:ext cx="189864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4943520"/>
            <a:ext cx="2160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71720" y="4943520"/>
            <a:ext cx="21456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973080" y="4844880"/>
            <a:ext cx="189864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1280" y="4943520"/>
            <a:ext cx="2142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124080" y="4844880"/>
            <a:ext cx="189720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1280" y="3346560"/>
            <a:ext cx="2142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24080" y="3247920"/>
            <a:ext cx="189720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5960" y="2068560"/>
            <a:ext cx="1440" cy="1231920"/>
          </a:xfrm>
          <a:custGeom>
            <a:avLst/>
            <a:gdLst/>
            <a:ahLst/>
            <a:rect l="l" t="t" r="r" b="b"/>
            <a:pathLst>
              <a:path w="21" h="889">
                <a:moveTo>
                  <a:pt x="0" y="0"/>
                </a:moveTo>
                <a:cubicBezTo>
                  <a:pt x="7" y="296"/>
                  <a:pt x="21" y="889"/>
                  <a:pt x="21" y="8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920" y="3594240"/>
            <a:ext cx="1800" cy="1292040"/>
          </a:xfrm>
          <a:custGeom>
            <a:avLst/>
            <a:gdLst/>
            <a:ahLst/>
            <a:rect l="l" t="t" r="r" b="b"/>
            <a:pathLst>
              <a:path w="1" h="932">
                <a:moveTo>
                  <a:pt x="0" y="0"/>
                </a:moveTo>
                <a:cubicBezTo>
                  <a:pt x="0" y="311"/>
                  <a:pt x="0" y="621"/>
                  <a:pt x="0" y="93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973080" y="2050560"/>
            <a:ext cx="1935360" cy="11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73080" y="3646080"/>
            <a:ext cx="1935360" cy="139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3594240"/>
            <a:ext cx="1440" cy="1272960"/>
          </a:xfrm>
          <a:custGeom>
            <a:avLst/>
            <a:gdLst/>
            <a:ahLst/>
            <a:rect l="l" t="t" r="r" b="b"/>
            <a:pathLst>
              <a:path w="1" h="910">
                <a:moveTo>
                  <a:pt x="0" y="0"/>
                </a:moveTo>
                <a:cubicBezTo>
                  <a:pt x="0" y="303"/>
                  <a:pt x="0" y="607"/>
                  <a:pt x="0" y="9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89680" y="3537000"/>
            <a:ext cx="1440" cy="1319040"/>
          </a:xfrm>
          <a:custGeom>
            <a:avLst/>
            <a:gdLst/>
            <a:ahLst/>
            <a:rect l="l" t="t" r="r" b="b"/>
            <a:pathLst>
              <a:path w="21" h="952">
                <a:moveTo>
                  <a:pt x="21" y="0"/>
                </a:moveTo>
                <a:cubicBezTo>
                  <a:pt x="14" y="317"/>
                  <a:pt x="0" y="952"/>
                  <a:pt x="0" y="95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60800" y="1951200"/>
            <a:ext cx="1778040" cy="1440"/>
          </a:xfrm>
          <a:custGeom>
            <a:avLst/>
            <a:gdLst/>
            <a:ahLst/>
            <a:rect l="l" t="t" r="r" b="b"/>
            <a:pathLst>
              <a:path w="170" h="1">
                <a:moveTo>
                  <a:pt x="0" y="0"/>
                </a:moveTo>
                <a:cubicBezTo>
                  <a:pt x="57" y="0"/>
                  <a:pt x="113" y="0"/>
                  <a:pt x="1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4720" y="2068560"/>
            <a:ext cx="1800" cy="1177920"/>
          </a:xfrm>
          <a:custGeom>
            <a:avLst/>
            <a:gdLst/>
            <a:ahLst/>
            <a:rect l="l" t="t" r="r" b="b"/>
            <a:pathLst>
              <a:path w="1" h="254">
                <a:moveTo>
                  <a:pt x="0" y="0"/>
                </a:moveTo>
                <a:cubicBezTo>
                  <a:pt x="0" y="85"/>
                  <a:pt x="0" y="169"/>
                  <a:pt x="0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6002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16002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4382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9092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1240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1240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39625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114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114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5105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105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2767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29718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31240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0292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51814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2578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1514520" cy="425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1573200" cy="42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638680" y="2514600"/>
            <a:ext cx="1220760" cy="425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638680" y="3048120"/>
            <a:ext cx="1400400" cy="428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715000" y="3657600"/>
            <a:ext cx="1341360" cy="428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715000" y="4191120"/>
            <a:ext cx="1455840" cy="425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5791320" y="4724280"/>
            <a:ext cx="1514520" cy="42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7391520" y="1447920"/>
            <a:ext cx="1400040" cy="428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7467480" y="1905120"/>
            <a:ext cx="1032120" cy="42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7238880" y="2514600"/>
            <a:ext cx="1808280" cy="425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7238880" y="3048120"/>
            <a:ext cx="1751040" cy="42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7391520" y="3581280"/>
            <a:ext cx="1090440" cy="42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7238880" y="4114800"/>
            <a:ext cx="1752840" cy="42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280" y="59436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remos encontrar la manera más óptima de enviar 2500 de D a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ODEL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029200" cy="181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3962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A LAS RESTRICCIONES DE CONSERVACIÓN DE FLUJO Y SATISFACCIÓN DE LA DEMANDA (Y POSITIVIDAD DE LOS FLUJ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06:07:27Z</dcterms:created>
  <dc:creator>Cristian OLATE</dc:creator>
  <dc:description/>
  <dc:language>en-US</dc:language>
  <cp:lastModifiedBy>Cristian OLATE</cp:lastModifiedBy>
  <dcterms:modified xsi:type="dcterms:W3CDTF">2005-01-13T07:14:50Z</dcterms:modified>
  <cp:revision>2</cp:revision>
  <dc:subject/>
  <dc:title>LABORATORIO DE COMPUTACIÓN MATE II.</dc:title>
</cp:coreProperties>
</file>