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980D-7471-4323-A99A-62CE0E9EED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iles de automovilistas en las calles, decenas o incluso cientos de rutas disponibles entre dos puntos de una ciudad, tacos... innumerables variables intervienen en cómo las personas escogen una ruta para desplazarse entre dos zonas. A muchos (especialmente a quienes son responsables del tráfico vehicular en las ciudades) les interesaría saber cómo funcionarán las calles, cuántos autos circularán por tal o cual ruta. La gran interrogante es: ¿cómo modelar esta situación?. ¿Cómo podemos saber dónde habrá más congestión para poder tomar medidas que la atenuen?. A continuación veremos una simplificación de la teoría utilizada para respoder a estas preguntas, y resolveremos el problema de asignación de fluj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3F6-BB69-4167-A9F7-B0AFD98D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9FF-0E9C-4376-9D65-8CC40530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BA6-1871-4114-9941-59C292A4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1958-193F-49B5-8C20-463291AB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5DA-B9E6-4E1B-8C60-61943303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AC2-46AF-4954-8013-73D1C1B2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1FC-D13C-44A1-8DFC-3A2A84E5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42B-354E-483B-8BAE-B15C7770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AC6-86AF-49F3-B4B6-37054C0A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7B3C-F367-4275-AC32-8621B7DC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3A5-FA3A-49A7-A24F-4AE26896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CAE-843F-4032-AAE8-6BAE5CC7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B898-52BE-4BD7-8DF6-308999EF8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7521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BORATORIO DE COMPUTACIÓN MATEMÁTICAS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es de tráns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la red de la figura, si los costos de los arcos en azul s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circulan 20 veh/h (7), 15 veh/h (8), 9 veh/h (9) y 55 veh/h (11), ¿cuál es el co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62520" y="2971800"/>
            <a:ext cx="4952520" cy="3505320"/>
            <a:chOff x="3962520" y="2971800"/>
            <a:chExt cx="4952520" cy="3505320"/>
          </a:xfrm>
        </p:grpSpPr>
        <p:sp>
          <p:nvSpPr>
            <p:cNvPr id="116" name=""/>
            <p:cNvSpPr/>
            <p:nvPr/>
          </p:nvSpPr>
          <p:spPr>
            <a:xfrm>
              <a:off x="4378320" y="3255480"/>
              <a:ext cx="19584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5720" y="3255480"/>
              <a:ext cx="19764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13480" y="3255480"/>
              <a:ext cx="19764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609440" y="3169440"/>
              <a:ext cx="1736280" cy="172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3400" y="4553640"/>
              <a:ext cx="19728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2240" y="4553640"/>
              <a:ext cx="19584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574160" y="4467240"/>
              <a:ext cx="1738080" cy="172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3400" y="5939640"/>
              <a:ext cx="197280" cy="17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12240" y="5939640"/>
              <a:ext cx="195840" cy="17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574160" y="5853240"/>
              <a:ext cx="1738080" cy="172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80360" y="5939640"/>
              <a:ext cx="195840" cy="17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543360" y="5853240"/>
              <a:ext cx="1736640" cy="172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80360" y="4553640"/>
              <a:ext cx="19584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543360" y="4467240"/>
              <a:ext cx="1736640" cy="172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4240" y="3444480"/>
              <a:ext cx="1440" cy="1069200"/>
            </a:xfrm>
            <a:custGeom>
              <a:avLst/>
              <a:gdLst/>
              <a:ahLst/>
              <a:rect l="l" t="t" r="r" b="b"/>
              <a:pathLst>
                <a:path w="21" h="889">
                  <a:moveTo>
                    <a:pt x="0" y="0"/>
                  </a:moveTo>
                  <a:cubicBezTo>
                    <a:pt x="7" y="296"/>
                    <a:pt x="21" y="889"/>
                    <a:pt x="21" y="88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65080" y="4768560"/>
              <a:ext cx="1440" cy="1121040"/>
            </a:xfrm>
            <a:custGeom>
              <a:avLst/>
              <a:gdLst/>
              <a:ahLst/>
              <a:rect l="l" t="t" r="r" b="b"/>
              <a:pathLst>
                <a:path w="1" h="932">
                  <a:moveTo>
                    <a:pt x="0" y="0"/>
                  </a:moveTo>
                  <a:cubicBezTo>
                    <a:pt x="0" y="311"/>
                    <a:pt x="0" y="621"/>
                    <a:pt x="0" y="93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4160" y="3428640"/>
              <a:ext cx="1771200" cy="103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574160" y="4813920"/>
              <a:ext cx="1771200" cy="1212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4040" y="4768560"/>
              <a:ext cx="1080" cy="1104480"/>
            </a:xfrm>
            <a:custGeom>
              <a:avLst/>
              <a:gdLst/>
              <a:ahLst/>
              <a:rect l="l" t="t" r="r" b="b"/>
              <a:pathLst>
                <a:path w="1" h="910">
                  <a:moveTo>
                    <a:pt x="0" y="0"/>
                  </a:moveTo>
                  <a:cubicBezTo>
                    <a:pt x="0" y="303"/>
                    <a:pt x="0" y="607"/>
                    <a:pt x="0" y="9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42640" y="4718880"/>
              <a:ext cx="1440" cy="1144800"/>
            </a:xfrm>
            <a:custGeom>
              <a:avLst/>
              <a:gdLst/>
              <a:ahLst/>
              <a:rect l="l" t="t" r="r" b="b"/>
              <a:pathLst>
                <a:path w="21" h="952">
                  <a:moveTo>
                    <a:pt x="21" y="0"/>
                  </a:moveTo>
                  <a:cubicBezTo>
                    <a:pt x="14" y="317"/>
                    <a:pt x="0" y="952"/>
                    <a:pt x="0" y="95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76840" y="3342600"/>
              <a:ext cx="1627560" cy="1080"/>
            </a:xfrm>
            <a:custGeom>
              <a:avLst/>
              <a:gdLst/>
              <a:ahLst/>
              <a:rect l="l" t="t" r="r" b="b"/>
              <a:pathLst>
                <a:path w="170" h="1">
                  <a:moveTo>
                    <a:pt x="0" y="0"/>
                  </a:moveTo>
                  <a:cubicBezTo>
                    <a:pt x="57" y="0"/>
                    <a:pt x="113" y="0"/>
                    <a:pt x="17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9760" y="3444480"/>
              <a:ext cx="1080" cy="1022040"/>
            </a:xfrm>
            <a:custGeom>
              <a:avLst/>
              <a:gdLst/>
              <a:ahLst/>
              <a:rect l="l" t="t" r="r" b="b"/>
              <a:pathLst>
                <a:path w="1" h="254">
                  <a:moveTo>
                    <a:pt x="0" y="0"/>
                  </a:moveTo>
                  <a:cubicBezTo>
                    <a:pt x="0" y="85"/>
                    <a:pt x="0" y="169"/>
                    <a:pt x="0" y="2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7680" y="3037680"/>
              <a:ext cx="27900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1200" y="3037680"/>
              <a:ext cx="27900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71680" y="3765240"/>
              <a:ext cx="27900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6200" y="3897720"/>
              <a:ext cx="27864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8200" y="3831480"/>
              <a:ext cx="27900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520" y="4360320"/>
              <a:ext cx="2786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41040" y="4360320"/>
              <a:ext cx="2786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02200" y="5154120"/>
              <a:ext cx="2786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7840" y="5088240"/>
              <a:ext cx="27900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3520" y="5220360"/>
              <a:ext cx="41832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99040" y="5220360"/>
              <a:ext cx="41832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17840" y="6080040"/>
              <a:ext cx="41832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01360" y="6080040"/>
              <a:ext cx="41832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02200" y="2971800"/>
              <a:ext cx="34848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64360" y="2971800"/>
              <a:ext cx="3488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87560" y="2971800"/>
              <a:ext cx="34848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2520" y="4492800"/>
              <a:ext cx="34884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4360" y="4228200"/>
              <a:ext cx="3488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66200" y="4360320"/>
              <a:ext cx="3488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2520" y="6013800"/>
              <a:ext cx="3488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64360" y="6146280"/>
              <a:ext cx="3488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87560" y="6212520"/>
              <a:ext cx="34848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2514600" cy="556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806840" cy="557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2055960" cy="557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066680" y="5486400"/>
            <a:ext cx="27482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es de automovilistas en las c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s (en tiempo) al usar c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das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esidad de modelar esta situación (para diseño de autopistas, normativa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OS BÁSI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d de Tránsito; conjunto e calles e intersecciones. Ejemplo: el cuadrant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ameda-McIver-Sto. Domingo-Band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ación de una Red: GRAF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81720" y="2979720"/>
            <a:ext cx="2514600" cy="825480"/>
          </a:xfrm>
          <a:prstGeom prst="borderCallout1">
            <a:avLst>
              <a:gd name="adj1" fmla="val 18750"/>
              <a:gd name="adj2" fmla="val -8333"/>
              <a:gd name="adj3" fmla="val -71708"/>
              <a:gd name="adj4" fmla="val -361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O: representa una inters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69120" y="4387680"/>
            <a:ext cx="2546280" cy="1557000"/>
          </a:xfrm>
          <a:prstGeom prst="borderCallout1">
            <a:avLst>
              <a:gd name="adj1" fmla="val 18750"/>
              <a:gd name="adj2" fmla="val -8333"/>
              <a:gd name="adj3" fmla="val 29865"/>
              <a:gd name="adj4" fmla="val -381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O: representa una calle o tramo de calle (tiene sentid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1981080"/>
            <a:ext cx="5410440" cy="4038840"/>
            <a:chOff x="609480" y="1981080"/>
            <a:chExt cx="5410440" cy="4038840"/>
          </a:xfrm>
        </p:grpSpPr>
        <p:sp>
          <p:nvSpPr>
            <p:cNvPr id="58" name=""/>
            <p:cNvSpPr/>
            <p:nvPr/>
          </p:nvSpPr>
          <p:spPr>
            <a:xfrm>
              <a:off x="1063800" y="2308320"/>
              <a:ext cx="2142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13000" y="2308320"/>
              <a:ext cx="2160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62560" y="2308320"/>
              <a:ext cx="2160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316160" y="2209680"/>
              <a:ext cx="1896840" cy="19872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25640" y="3803760"/>
              <a:ext cx="21564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76640" y="3803760"/>
              <a:ext cx="2142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278000" y="3705120"/>
              <a:ext cx="1898640" cy="19872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25640" y="5400720"/>
              <a:ext cx="21564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76640" y="5400720"/>
              <a:ext cx="2142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278000" y="5302080"/>
              <a:ext cx="1898640" cy="19872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26200" y="5400720"/>
              <a:ext cx="2142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29000" y="5302080"/>
              <a:ext cx="1897200" cy="19872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26200" y="3803760"/>
              <a:ext cx="2142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429000" y="3705120"/>
              <a:ext cx="1897200" cy="19872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90520" y="2525760"/>
              <a:ext cx="1800" cy="1231920"/>
            </a:xfrm>
            <a:custGeom>
              <a:avLst/>
              <a:gdLst/>
              <a:ahLst/>
              <a:rect l="l" t="t" r="r" b="b"/>
              <a:pathLst>
                <a:path w="21" h="889">
                  <a:moveTo>
                    <a:pt x="0" y="0"/>
                  </a:moveTo>
                  <a:cubicBezTo>
                    <a:pt x="7" y="296"/>
                    <a:pt x="21" y="889"/>
                    <a:pt x="21" y="88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58840" y="4051440"/>
              <a:ext cx="1800" cy="1292040"/>
            </a:xfrm>
            <a:custGeom>
              <a:avLst/>
              <a:gdLst/>
              <a:ahLst/>
              <a:rect l="l" t="t" r="r" b="b"/>
              <a:pathLst>
                <a:path w="1" h="932">
                  <a:moveTo>
                    <a:pt x="0" y="0"/>
                  </a:moveTo>
                  <a:cubicBezTo>
                    <a:pt x="0" y="311"/>
                    <a:pt x="0" y="621"/>
                    <a:pt x="0" y="93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278000" y="2507760"/>
              <a:ext cx="1935000" cy="11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278000" y="4103280"/>
              <a:ext cx="1935000" cy="1397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76720" y="4051440"/>
              <a:ext cx="1440" cy="1272960"/>
            </a:xfrm>
            <a:custGeom>
              <a:avLst/>
              <a:gdLst/>
              <a:ahLst/>
              <a:rect l="l" t="t" r="r" b="b"/>
              <a:pathLst>
                <a:path w="1" h="910">
                  <a:moveTo>
                    <a:pt x="0" y="0"/>
                  </a:moveTo>
                  <a:cubicBezTo>
                    <a:pt x="0" y="303"/>
                    <a:pt x="0" y="607"/>
                    <a:pt x="0" y="9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94240" y="3994200"/>
              <a:ext cx="1800" cy="1319040"/>
            </a:xfrm>
            <a:custGeom>
              <a:avLst/>
              <a:gdLst/>
              <a:ahLst/>
              <a:rect l="l" t="t" r="r" b="b"/>
              <a:pathLst>
                <a:path w="21" h="952">
                  <a:moveTo>
                    <a:pt x="21" y="0"/>
                  </a:moveTo>
                  <a:cubicBezTo>
                    <a:pt x="14" y="317"/>
                    <a:pt x="0" y="952"/>
                    <a:pt x="0" y="95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65360" y="2408400"/>
              <a:ext cx="1778040" cy="1440"/>
            </a:xfrm>
            <a:custGeom>
              <a:avLst/>
              <a:gdLst/>
              <a:ahLst/>
              <a:rect l="l" t="t" r="r" b="b"/>
              <a:pathLst>
                <a:path w="170" h="1">
                  <a:moveTo>
                    <a:pt x="0" y="0"/>
                  </a:moveTo>
                  <a:cubicBezTo>
                    <a:pt x="57" y="0"/>
                    <a:pt x="113" y="0"/>
                    <a:pt x="17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89640" y="2525760"/>
              <a:ext cx="1440" cy="1177920"/>
            </a:xfrm>
            <a:custGeom>
              <a:avLst/>
              <a:gdLst/>
              <a:ahLst/>
              <a:rect l="l" t="t" r="r" b="b"/>
              <a:pathLst>
                <a:path w="1" h="254">
                  <a:moveTo>
                    <a:pt x="0" y="0"/>
                  </a:moveTo>
                  <a:cubicBezTo>
                    <a:pt x="0" y="85"/>
                    <a:pt x="0" y="169"/>
                    <a:pt x="0" y="2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7400" y="205740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205740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8080" y="28954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3048120"/>
              <a:ext cx="304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29200" y="297180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35812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1120" y="35812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44956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41972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2680" y="45720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00600" y="45720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5562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8480" y="5562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1981080"/>
              <a:ext cx="3808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24080" y="1981080"/>
              <a:ext cx="38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4120" y="1981080"/>
              <a:ext cx="3808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480" y="3733920"/>
              <a:ext cx="3812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3429000"/>
              <a:ext cx="38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581280"/>
              <a:ext cx="38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480" y="5486400"/>
              <a:ext cx="38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4080" y="5638680"/>
              <a:ext cx="38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4120" y="5715000"/>
              <a:ext cx="3808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OS BÁSI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O: son las flechas que representan c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OD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on los círculos, que representan una intersec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junto de arcos que al recorrerlos une dos nodos (ruta 8-9-7-11 en la figura). Para dos nodos pueden existir 0, 1 o más rutas (entre D e I, ¿cuántas hay?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OS BÁSI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EN ARCO: cantidad de vehículos por unidad de tiempo que circulan por un arco (se mide en veh/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EN RUTA: cantidad de vehículos por unidad de tiempo que circulan por una ruta (se mide en veh/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La relación FLUJO EN ARCO - FLUJO EN RUTA?: el flujo de un arco es la suma de los flujos en ruta de todas las rutas que lo utiliz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OS BÁSICOS: COS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r una red tiene un costo que se mide en tiempo perdido en la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sto de una red es la suma de los costos que tiene cada usuario al transitar por cada uno de los arcos de la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conocemos el flujo de cada arco de la red, conoceremos el costo (pues es función del fluj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OS BÁSICOS: COS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sto es una función del flujo f (lo que me demoro en viajar por una calle depende de cuántos más estén en la cal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ser rea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a y diferenc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ecreciente (a más autos no puedo andar más rápi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 LINE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unción de costo lineal es la más simple (pero la menos realista): el costo de un arco N, en función del flujo f de ese arco será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563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5:33:31Z</dcterms:created>
  <dc:creator>Cristian OLATE</dc:creator>
  <dc:description/>
  <dc:language>en-US</dc:language>
  <cp:lastModifiedBy>Cristian OLATE</cp:lastModifiedBy>
  <dcterms:modified xsi:type="dcterms:W3CDTF">2005-01-13T07:04:02Z</dcterms:modified>
  <cp:revision>2</cp:revision>
  <dc:subject/>
  <dc:title>LABORATORIO DE COMPUTACIÓN MATEMÁTICAS II</dc:title>
</cp:coreProperties>
</file>