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41EB-B292-4014-AED1-3CA9D2A2F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75B6-250D-4EC9-9D4C-7696D9D1F4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E321-D404-490B-8837-C7650C706A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21FDE-AC8D-49C4-BFE7-E919FAF023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4D8CB-6D02-447F-BB90-CE773A017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78A4-630A-408D-9F6B-39BAFB7BC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14211-19C1-46F2-843E-342DCDAEE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F66F4-0B4E-434B-AAA9-30358395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8D7FB-C867-45BD-88E5-596C37E1E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027-F748-4C8A-AFA1-D0D17CBBC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FC70-8293-433B-ACAD-A714FDF5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4BF04-E046-48B1-A494-2F07802D6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08BC9-0B19-448E-AE3A-82E1128884C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04920" y="228600"/>
            <a:ext cx="8534160" cy="649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 de Cs. Físicas y Matemáticas e ICBM Fac. de Medicin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Times New Roman"/>
              </a:rPr>
              <a:t>Curso Fisiología Human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Profesor encargado : Guillermo Ormeño 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ocentes  Dra Carmen Palazzi Figuero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 Fernando Valdé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Monitores:         Sr  Cristian Falcón B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. Daniel Carvajal H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  Daniel Cortés G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 Cristhian  Flores A.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Sr  Alberto Covarrubias 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Ayudante Técnico: Sr. Julio Quez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Fowler%20A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Fowler%20B" descr=""/>
          <p:cNvPicPr/>
          <p:nvPr/>
        </p:nvPicPr>
        <p:blipFill>
          <a:blip r:embed="rId1"/>
          <a:stretch/>
        </p:blipFill>
        <p:spPr>
          <a:xfrm>
            <a:off x="0" y="569880"/>
            <a:ext cx="9144000" cy="571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Ventilacionconxenon" descr=""/>
          <p:cNvPicPr/>
          <p:nvPr/>
        </p:nvPicPr>
        <p:blipFill>
          <a:blip r:embed="rId1"/>
          <a:stretch/>
        </p:blipFill>
        <p:spPr>
          <a:xfrm>
            <a:off x="0" y="716040"/>
            <a:ext cx="914400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membrabarespiratoria" descr=""/>
          <p:cNvPicPr/>
          <p:nvPr/>
        </p:nvPicPr>
        <p:blipFill>
          <a:blip r:embed="rId1"/>
          <a:stretch/>
        </p:blipFill>
        <p:spPr>
          <a:xfrm>
            <a:off x="0" y="863640"/>
            <a:ext cx="9144000" cy="513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captaciongases" descr=""/>
          <p:cNvPicPr/>
          <p:nvPr/>
        </p:nvPicPr>
        <p:blipFill>
          <a:blip r:embed="rId1"/>
          <a:stretch/>
        </p:blipFill>
        <p:spPr>
          <a:xfrm>
            <a:off x="457200" y="-82440"/>
            <a:ext cx="8077320" cy="689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difuionoxigenonormalypatologica" descr=""/>
          <p:cNvPicPr/>
          <p:nvPr/>
        </p:nvPicPr>
        <p:blipFill>
          <a:blip r:embed="rId1"/>
          <a:stretch/>
        </p:blipFill>
        <p:spPr>
          <a:xfrm>
            <a:off x="1611360" y="0"/>
            <a:ext cx="59230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vef1" descr=""/>
          <p:cNvPicPr/>
          <p:nvPr/>
        </p:nvPicPr>
        <p:blipFill>
          <a:blip r:embed="rId1"/>
          <a:stretch/>
        </p:blipFill>
        <p:spPr>
          <a:xfrm>
            <a:off x="0" y="609480"/>
            <a:ext cx="9144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obstruccionyrestriccion" descr=""/>
          <p:cNvPicPr/>
          <p:nvPr/>
        </p:nvPicPr>
        <p:blipFill>
          <a:blip r:embed="rId1"/>
          <a:stretch/>
        </p:blipFill>
        <p:spPr>
          <a:xfrm>
            <a:off x="0" y="1305000"/>
            <a:ext cx="9144000" cy="424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turbulencias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resiones" descr=""/>
          <p:cNvPicPr/>
          <p:nvPr/>
        </p:nvPicPr>
        <p:blipFill>
          <a:blip r:embed="rId1"/>
          <a:stretch/>
        </p:blipFill>
        <p:spPr>
          <a:xfrm>
            <a:off x="1066680" y="66600"/>
            <a:ext cx="7010640" cy="672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304920" y="685800"/>
            <a:ext cx="830556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. de Cs. Físicas y Matemáticas e ICBM Fac.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siología   Cardiovascu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a Carmen Palazzi Figue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quimiorrecepcion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O2arterial" descr=""/>
          <p:cNvPicPr/>
          <p:nvPr/>
        </p:nvPicPr>
        <p:blipFill>
          <a:blip r:embed="rId1"/>
          <a:stretch/>
        </p:blipFill>
        <p:spPr>
          <a:xfrm>
            <a:off x="0" y="554040"/>
            <a:ext cx="9144000" cy="574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28600" y="685800"/>
            <a:ext cx="8381880" cy="47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ac. de Cs. Físicas y Matemáticas e ICBM Fac. 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Fisiología  Respiratori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Dr. Fernando Valdés Gonzále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200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viasrespiratorias" descr=""/>
          <p:cNvPicPr/>
          <p:nvPr/>
        </p:nvPicPr>
        <p:blipFill>
          <a:blip r:embed="rId1"/>
          <a:stretch/>
        </p:blipFill>
        <p:spPr>
          <a:xfrm>
            <a:off x="1890720" y="0"/>
            <a:ext cx="5362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alveolos" descr=""/>
          <p:cNvPicPr/>
          <p:nvPr/>
        </p:nvPicPr>
        <p:blipFill>
          <a:blip r:embed="rId1"/>
          <a:stretch/>
        </p:blipFill>
        <p:spPr>
          <a:xfrm>
            <a:off x="380880" y="316080"/>
            <a:ext cx="8305920" cy="617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volumenes" descr=""/>
          <p:cNvPicPr/>
          <p:nvPr/>
        </p:nvPicPr>
        <p:blipFill>
          <a:blip r:embed="rId1"/>
          <a:stretch/>
        </p:blipFill>
        <p:spPr>
          <a:xfrm>
            <a:off x="0" y="566640"/>
            <a:ext cx="9144000" cy="572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espirometria" descr=""/>
          <p:cNvPicPr/>
          <p:nvPr/>
        </p:nvPicPr>
        <p:blipFill>
          <a:blip r:embed="rId1"/>
          <a:stretch/>
        </p:blipFill>
        <p:spPr>
          <a:xfrm>
            <a:off x="0" y="673200"/>
            <a:ext cx="9144000" cy="55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RF" descr=""/>
          <p:cNvPicPr/>
          <p:nvPr/>
        </p:nvPicPr>
        <p:blipFill>
          <a:blip r:embed="rId1"/>
          <a:stretch/>
        </p:blipFill>
        <p:spPr>
          <a:xfrm>
            <a:off x="0" y="477720"/>
            <a:ext cx="9144000" cy="590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volumencorriente" descr=""/>
          <p:cNvPicPr/>
          <p:nvPr/>
        </p:nvPicPr>
        <p:blipFill>
          <a:blip r:embed="rId1"/>
          <a:stretch/>
        </p:blipFill>
        <p:spPr>
          <a:xfrm>
            <a:off x="0" y="760320"/>
            <a:ext cx="9144000" cy="53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7T13:30:58Z</dcterms:created>
  <dc:creator>Guillermo Ormeño</dc:creator>
  <dc:description/>
  <dc:language>en-US</dc:language>
  <cp:lastModifiedBy>Guillermo Ormeño</cp:lastModifiedBy>
  <dcterms:modified xsi:type="dcterms:W3CDTF">2005-01-05T23:19:55Z</dcterms:modified>
  <cp:revision>11</cp:revision>
  <dc:subject/>
  <dc:title>Sin título de diapositiva</dc:title>
</cp:coreProperties>
</file>