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wmf" ContentType="image/x-wmf"/>
  <Override PartName="/ppt/embeddings/oleObject1.pptx" ContentType="application/vnd.openxmlformats-officedocument.presentationml.presentation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85EC-36F2-4F46-869D-E2EB0BF319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426F1-9AFB-4146-B082-23414063C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75CC-75BF-42EB-8FE4-80F2973484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1D36-016F-45C2-AC71-489A8439FC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004B-1B44-4EA5-92FD-8C48F73EF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BA909-00D1-47E3-9CEF-8180F2A11A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869F-6251-4814-9847-53B205AFD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1B363-40D0-49EE-8B09-876B71CE5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FE721-29C2-49CB-A541-EB978FEEC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3A3A5-3B1F-4B26-AD27-606A8CA8D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79316-A60C-4E47-8849-53ED3C011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48177-6F67-413C-A8F7-4C9055DF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371D9-5D0B-4E6A-A84B-1B2B721BB0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logo%20U" descr=""/>
          <p:cNvPicPr/>
          <p:nvPr/>
        </p:nvPicPr>
        <p:blipFill>
          <a:blip r:embed="rId1"/>
          <a:stretch/>
        </p:blipFill>
        <p:spPr>
          <a:xfrm>
            <a:off x="1066680" y="228600"/>
            <a:ext cx="1295640" cy="217188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2971800" y="914400"/>
            <a:ext cx="45720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scuela de Ver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ac-de Cs.Físicas y Matemát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ICBM Facultad de Medici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533520" y="2666880"/>
            <a:ext cx="8153280" cy="101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CURSO FISIOLOGIA HUMANA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4" name=""/>
          <p:cNvSpPr/>
          <p:nvPr/>
        </p:nvSpPr>
        <p:spPr>
          <a:xfrm>
            <a:off x="685800" y="4038480"/>
            <a:ext cx="7924680" cy="232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UNCIONES CARDIAVASCULAR Y RESPIRATO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Profesores Guillermo Ormeño 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Carmen Palazzi 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Fernando Valdes 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es-ES_tradnl" sz="2400" spc="-1" strike="noStrike">
                <a:solidFill>
                  <a:srgbClr val="000000"/>
                </a:solidFill>
                <a:latin typeface="Times New Roman"/>
              </a:rPr>
              <a:t>2 0 0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14400" y="380880"/>
            <a:ext cx="7543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cpf%201" descr=""/>
          <p:cNvPicPr/>
          <p:nvPr/>
        </p:nvPicPr>
        <p:blipFill>
          <a:blip r:embed="rId1"/>
          <a:stretch/>
        </p:blipFill>
        <p:spPr>
          <a:xfrm>
            <a:off x="0" y="201600"/>
            <a:ext cx="9144000" cy="645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cpf%202" descr=""/>
          <p:cNvPicPr/>
          <p:nvPr/>
        </p:nvPicPr>
        <p:blipFill>
          <a:blip r:embed="rId1"/>
          <a:stretch/>
        </p:blipFill>
        <p:spPr>
          <a:xfrm>
            <a:off x="914400" y="125280"/>
            <a:ext cx="7315200" cy="660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cpf%203" descr=""/>
          <p:cNvPicPr/>
          <p:nvPr/>
        </p:nvPicPr>
        <p:blipFill>
          <a:blip r:embed="rId1"/>
          <a:stretch/>
        </p:blipFill>
        <p:spPr>
          <a:xfrm>
            <a:off x="1522440" y="536400"/>
            <a:ext cx="6097680" cy="578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cpf%204" descr=""/>
          <p:cNvPicPr/>
          <p:nvPr/>
        </p:nvPicPr>
        <p:blipFill>
          <a:blip r:embed="rId1"/>
          <a:stretch/>
        </p:blipFill>
        <p:spPr>
          <a:xfrm>
            <a:off x="1522440" y="493560"/>
            <a:ext cx="6097680" cy="586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cpf%205" descr=""/>
          <p:cNvPicPr/>
          <p:nvPr/>
        </p:nvPicPr>
        <p:blipFill>
          <a:blip r:embed="rId1"/>
          <a:stretch/>
        </p:blipFill>
        <p:spPr>
          <a:xfrm>
            <a:off x="609480" y="135000"/>
            <a:ext cx="7925040" cy="65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cpf%206A" descr=""/>
          <p:cNvPicPr/>
          <p:nvPr/>
        </p:nvPicPr>
        <p:blipFill>
          <a:blip r:embed="rId1"/>
          <a:stretch/>
        </p:blipFill>
        <p:spPr>
          <a:xfrm>
            <a:off x="0" y="236520"/>
            <a:ext cx="9144000" cy="638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3240"/>
          <a:ext cx="9144000" cy="685008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3240"/>
                    <a:ext cx="9144000" cy="685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5T22:18:11Z</dcterms:created>
  <dc:creator>Guillermo Ormeño</dc:creator>
  <dc:description/>
  <dc:language>en-US</dc:language>
  <cp:lastModifiedBy>Guillermo Ormeño</cp:lastModifiedBy>
  <dcterms:modified xsi:type="dcterms:W3CDTF">2005-01-05T22:37:31Z</dcterms:modified>
  <cp:revision>2</cp:revision>
  <dc:subject/>
  <dc:title>Sin título de diapositiva</dc:title>
</cp:coreProperties>
</file>