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EE4-63B6-4DD8-BE2D-8A0FC2C2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C6D-F679-4304-9BFF-5085CB5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82C-05CD-4779-A231-B5B9AD50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3A8-E785-462C-8BEC-47A45D64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DE2-A978-498B-8C78-D3185A98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B7F-8332-4957-8FAE-C41C2377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20D-F473-4599-BB75-6F5E231A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634-AD89-42E2-9E73-D6C68C0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F3F-78C2-4719-98CB-FF9B81E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4AD-8824-41E6-9A0D-BF5147E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96E-43EF-4FC0-8197-D2762EB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390-D7FA-408D-B42A-0F395F0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87D9-D458-4E37-901B-57AE3F46E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%20U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217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914400"/>
            <a:ext cx="4572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-de Cs.Físicas y Mate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CBM Facultad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2666880"/>
            <a:ext cx="815328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RSO FISIOLOGIA HUMAN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038480"/>
            <a:ext cx="792468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NCIONES CARDIAVASCULAR Y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esores Guillermo Ormeño 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men Palazz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rnando Valdes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0 0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pf%201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pf%202" descr=""/>
          <p:cNvPicPr/>
          <p:nvPr/>
        </p:nvPicPr>
        <p:blipFill>
          <a:blip r:embed="rId1"/>
          <a:stretch/>
        </p:blipFill>
        <p:spPr>
          <a:xfrm>
            <a:off x="914400" y="125280"/>
            <a:ext cx="7315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pf%203" descr=""/>
          <p:cNvPicPr/>
          <p:nvPr/>
        </p:nvPicPr>
        <p:blipFill>
          <a:blip r:embed="rId1"/>
          <a:stretch/>
        </p:blipFill>
        <p:spPr>
          <a:xfrm>
            <a:off x="1522440" y="536400"/>
            <a:ext cx="609768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pf%204" descr=""/>
          <p:cNvPicPr/>
          <p:nvPr/>
        </p:nvPicPr>
        <p:blipFill>
          <a:blip r:embed="rId1"/>
          <a:stretch/>
        </p:blipFill>
        <p:spPr>
          <a:xfrm>
            <a:off x="1522440" y="493560"/>
            <a:ext cx="609768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pf%205" descr=""/>
          <p:cNvPicPr/>
          <p:nvPr/>
        </p:nvPicPr>
        <p:blipFill>
          <a:blip r:embed="rId1"/>
          <a:stretch/>
        </p:blipFill>
        <p:spPr>
          <a:xfrm>
            <a:off x="609480" y="135000"/>
            <a:ext cx="79250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pf%206A" descr=""/>
          <p:cNvPicPr/>
          <p:nvPr/>
        </p:nvPicPr>
        <p:blipFill>
          <a:blip r:embed="rId1"/>
          <a:stretch/>
        </p:blipFill>
        <p:spPr>
          <a:xfrm>
            <a:off x="0" y="23652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2:18:11Z</dcterms:created>
  <dc:creator>Guillermo Ormeño</dc:creator>
  <dc:description/>
  <dc:language>en-US</dc:language>
  <cp:lastModifiedBy>Guillermo Ormeño</cp:lastModifiedBy>
  <dcterms:modified xsi:type="dcterms:W3CDTF">2005-01-05T22:37:31Z</dcterms:modified>
  <cp:revision>2</cp:revision>
  <dc:subject/>
  <dc:title>Sin título de diapositiva</dc:title>
</cp:coreProperties>
</file>