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B11-1D12-4069-BC24-37C84853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240-85F5-46A0-9895-790AC1ED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60D-DC1B-446E-9909-A73EADEF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DC4-E3D0-405C-9A0E-825BAA50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EB2-F0EB-4433-BBE6-34CFB687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E7F-1FC1-430C-A415-3692BF4F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4D7-B7D0-4CDC-9752-081F9DC0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50E-037B-4BD4-AED7-374F5853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B8D-E470-4C3D-A86B-257B515E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C44-D8E0-4106-8425-F382799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C13-9917-4F12-BE6E-2C0FCF5A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DC0-3F12-48D1-9199-B300790D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47CA-1277-48D6-92C0-7FBFA0F84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apm.pt/enc_educa/c_primeiro/imagens/b_correr.gif&amp;imgrefurl=http://www.apm.pt/enc_educa/c_primeiro/&amp;h=288&amp;w=243&amp;sz=10&amp;tbnid=abXcsYP1ar8J:&amp;tbnh=109&amp;tbnw=92&amp;start=10&amp;prev=/images%3Fq%3Dcorrer%26hl%3Des%26lr%3D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6192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99"/>
                </a:solidFill>
                <a:latin typeface="Arial"/>
              </a:rPr>
              <a:t>¿</a:t>
            </a:r>
            <a:r>
              <a:rPr b="0" i="1" lang="es-MX" sz="2600" spc="-1" strike="noStrike">
                <a:solidFill>
                  <a:srgbClr val="333399"/>
                </a:solidFill>
                <a:latin typeface="Arial"/>
              </a:rPr>
              <a:t>Velocidad constan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i la velocidad de un móvil es constante, eso implica que la raz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s constante, por lo que podemos escribi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84360" y="3559320"/>
            <a:ext cx="4751640" cy="2606400"/>
            <a:chOff x="2484360" y="3559320"/>
            <a:chExt cx="4751640" cy="260640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484360" y="3559320"/>
                  <a:ext cx="4751640" cy="10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987640" y="5584680"/>
                  <a:ext cx="36720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r lo demás, si consideramos que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es una “variable muda”, entonces consideremos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r lo cual la ecuación (1) quedará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940360" y="1555920"/>
                <a:ext cx="328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47640" y="2598840"/>
            <a:ext cx="7302240" cy="3277440"/>
            <a:chOff x="1547640" y="2598840"/>
            <a:chExt cx="7302240" cy="327744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3348000" y="2598840"/>
                  <a:ext cx="74124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1547640" y="4592520"/>
                  <a:ext cx="2860920" cy="117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5288760" y="4502160"/>
              <a:ext cx="356112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Posición de una partícula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que se mueve con velocida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constante</a:t>
              </a:r>
              <a:r>
                <a:rPr b="0" i="1" lang="es-ES" sz="21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en un instante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cualquiera de tiemp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 un gráfico posición versus tiempo (x/t), el movimiento de una partícula que se mueve con velocidad constante ser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940360" y="1555920"/>
                <a:ext cx="328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47200" y="2997360"/>
            <a:ext cx="4899960" cy="3096360"/>
            <a:chOff x="2347200" y="2997360"/>
            <a:chExt cx="4899960" cy="3096360"/>
          </a:xfrm>
        </p:grpSpPr>
        <p:grpSp>
          <p:nvGrpSpPr>
            <p:cNvPr id="124" name=""/>
            <p:cNvGrpSpPr/>
            <p:nvPr/>
          </p:nvGrpSpPr>
          <p:grpSpPr>
            <a:xfrm>
              <a:off x="2347200" y="2997360"/>
              <a:ext cx="4899960" cy="3096360"/>
              <a:chOff x="2347200" y="2997360"/>
              <a:chExt cx="4899960" cy="3096360"/>
            </a:xfrm>
          </p:grpSpPr>
          <p:sp>
            <p:nvSpPr>
              <p:cNvPr id="125" name=""/>
              <p:cNvSpPr/>
              <p:nvPr/>
            </p:nvSpPr>
            <p:spPr>
              <a:xfrm>
                <a:off x="3623040" y="5688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39200" y="5688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71640" y="5732640"/>
                <a:ext cx="410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2771640" y="3068640"/>
                <a:ext cx="0" cy="26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17440" y="299736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(t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02360" y="55371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708360" y="4581360"/>
                <a:ext cx="0" cy="11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076720" y="3715920"/>
                <a:ext cx="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71640" y="4581720"/>
                <a:ext cx="29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2771280" y="3715920"/>
                <a:ext cx="3024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48360" y="3716280"/>
                <a:ext cx="0" cy="86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08360" y="465444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7" name=""/>
                  <p:cNvSpPr txBox="1"/>
                  <p:nvPr/>
                </p:nvSpPr>
                <p:spPr>
                  <a:xfrm>
                    <a:off x="5219640" y="3932280"/>
                    <a:ext cx="432000" cy="36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8" name=""/>
                  <p:cNvSpPr txBox="1"/>
                  <p:nvPr/>
                </p:nvSpPr>
                <p:spPr>
                  <a:xfrm>
                    <a:off x="4140360" y="4653000"/>
                    <a:ext cx="36036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9" name=""/>
              <p:cNvSpPr/>
              <p:nvPr/>
            </p:nvSpPr>
            <p:spPr>
              <a:xfrm>
                <a:off x="2347200" y="43639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47200" y="350064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348000" y="3573360"/>
                <a:ext cx="194472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3995640" y="4316400"/>
                    <a:ext cx="36036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3" name=""/>
            <p:cNvSpPr/>
            <p:nvPr/>
          </p:nvSpPr>
          <p:spPr>
            <a:xfrm>
              <a:off x="4069080" y="4222800"/>
              <a:ext cx="43128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¿Cuál es el ángulo que forma esta recta con el eje del tiempo?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l dibujo muestra claramente qu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348000" y="3573360"/>
                <a:ext cx="24480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¿Qué velocidad tiene el cuerpo del gráfic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94040" y="2781360"/>
            <a:ext cx="4797000" cy="3069000"/>
            <a:chOff x="1994040" y="2781360"/>
            <a:chExt cx="4797000" cy="3069000"/>
          </a:xfrm>
        </p:grpSpPr>
        <p:sp>
          <p:nvSpPr>
            <p:cNvPr id="156" name=""/>
            <p:cNvSpPr/>
            <p:nvPr/>
          </p:nvSpPr>
          <p:spPr>
            <a:xfrm>
              <a:off x="1994040" y="5689440"/>
              <a:ext cx="44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994040" y="2856960"/>
              <a:ext cx="0" cy="28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50640" y="2781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46240" y="54820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6240" y="4194000"/>
              <a:ext cx="286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Considere una carrera con 2 participantes. Suena la señal de partida y Sebastián, que se encontraba pensando en un ejercicio de Física, parte 2 segundos después que Manue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Además se sabe que las velocidades promedio de cada uno de los participantes s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Sebastián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1.5 m/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Manuel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2.5 m/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4221000"/>
            <a:ext cx="21258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16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0200" y="2708280"/>
            <a:ext cx="8947080" cy="3197160"/>
            <a:chOff x="160200" y="2708280"/>
            <a:chExt cx="8947080" cy="3197160"/>
          </a:xfrm>
        </p:grpSpPr>
        <p:grpSp>
          <p:nvGrpSpPr>
            <p:cNvPr id="169" name=""/>
            <p:cNvGrpSpPr/>
            <p:nvPr/>
          </p:nvGrpSpPr>
          <p:grpSpPr>
            <a:xfrm>
              <a:off x="3565080" y="3862440"/>
              <a:ext cx="1366920" cy="1366920"/>
              <a:chOff x="3565080" y="3862440"/>
              <a:chExt cx="1366920" cy="136692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3629880" y="3862440"/>
                <a:ext cx="1302120" cy="1366920"/>
                <a:chOff x="3629880" y="3862440"/>
                <a:chExt cx="1302120" cy="13669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281480" y="3862440"/>
                  <a:ext cx="324360" cy="28476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410720" y="4147200"/>
                  <a:ext cx="0" cy="51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4086000" y="4659480"/>
                  <a:ext cx="324360" cy="39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3629880" y="4886280"/>
                  <a:ext cx="456480" cy="17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410720" y="4659480"/>
                  <a:ext cx="392040" cy="56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4802760" y="5114880"/>
                  <a:ext cx="12924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410720" y="4432320"/>
                  <a:ext cx="325800" cy="28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410720" y="4374360"/>
                  <a:ext cx="325800" cy="28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 flipH="1">
                <a:off x="3565080" y="4886640"/>
                <a:ext cx="6444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94920" y="3071880"/>
              <a:ext cx="1439640" cy="2157120"/>
              <a:chOff x="394920" y="3071880"/>
              <a:chExt cx="1439640" cy="21571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394920" y="3714480"/>
                <a:ext cx="460800" cy="1514520"/>
                <a:chOff x="394920" y="3714480"/>
                <a:chExt cx="460800" cy="15145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95280" y="3714480"/>
                  <a:ext cx="286920" cy="2296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09400" y="3944160"/>
                  <a:ext cx="0" cy="41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9400" y="4173840"/>
                  <a:ext cx="2880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09400" y="4127400"/>
                  <a:ext cx="2880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09400" y="4357080"/>
                  <a:ext cx="230760" cy="82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394920" y="4357080"/>
                  <a:ext cx="114120" cy="87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0160" y="5183280"/>
                  <a:ext cx="11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5280" y="522900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856080" y="3071880"/>
                <a:ext cx="978480" cy="642240"/>
                <a:chOff x="856080" y="3071880"/>
                <a:chExt cx="978480" cy="6422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028520" y="3439080"/>
                  <a:ext cx="231120" cy="137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01320" y="3071880"/>
                  <a:ext cx="633240" cy="320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6080" y="3622320"/>
                  <a:ext cx="115560" cy="91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94" name=""/>
                  <p:cNvSpPr txBox="1"/>
                  <p:nvPr/>
                </p:nvSpPr>
                <p:spPr>
                  <a:xfrm>
                    <a:off x="1299240" y="3132360"/>
                    <a:ext cx="440280" cy="20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95" name=""/>
            <p:cNvSpPr/>
            <p:nvPr/>
          </p:nvSpPr>
          <p:spPr>
            <a:xfrm>
              <a:off x="324000" y="5445360"/>
              <a:ext cx="86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21280" y="55371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 m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8237520" y="2779920"/>
              <a:ext cx="869760" cy="2449440"/>
              <a:chOff x="8237520" y="2779920"/>
              <a:chExt cx="869760" cy="2449440"/>
            </a:xfrm>
          </p:grpSpPr>
          <p:sp>
            <p:nvSpPr>
              <p:cNvPr id="198" name=""/>
              <p:cNvSpPr/>
              <p:nvPr/>
            </p:nvSpPr>
            <p:spPr>
              <a:xfrm>
                <a:off x="8237520" y="2779920"/>
                <a:ext cx="865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78920" y="285228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6666ff"/>
                    </a:solidFill>
                    <a:latin typeface="Arial"/>
                  </a:rPr>
                  <a:t>ME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670960" y="3284640"/>
                <a:ext cx="71640" cy="194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976560" y="280044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.5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200" y="270828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.5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Sebastiá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Manu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098800" y="2084400"/>
            <a:ext cx="5522760" cy="3649680"/>
            <a:chOff x="2098800" y="2084400"/>
            <a:chExt cx="5522760" cy="364968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251080" y="2084400"/>
                  <a:ext cx="507528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∗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098800" y="3957480"/>
                  <a:ext cx="5522760" cy="177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∗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Por lo cual, es posible graficar la trayectoria de ambos corredores en el tiempo, obteniénd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49800" y="2637000"/>
            <a:ext cx="6621120" cy="3818160"/>
            <a:chOff x="1549800" y="2637000"/>
            <a:chExt cx="6621120" cy="3818160"/>
          </a:xfrm>
        </p:grpSpPr>
        <p:sp>
          <p:nvSpPr>
            <p:cNvPr id="213" name=""/>
            <p:cNvSpPr/>
            <p:nvPr/>
          </p:nvSpPr>
          <p:spPr>
            <a:xfrm>
              <a:off x="1549800" y="330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25720" y="5936040"/>
              <a:ext cx="56419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1979640" y="2637000"/>
              <a:ext cx="2520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61800" y="2637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26120" y="57344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49640" y="6042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12400" y="6086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44400" y="6042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484360" y="3502080"/>
              <a:ext cx="2448000" cy="2447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32360" y="3502440"/>
              <a:ext cx="2232000" cy="2447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1280" y="3881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66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908000" y="3502440"/>
              <a:ext cx="489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02360" y="608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32360" y="350244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564000" y="35020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3563640" y="3502080"/>
              <a:ext cx="1368360" cy="24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979280" y="3502440"/>
              <a:ext cx="1584360" cy="24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5640" y="43135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¿Cuándo se cruzan los corredor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Veamos las trayectorias para c/u en los diferentes intervalos, es decir, los x(t), </a:t>
            </a:r>
            <a:r>
              <a:rPr b="0" i="1" lang="es-MX" sz="2500" spc="-1" strike="noStrike" u="sng">
                <a:solidFill>
                  <a:srgbClr val="ff0000"/>
                </a:solidFill>
                <a:uFillTx/>
                <a:latin typeface="Arial"/>
              </a:rPr>
              <a:t>asumiendo que parten desde el origen y en el tiempo t=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NE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La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cinemática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 (en griego, estudio del movimiento) es la rama de la ciencia, iniciada por Galileo, que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estudia los movimientos prescindiendo de las causas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 que los produc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Dentro de este estudio son de suma importancia los siguientes tres concepto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300" spc="-1" strike="noStrike">
                <a:solidFill>
                  <a:srgbClr val="ff0000"/>
                </a:solidFill>
                <a:latin typeface="Arial"/>
              </a:rPr>
              <a:t>Sebastiá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300" spc="-1" strike="noStrike">
                <a:solidFill>
                  <a:srgbClr val="ff0000"/>
                </a:solidFill>
                <a:latin typeface="Arial"/>
              </a:rPr>
              <a:t>Manu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314440" y="2220840"/>
            <a:ext cx="4946760" cy="3826080"/>
            <a:chOff x="2314440" y="2220840"/>
            <a:chExt cx="4946760" cy="382608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314440" y="2220840"/>
                  <a:ext cx="4946760" cy="17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2340000" y="4603680"/>
                  <a:ext cx="4518000" cy="144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t xml:space="preserve">6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t xml:space="preserve">6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Dado lo anterior, y mirando el gráfico de las trayectorias, los corredores se cruzan cuando se cu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556000" y="3141720"/>
                <a:ext cx="3457440" cy="25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NE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Arial"/>
              </a:rPr>
              <a:t>Posición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, que es el lugar donde se encuentra el móvil y viene determinado por la </a:t>
            </a:r>
            <a:r>
              <a:rPr b="1" lang="es-ES_tradnl" sz="2900" spc="-1" strike="noStrike">
                <a:solidFill>
                  <a:srgbClr val="000000"/>
                </a:solidFill>
                <a:latin typeface="Arial"/>
              </a:rPr>
              <a:t>trayectoria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 o camino seguido. La longitud de la trayectoria es la </a:t>
            </a:r>
            <a:r>
              <a:rPr b="1" lang="es-ES_tradnl" sz="2900" spc="-1" strike="noStrike">
                <a:solidFill>
                  <a:srgbClr val="000000"/>
                </a:solidFill>
                <a:latin typeface="Arial"/>
              </a:rPr>
              <a:t>distancia recorrida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 por el móvil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Arial"/>
              </a:rPr>
              <a:t>Velocidad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, que es el espacio o distancia recorrida en la unidad de tiempo, por ejemplo, los  metros recorridos en cada segund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Arial"/>
              </a:rPr>
              <a:t>Aceler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, que es lo que varía la velocidad en el tiemp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istema de re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 u="sng">
                <a:solidFill>
                  <a:srgbClr val="6666ff"/>
                </a:solidFill>
                <a:uFillTx/>
                <a:latin typeface="Arial"/>
              </a:rPr>
              <a:t>S</a:t>
            </a:r>
            <a:r>
              <a:rPr b="1" lang="es-ES" sz="2800" spc="-1" strike="noStrike" u="sng">
                <a:solidFill>
                  <a:srgbClr val="6666ff"/>
                </a:solidFill>
                <a:uFillTx/>
                <a:latin typeface="Arial"/>
              </a:rPr>
              <a:t>istema de referencia:</a:t>
            </a:r>
            <a:r>
              <a:rPr b="1" lang="es-ES" sz="2800" spc="-1" strike="noStrike">
                <a:solidFill>
                  <a:srgbClr val="6666ff"/>
                </a:solidFill>
                <a:latin typeface="Arial"/>
              </a:rPr>
              <a:t> es el lugar desde donde el observador (el científico) estudia el movimiento. Esto es muy importante ya que el movimiento es relativo y depende del lugar en el que esté el observador. Dicho de otra manera, dos observadores diferentes pueden medir características diferentes en el mismo mov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700" spc="-1" strike="noStrike">
                <a:solidFill>
                  <a:srgbClr val="000000"/>
                </a:solidFill>
                <a:latin typeface="Arial"/>
              </a:rPr>
              <a:t>Por ejemplo, si alguien pasea en bicicleta, se moverá rápidamente respecto a una persona que esté detenida en la vereda; estará quieto para alguien que vaya pedaleando a su lado a igual velocidad y se moverá hacia atrás para quien le adelante en un auto.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4700520"/>
            <a:ext cx="79930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 el universo todo cambia de lugar, cualquier cuerpo que se encuentra en la Tierra está en constant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movimiento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tendido éste como el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ambio de lugar o posició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e sufre un cuerpo, al cual se le denomin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óvil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 móvil sigue un camino, es decir, describe una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yectoria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 puede ser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eatoria, parabólica, rectilínea o circul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7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i="1" lang="es-ES" sz="2700" spc="-1" strike="noStrike">
                <a:solidFill>
                  <a:srgbClr val="333399"/>
                </a:solidFill>
                <a:latin typeface="Arial"/>
              </a:rPr>
              <a:t>a distancia que recorre un móvil en un tiempo determinado se le conoce como </a:t>
            </a:r>
            <a:r>
              <a:rPr b="1" i="1" lang="es-ES" sz="2700" spc="-1" strike="noStrike">
                <a:solidFill>
                  <a:srgbClr val="333399"/>
                </a:solidFill>
                <a:latin typeface="Arial"/>
              </a:rPr>
              <a:t>velocidad, </a:t>
            </a:r>
            <a:r>
              <a:rPr b="0" i="1" lang="es-ES" sz="2700" spc="-1" strike="noStrike">
                <a:solidFill>
                  <a:srgbClr val="333399"/>
                </a:solidFill>
                <a:latin typeface="Arial"/>
              </a:rPr>
              <a:t>se puede decir que la velocidad es directamente proporcional a la distancia, porque a mayor velocidad mayor distancia recorrida, e inversamente proporcional al tiempo porque a mayor velocidad es menor el tiempo requerido para recorrer una distancia determinada. De donde se obtiene lo siguient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endo sus unidades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   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700" spc="-1" strike="noStrike">
                <a:solidFill>
                  <a:srgbClr val="000000"/>
                </a:solidFill>
                <a:latin typeface="Arial"/>
              </a:rPr>
              <a:t>La velocidad es una magnitud vectorial, es decir, tiene modulo, dirección y sentido, y se puede representar por medio de un vecto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903400" y="1916280"/>
                <a:ext cx="2548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tamci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067280" y="3357720"/>
                <a:ext cx="628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48360" y="3413160"/>
                <a:ext cx="647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A partir de esto, se obtiene que la velocidad será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15560" y="2763720"/>
            <a:ext cx="287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0000"/>
                </a:solidFill>
                <a:latin typeface="Arial"/>
              </a:rPr>
              <a:t>La posición x de 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0000"/>
                </a:solidFill>
                <a:latin typeface="Arial"/>
              </a:rPr>
              <a:t>partícula depende 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0000"/>
                </a:solidFill>
                <a:latin typeface="Arial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38800" y="1601640"/>
            <a:ext cx="6330240" cy="4972320"/>
            <a:chOff x="838800" y="1601640"/>
            <a:chExt cx="6330240" cy="497232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619280" y="5373720"/>
                  <a:ext cx="5473800" cy="12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5" name=""/>
            <p:cNvGrpSpPr/>
            <p:nvPr/>
          </p:nvGrpSpPr>
          <p:grpSpPr>
            <a:xfrm>
              <a:off x="838800" y="1601640"/>
              <a:ext cx="4900320" cy="3096720"/>
              <a:chOff x="838800" y="1601640"/>
              <a:chExt cx="4900320" cy="3096720"/>
            </a:xfrm>
          </p:grpSpPr>
          <p:sp>
            <p:nvSpPr>
              <p:cNvPr id="76" name=""/>
              <p:cNvSpPr/>
              <p:nvPr/>
            </p:nvSpPr>
            <p:spPr>
              <a:xfrm>
                <a:off x="2115000" y="42926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31160" y="42926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838800" y="1601640"/>
                <a:ext cx="4900320" cy="2908080"/>
                <a:chOff x="838800" y="1601640"/>
                <a:chExt cx="4900320" cy="29080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263600" y="4336920"/>
                  <a:ext cx="410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1263600" y="1672920"/>
                  <a:ext cx="0" cy="266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552680" y="2178000"/>
                  <a:ext cx="3887640" cy="1655640"/>
                </a:xfrm>
                <a:custGeom>
                  <a:avLst/>
                  <a:gdLst/>
                  <a:ahLst/>
                  <a:rect l="l" t="t" r="r" b="b"/>
                  <a:pathLst>
                    <a:path w="2449" h="1043">
                      <a:moveTo>
                        <a:pt x="0" y="1043"/>
                      </a:moveTo>
                      <a:cubicBezTo>
                        <a:pt x="359" y="657"/>
                        <a:pt x="718" y="272"/>
                        <a:pt x="1088" y="136"/>
                      </a:cubicBezTo>
                      <a:cubicBezTo>
                        <a:pt x="1458" y="0"/>
                        <a:pt x="1995" y="220"/>
                        <a:pt x="2222" y="227"/>
                      </a:cubicBezTo>
                      <a:cubicBezTo>
                        <a:pt x="2449" y="234"/>
                        <a:pt x="2449" y="207"/>
                        <a:pt x="2449" y="18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409400" y="16016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494320" y="41414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2200320" y="3185640"/>
                  <a:ext cx="0" cy="115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3568680" y="2320920"/>
                  <a:ext cx="0" cy="20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>
                  <a:off x="1263600" y="3186000"/>
                  <a:ext cx="93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>
                  <a:off x="1263240" y="2320920"/>
                  <a:ext cx="230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11600" y="2320920"/>
                  <a:ext cx="0" cy="86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200320" y="3186000"/>
                  <a:ext cx="1368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90" name=""/>
                    <p:cNvSpPr txBox="1"/>
                    <p:nvPr/>
                  </p:nvSpPr>
                  <p:spPr>
                    <a:xfrm>
                      <a:off x="3784680" y="2536560"/>
                      <a:ext cx="431640" cy="362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91" name=""/>
                    <p:cNvSpPr txBox="1"/>
                    <p:nvPr/>
                  </p:nvSpPr>
                  <p:spPr>
                    <a:xfrm>
                      <a:off x="2631960" y="3257280"/>
                      <a:ext cx="36036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92" name=""/>
                <p:cNvSpPr/>
                <p:nvPr/>
              </p:nvSpPr>
              <p:spPr>
                <a:xfrm>
                  <a:off x="838800" y="296856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38800" y="210492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6521400" y="3429000"/>
                  <a:ext cx="6476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06T03:12:38Z</dcterms:modified>
  <cp:revision>217</cp:revision>
  <dc:subject/>
  <dc:title>FISICA I</dc:title>
</cp:coreProperties>
</file>