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5240" y="680760"/>
            <a:ext cx="45435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FE66-1034-4A52-84EB-5AD3CBE12D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5600" y="681120"/>
            <a:ext cx="4543560" cy="3406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reglar esta ultima transparencia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6C6-D91B-4C88-A01D-3AA4C170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718-331C-49FA-823D-265C3CB9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CB5-21BE-474C-8AD6-F11B44EB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3FC-B986-4965-BA89-FC614559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514-D98B-42B0-89A1-F8C4EB25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393-6B5F-4507-8271-947191A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96F-844E-4863-9083-82133FC8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F20-B2E2-4767-AEE0-7EBA8EF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179-420A-4096-8BB6-A3126011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BA3-EF6F-4889-8178-832783B9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039-2691-4BA6-9F02-FA944439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944-6925-4C96-8BDD-2FC9537B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6746-9429-4369-ADB2-358D33C11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-Entender el método de integración de Eule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-Comprender la relación entre la posición y la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 velocidad mediante el uso gráfic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mos que la velocidad es la variación de la posición a medida que transcurre el tiempo. Matemáticamente lo anterior se puede escribir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635280" y="3357720"/>
          <a:ext cx="151308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357720"/>
                    <a:ext cx="151308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mos que la velocidad es la variación de la posición a medida que transcurre el tiempo. Matemáticamente lo anterior se puede escribir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lo que es equivalente: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635280" y="2992320"/>
          <a:ext cx="1513080" cy="13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992320"/>
                    <a:ext cx="151308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627280" y="4941720"/>
          <a:ext cx="454680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4941720"/>
                    <a:ext cx="45468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83200" y="54244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8000"/>
                </a:solidFill>
                <a:latin typeface="Arial"/>
              </a:rPr>
              <a:t>Interpret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ién podemos interpretar la re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si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El área bajo la curva V corresponde a la distancia recorrida durante ese intervalo de tiemp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proxim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43640" y="1052640"/>
          <a:ext cx="108576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1052640"/>
                    <a:ext cx="10857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564000" y="3068640"/>
          <a:ext cx="216036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068640"/>
                    <a:ext cx="21603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"/>
          <p:cNvGrpSpPr/>
          <p:nvPr/>
        </p:nvGrpSpPr>
        <p:grpSpPr>
          <a:xfrm>
            <a:off x="887400" y="3360600"/>
            <a:ext cx="7178760" cy="2853000"/>
            <a:chOff x="887400" y="3360600"/>
            <a:chExt cx="7178760" cy="2853000"/>
          </a:xfrm>
        </p:grpSpPr>
        <p:sp>
          <p:nvSpPr>
            <p:cNvPr id="71" name=""/>
            <p:cNvSpPr/>
            <p:nvPr/>
          </p:nvSpPr>
          <p:spPr>
            <a:xfrm>
              <a:off x="7346880" y="53784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441440" y="3720600"/>
              <a:ext cx="0" cy="18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1520" y="33606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441440" y="5521320"/>
              <a:ext cx="5832360" cy="144360"/>
              <a:chOff x="1441440" y="5521320"/>
              <a:chExt cx="5832360" cy="144360"/>
            </a:xfrm>
          </p:grpSpPr>
          <p:sp>
            <p:nvSpPr>
              <p:cNvPr id="75" name=""/>
              <p:cNvSpPr/>
              <p:nvPr/>
            </p:nvSpPr>
            <p:spPr>
              <a:xfrm>
                <a:off x="1441440" y="5592600"/>
                <a:ext cx="583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6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2072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8108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24000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0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0000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072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2108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68144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4000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0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6072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8144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2108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4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960720" y="4441680"/>
              <a:ext cx="0" cy="1152720"/>
            </a:xfrm>
            <a:prstGeom prst="line">
              <a:avLst/>
            </a:prstGeom>
            <a:ln cap="rnd" w="255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41440" y="4802040"/>
              <a:ext cx="0" cy="7923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438200" y="4476600"/>
              <a:ext cx="2067120" cy="30024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441440" y="451296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441440" y="465732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441440" y="480168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441440" y="494460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441440" y="508932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441440" y="523368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449440" y="5378400"/>
              <a:ext cx="1511280" cy="21600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13160" y="5497200"/>
              <a:ext cx="503280" cy="7308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15880" y="4297320"/>
              <a:ext cx="5689800" cy="851040"/>
            </a:xfrm>
            <a:custGeom>
              <a:avLst/>
              <a:gdLst/>
              <a:ahLst/>
              <a:rect l="l" t="t" r="r" b="b"/>
              <a:pathLst>
                <a:path w="3584" h="536">
                  <a:moveTo>
                    <a:pt x="0" y="105"/>
                  </a:moveTo>
                  <a:cubicBezTo>
                    <a:pt x="711" y="52"/>
                    <a:pt x="1422" y="0"/>
                    <a:pt x="1951" y="60"/>
                  </a:cubicBezTo>
                  <a:cubicBezTo>
                    <a:pt x="2480" y="120"/>
                    <a:pt x="2903" y="400"/>
                    <a:pt x="3175" y="468"/>
                  </a:cubicBezTo>
                  <a:cubicBezTo>
                    <a:pt x="3447" y="536"/>
                    <a:pt x="3515" y="502"/>
                    <a:pt x="3584" y="468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434960" y="4489560"/>
              <a:ext cx="777960" cy="9504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2604600" y="4476600"/>
              <a:ext cx="142920" cy="2521080"/>
            </a:xfrm>
            <a:custGeom>
              <a:avLst/>
              <a:gdLst>
                <a:gd name="textAreaLeft" fmla="*/ 0 w 142920"/>
                <a:gd name="textAreaRight" fmla="*/ 100440 w 142920"/>
                <a:gd name="textAreaTop" fmla="*/ 104760 h 2521080"/>
                <a:gd name="textAreaBottom" fmla="*/ 24163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2279520" y="5808600"/>
            <a:ext cx="433440" cy="40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79520" y="5808600"/>
                      <a:ext cx="43344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1225440" y="4441680"/>
              <a:ext cx="71640" cy="1152720"/>
            </a:xfrm>
            <a:custGeom>
              <a:avLst/>
              <a:gdLst>
                <a:gd name="textAreaLeft" fmla="*/ 20880 w 71640"/>
                <a:gd name="textAreaRight" fmla="*/ 72000 w 71640"/>
                <a:gd name="textAreaTop" fmla="*/ 47880 h 1152720"/>
                <a:gd name="textAreaBottom" fmla="*/ 1104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7400" y="4738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1440" y="4468680"/>
              <a:ext cx="25210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7920" y="4354560"/>
              <a:ext cx="25207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432080" y="4470480"/>
              <a:ext cx="1488960" cy="2109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434960" y="4470480"/>
              <a:ext cx="231840" cy="3168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35600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0400" y="4368960"/>
              <a:ext cx="504720" cy="1076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7480" y="4362480"/>
              <a:ext cx="50508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2160" y="435600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63880" y="435600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9720" y="436248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8680" y="434988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96040" y="6143760"/>
            <a:ext cx="73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unto en conflicto es saber si se tom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v(t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v(t-</a:t>
            </a:r>
            <a:r>
              <a:rPr b="0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amos con más profundidad la relación (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7236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067280" y="4076280"/>
            <a:ext cx="1440" cy="1368360"/>
          </a:xfrm>
          <a:prstGeom prst="line">
            <a:avLst/>
          </a:prstGeom>
          <a:ln cap="rnd" w="255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427640" y="4221000"/>
            <a:ext cx="1440" cy="1224000"/>
          </a:xfrm>
          <a:prstGeom prst="line">
            <a:avLst/>
          </a:prstGeom>
          <a:ln cap="rnd" w="255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967200"/>
            <a:ext cx="5543640" cy="1512720"/>
          </a:xfrm>
          <a:custGeom>
            <a:avLst/>
            <a:gdLst/>
            <a:ahLst/>
            <a:rect l="l" t="t" r="r" b="b"/>
            <a:pathLst>
              <a:path w="3492" h="953">
                <a:moveTo>
                  <a:pt x="0" y="862"/>
                </a:moveTo>
                <a:cubicBezTo>
                  <a:pt x="291" y="476"/>
                  <a:pt x="582" y="90"/>
                  <a:pt x="952" y="45"/>
                </a:cubicBezTo>
                <a:cubicBezTo>
                  <a:pt x="1322" y="0"/>
                  <a:pt x="1897" y="537"/>
                  <a:pt x="2222" y="590"/>
                </a:cubicBezTo>
                <a:cubicBezTo>
                  <a:pt x="2547" y="643"/>
                  <a:pt x="2707" y="318"/>
                  <a:pt x="2903" y="363"/>
                </a:cubicBezTo>
                <a:cubicBezTo>
                  <a:pt x="3099" y="408"/>
                  <a:pt x="3310" y="771"/>
                  <a:pt x="3401" y="862"/>
                </a:cubicBezTo>
                <a:cubicBezTo>
                  <a:pt x="3492" y="953"/>
                  <a:pt x="3469" y="930"/>
                  <a:pt x="3447" y="907"/>
                </a:cubicBezTo>
              </a:path>
            </a:pathLst>
          </a:custGeom>
          <a:noFill/>
          <a:ln w="349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3573000"/>
            <a:ext cx="180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98800" y="32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268360" y="5373720"/>
            <a:ext cx="5832720" cy="144360"/>
            <a:chOff x="2268360" y="5373720"/>
            <a:chExt cx="5832720" cy="144360"/>
          </a:xfrm>
        </p:grpSpPr>
        <p:sp>
          <p:nvSpPr>
            <p:cNvPr id="130" name=""/>
            <p:cNvSpPr/>
            <p:nvPr/>
          </p:nvSpPr>
          <p:spPr>
            <a:xfrm>
              <a:off x="2268360" y="5445000"/>
              <a:ext cx="58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8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4800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08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728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2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728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8800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48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872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2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8800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0872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48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6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rot="16200000">
            <a:off x="2772000" y="5446800"/>
            <a:ext cx="72720" cy="358560"/>
          </a:xfrm>
          <a:custGeom>
            <a:avLst/>
            <a:gdLst>
              <a:gd name="textAreaLeft" fmla="*/ 21240 w 72720"/>
              <a:gd name="textAreaRight" fmla="*/ 73080 w 72720"/>
              <a:gd name="textAreaTop" fmla="*/ 14760 h 358560"/>
              <a:gd name="textAreaBottom" fmla="*/ 343800 h 3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14680" y="564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000" y="4076640"/>
            <a:ext cx="1798920" cy="180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268000" y="4221000"/>
            <a:ext cx="2157480" cy="180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95640" y="5516280"/>
            <a:ext cx="71640" cy="36036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2720" y="5877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t-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52840" y="5899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427280" y="5516640"/>
            <a:ext cx="144360" cy="4334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688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X(t-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29264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4005360"/>
            <a:ext cx="649080" cy="712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35280" y="4220640"/>
            <a:ext cx="433080" cy="360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56000" y="1916280"/>
          <a:ext cx="4248000" cy="12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16280"/>
                    <a:ext cx="424800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ora despejemos la posición en el instant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50920" y="4941720"/>
          <a:ext cx="47736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941720"/>
                    <a:ext cx="47736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995640" y="3860640"/>
            <a:ext cx="936720" cy="64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95640" y="2349360"/>
          <a:ext cx="454644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349360"/>
                    <a:ext cx="454644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Interpreta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 última ecuación se l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 posición en el tiempo actual (</a:t>
            </a:r>
            <a:r>
              <a:rPr b="0" i="1" lang="es-ES" sz="2800" spc="-1" strike="noStrike">
                <a:solidFill>
                  <a:srgbClr val="808080"/>
                </a:solidFill>
                <a:latin typeface="Arial"/>
              </a:rPr>
              <a:t>x(t)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) es igual a la posición en el tiempo anterior (</a:t>
            </a:r>
            <a:r>
              <a:rPr b="0" i="1" lang="es-ES" sz="2800" spc="-1" strike="noStrike">
                <a:solidFill>
                  <a:srgbClr val="808080"/>
                </a:solidFill>
                <a:latin typeface="Arial"/>
              </a:rPr>
              <a:t>x(t-dt)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)más lo que avanzó (</a:t>
            </a:r>
            <a:r>
              <a:rPr b="0" i="1" lang="es-ES" sz="2800" spc="-1" strike="noStrike">
                <a:solidFill>
                  <a:srgbClr val="808080"/>
                </a:solidFill>
                <a:latin typeface="Arial"/>
              </a:rPr>
              <a:t>v(t)·dt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to último corresponde al método de Euler de integ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30200" y="4005360"/>
          <a:ext cx="62661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4005360"/>
                    <a:ext cx="62661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Interpreta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pasa si en vez de considerar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v(t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se consider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v(t-</a:t>
            </a:r>
            <a:r>
              <a:rPr b="1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16000" y="2695680"/>
          <a:ext cx="4203720" cy="30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695680"/>
                    <a:ext cx="420372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719600" y="3386160"/>
          <a:ext cx="4221360" cy="307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9600" y="3386160"/>
                    <a:ext cx="422136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3:11:27Z</dcterms:created>
  <dc:creator>Maria Fernanda Duran Sierra</dc:creator>
  <dc:description/>
  <dc:language>en-US</dc:language>
  <cp:lastModifiedBy>mauricio casanova</cp:lastModifiedBy>
  <dcterms:modified xsi:type="dcterms:W3CDTF">2005-01-12T05:31:19Z</dcterms:modified>
  <cp:revision>6</cp:revision>
  <dc:subject/>
  <dc:title>Clase n º 3  Complemento Numérico</dc:title>
</cp:coreProperties>
</file>