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5240" y="680760"/>
            <a:ext cx="454356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8627760"/>
            <a:ext cx="2970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4847-2B83-4F77-B3D5-27DC70409B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5600" y="681120"/>
            <a:ext cx="4543560" cy="3406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440" y="4314600"/>
            <a:ext cx="548316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rreglar esta ultima transparencia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C7E-F847-4454-8354-4A721633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6D5-FD95-4A61-85D3-0C1430B7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A21-E7C2-452E-85B9-ED41F77B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975-7333-4330-B759-13E4A00D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33C-B45C-44CB-80CF-C049DD90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C5E-3469-48ED-9017-3876170D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D9D-92A6-4D99-94CD-D0F02BF4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E77-86B3-47C1-A3F6-2626588A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084-76AD-4AAF-B61F-2C72283C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E8B-3AC8-4ABD-8B10-30880BF9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E1D-653B-4440-BADC-105E101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6CB-B803-4762-A164-A75A263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F036-D915-49DD-B7C3-9E6986CC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Entender el método de integración de Eule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-Comprender la relación entre la posición y l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 velocidad mediante el uso gráfic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635280" y="3357720"/>
          <a:ext cx="1513080" cy="13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357720"/>
                    <a:ext cx="151308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mos que la velocidad es la variación de la posición a medida que transcurre el tiempo. Matemáticamente lo anterior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lo que es equivalente: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635280" y="2992320"/>
          <a:ext cx="151308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992320"/>
                    <a:ext cx="151308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627280" y="4941720"/>
          <a:ext cx="454680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4941720"/>
                    <a:ext cx="454680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83200" y="54244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ién podemos interpretar la re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i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El área bajo la curva V corresponde a la distancia recorrida durante ese intervalo de tiemp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proxim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43640" y="1052640"/>
          <a:ext cx="10857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1052640"/>
                    <a:ext cx="10857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564000" y="3068640"/>
          <a:ext cx="216036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068640"/>
                    <a:ext cx="216036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887400" y="3360600"/>
            <a:ext cx="7178760" cy="2853000"/>
            <a:chOff x="887400" y="3360600"/>
            <a:chExt cx="7178760" cy="2853000"/>
          </a:xfrm>
        </p:grpSpPr>
        <p:sp>
          <p:nvSpPr>
            <p:cNvPr id="71" name=""/>
            <p:cNvSpPr/>
            <p:nvPr/>
          </p:nvSpPr>
          <p:spPr>
            <a:xfrm>
              <a:off x="7346880" y="53784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441440" y="3720600"/>
              <a:ext cx="0" cy="18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71520" y="336060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441440" y="5521320"/>
              <a:ext cx="5832360" cy="144360"/>
              <a:chOff x="1441440" y="5521320"/>
              <a:chExt cx="5832360" cy="144360"/>
            </a:xfrm>
          </p:grpSpPr>
          <p:sp>
            <p:nvSpPr>
              <p:cNvPr id="75" name=""/>
              <p:cNvSpPr/>
              <p:nvPr/>
            </p:nvSpPr>
            <p:spPr>
              <a:xfrm>
                <a:off x="1441440" y="5592600"/>
                <a:ext cx="583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6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2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8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2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0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6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4000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0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6072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8144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2108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40360" y="5521320"/>
                <a:ext cx="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3960720" y="4441680"/>
              <a:ext cx="0" cy="1152720"/>
            </a:xfrm>
            <a:prstGeom prst="line">
              <a:avLst/>
            </a:prstGeom>
            <a:ln cap="rnd" w="255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41440" y="4802040"/>
              <a:ext cx="0" cy="7923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438200" y="4476600"/>
              <a:ext cx="2067120" cy="3002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441440" y="451296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1441440" y="4657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1440" y="4801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41440" y="494460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441440" y="508932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441440" y="5233680"/>
              <a:ext cx="2519280" cy="3603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449440" y="5378400"/>
              <a:ext cx="1511280" cy="21600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13160" y="5497200"/>
              <a:ext cx="503280" cy="730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15880" y="4297320"/>
              <a:ext cx="5689800" cy="851040"/>
            </a:xfrm>
            <a:custGeom>
              <a:avLst/>
              <a:gdLst/>
              <a:ahLst/>
              <a:rect l="l" t="t" r="r" b="b"/>
              <a:pathLst>
                <a:path w="3584" h="536">
                  <a:moveTo>
                    <a:pt x="0" y="105"/>
                  </a:moveTo>
                  <a:cubicBezTo>
                    <a:pt x="711" y="52"/>
                    <a:pt x="1422" y="0"/>
                    <a:pt x="1951" y="60"/>
                  </a:cubicBezTo>
                  <a:cubicBezTo>
                    <a:pt x="2480" y="120"/>
                    <a:pt x="2903" y="400"/>
                    <a:pt x="3175" y="468"/>
                  </a:cubicBezTo>
                  <a:cubicBezTo>
                    <a:pt x="3447" y="536"/>
                    <a:pt x="3515" y="502"/>
                    <a:pt x="3584" y="468"/>
                  </a:cubicBez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434960" y="4489560"/>
              <a:ext cx="777960" cy="9504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2604600" y="4476600"/>
              <a:ext cx="142920" cy="2521080"/>
            </a:xfrm>
            <a:custGeom>
              <a:avLst/>
              <a:gdLst>
                <a:gd name="textAreaLeft" fmla="*/ 0 w 142920"/>
                <a:gd name="textAreaRight" fmla="*/ 100440 w 142920"/>
                <a:gd name="textAreaTop" fmla="*/ 104760 h 2521080"/>
                <a:gd name="textAreaBottom" fmla="*/ 2416320 h 25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2279520" y="5808600"/>
            <a:ext cx="433440" cy="40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79520" y="5808600"/>
                      <a:ext cx="433440" cy="4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"/>
            <p:cNvSpPr/>
            <p:nvPr/>
          </p:nvSpPr>
          <p:spPr>
            <a:xfrm>
              <a:off x="1225440" y="4441680"/>
              <a:ext cx="71640" cy="1152720"/>
            </a:xfrm>
            <a:custGeom>
              <a:avLst/>
              <a:gdLst>
                <a:gd name="textAreaLeft" fmla="*/ 20880 w 71640"/>
                <a:gd name="textAreaRight" fmla="*/ 72000 w 71640"/>
                <a:gd name="textAreaTop" fmla="*/ 47880 h 1152720"/>
                <a:gd name="textAreaBottom" fmla="*/ 110484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7400" y="47386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1440" y="4468680"/>
              <a:ext cx="252108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4354560"/>
              <a:ext cx="25207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432080" y="4470480"/>
              <a:ext cx="1488960" cy="21096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434960" y="4470480"/>
              <a:ext cx="231840" cy="31680"/>
            </a:xfrm>
            <a:prstGeom prst="line">
              <a:avLst/>
            </a:prstGeom>
            <a:ln w="255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0532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0400" y="4368960"/>
              <a:ext cx="504720" cy="10764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7480" y="4362480"/>
              <a:ext cx="50508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216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63880" y="435600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9720" y="43624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8680" y="4349880"/>
              <a:ext cx="504720" cy="10800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96040" y="614376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unto en conflicto es saber si se toma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0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amos con más profundidad la relación 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72360" y="5229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67280" y="4076280"/>
            <a:ext cx="1440" cy="136836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427640" y="4221000"/>
            <a:ext cx="1440" cy="1224000"/>
          </a:xfrm>
          <a:prstGeom prst="line">
            <a:avLst/>
          </a:prstGeom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967200"/>
            <a:ext cx="5543640" cy="1512720"/>
          </a:xfrm>
          <a:custGeom>
            <a:avLst/>
            <a:gdLst/>
            <a:ahLst/>
            <a:rect l="l" t="t" r="r" b="b"/>
            <a:pathLst>
              <a:path w="3492" h="953">
                <a:moveTo>
                  <a:pt x="0" y="862"/>
                </a:moveTo>
                <a:cubicBezTo>
                  <a:pt x="291" y="476"/>
                  <a:pt x="582" y="90"/>
                  <a:pt x="952" y="45"/>
                </a:cubicBezTo>
                <a:cubicBezTo>
                  <a:pt x="1322" y="0"/>
                  <a:pt x="1897" y="537"/>
                  <a:pt x="2222" y="590"/>
                </a:cubicBezTo>
                <a:cubicBezTo>
                  <a:pt x="2547" y="643"/>
                  <a:pt x="2707" y="318"/>
                  <a:pt x="2903" y="363"/>
                </a:cubicBezTo>
                <a:cubicBezTo>
                  <a:pt x="3099" y="408"/>
                  <a:pt x="3310" y="771"/>
                  <a:pt x="3401" y="862"/>
                </a:cubicBezTo>
                <a:cubicBezTo>
                  <a:pt x="3492" y="953"/>
                  <a:pt x="3469" y="930"/>
                  <a:pt x="3447" y="907"/>
                </a:cubicBezTo>
              </a:path>
            </a:pathLst>
          </a:custGeom>
          <a:noFill/>
          <a:ln w="349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3573000"/>
            <a:ext cx="1800" cy="18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9880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68360" y="5373720"/>
            <a:ext cx="5832720" cy="144360"/>
            <a:chOff x="2268360" y="5373720"/>
            <a:chExt cx="5832720" cy="144360"/>
          </a:xfrm>
        </p:grpSpPr>
        <p:sp>
          <p:nvSpPr>
            <p:cNvPr id="130" name=""/>
            <p:cNvSpPr/>
            <p:nvPr/>
          </p:nvSpPr>
          <p:spPr>
            <a:xfrm>
              <a:off x="2268360" y="5445000"/>
              <a:ext cx="58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8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4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0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2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8800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087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48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676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rot="16200000">
            <a:off x="2772000" y="5446800"/>
            <a:ext cx="72720" cy="358560"/>
          </a:xfrm>
          <a:custGeom>
            <a:avLst/>
            <a:gdLst>
              <a:gd name="textAreaLeft" fmla="*/ 21240 w 72720"/>
              <a:gd name="textAreaRight" fmla="*/ 73080 w 72720"/>
              <a:gd name="textAreaTop" fmla="*/ 14760 h 358560"/>
              <a:gd name="textAreaBottom" fmla="*/ 343800 h 3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14680" y="564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000" y="4076640"/>
            <a:ext cx="179892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268000" y="4221000"/>
            <a:ext cx="2157480" cy="180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95640" y="5516280"/>
            <a:ext cx="71640" cy="3603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2720" y="587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t-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52840" y="5899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427280" y="5516640"/>
            <a:ext cx="144360" cy="4334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6880" y="37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-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29264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00"/>
                </a:solidFill>
                <a:latin typeface="Arial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19280" y="4005360"/>
            <a:ext cx="649080" cy="71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835280" y="4220640"/>
            <a:ext cx="433080" cy="36036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56000" y="1916280"/>
          <a:ext cx="4248000" cy="12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916280"/>
                    <a:ext cx="424800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Relación posición-veloc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ora despejemos la posición en el instante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50920" y="4941720"/>
          <a:ext cx="47736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941720"/>
                    <a:ext cx="47736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995640" y="3860640"/>
            <a:ext cx="936720" cy="64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95640" y="2349360"/>
          <a:ext cx="454644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349360"/>
                    <a:ext cx="454644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 última ecuación se l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posición en el tiempo actual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 es igual a la posición en el tiempo anterior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x(t-dt)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más lo que avanzó (</a:t>
            </a:r>
            <a:r>
              <a:rPr b="0" i="1" lang="es-ES" sz="2800" spc="-1" strike="noStrike">
                <a:solidFill>
                  <a:srgbClr val="808080"/>
                </a:solidFill>
                <a:latin typeface="Arial"/>
              </a:rPr>
              <a:t>v(t)·dt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Esto último corresponde al método de Euler de integ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30200" y="4005360"/>
          <a:ext cx="62661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4005360"/>
                    <a:ext cx="62661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Arial"/>
              </a:rPr>
              <a:t>Interpreta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pasa si en vez de considerar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se considera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v(t-</a:t>
            </a:r>
            <a:r>
              <a:rPr b="1" i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16000" y="2695680"/>
          <a:ext cx="4203720" cy="30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695680"/>
                    <a:ext cx="420372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719600" y="3386160"/>
          <a:ext cx="4221360" cy="307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9600" y="3386160"/>
                    <a:ext cx="422136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3:11:27Z</dcterms:created>
  <dc:creator>Maria Fernanda Duran Sierra</dc:creator>
  <dc:description/>
  <dc:language>en-US</dc:language>
  <cp:lastModifiedBy>mauricio casanova</cp:lastModifiedBy>
  <dcterms:modified xsi:type="dcterms:W3CDTF">2005-01-12T05:31:19Z</dcterms:modified>
  <cp:revision>6</cp:revision>
  <dc:subject/>
  <dc:title>Clase n º 3  Complemento Numérico</dc:title>
</cp:coreProperties>
</file>