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D23-9DF8-41A6-BF03-558C2837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0A2-E029-4A1E-8BA2-1ADE4239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0F7-36FE-42F4-B45E-35824D1C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9FF-6938-45FA-8E82-32FE4405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6E8-FE9E-4DD6-B4D7-D3F9F76A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266-3A40-4579-81BA-DACB2F66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D42-5AAA-44EC-82B8-5B2D18EF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507-DDF8-4198-BF44-AA11826A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DC2-0A5D-43CA-BC6A-07CEE0C7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8CC-B27D-440A-A32B-2143B7B5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E86-493E-49BF-9542-804E4E09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41A-415F-45AF-89FA-1E0C5D3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5AF-81EB-452C-9C0C-8F07103F4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pretar correctamente un grá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24360" y="2852640"/>
            <a:ext cx="439272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El movimiento del perro está dado po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y(t)= C sin(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t+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=1.4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[hz], </a:t>
            </a: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rresponde a la amplitud del movimiento (5m) y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debe ser calculado a partir de los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9280" y="1628640"/>
            <a:ext cx="590364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orqué la C corresponde al largo de la cuer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la función seno puede tomar valores entre 1 y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-5 = C ·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= C ·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373720"/>
            <a:ext cx="1584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C=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9280" y="1628640"/>
            <a:ext cx="590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nto vale </a:t>
            </a:r>
            <a:r>
              <a:rPr b="1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al inicio, es decir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0, la posición es 3,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= 3,21 = 5 · sen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·0+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sen(</a:t>
            </a:r>
            <a:r>
              <a:rPr b="1" lang="es-ES" sz="35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)=3,21 / 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tenemos la ecuación de movimiento del perro, bastará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lcular la posi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 perro a medida que transcurre el tiempo par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raficar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gráfico será direc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r el tiem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demoró en pasar el perro por tercera vez por el pun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hora … a trabajar en EXCEL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mauricio casanova</cp:lastModifiedBy>
  <dcterms:modified xsi:type="dcterms:W3CDTF">2005-01-03T02:58:29Z</dcterms:modified>
  <cp:revision>4</cp:revision>
  <dc:subject/>
  <dc:title>Clase nº1  Complemento Numérico</dc:title>
</cp:coreProperties>
</file>