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E35-0CB3-44B5-B5A0-26F89205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C9E-35AE-4EE4-B766-BD2793CE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7CF-8091-4181-B89B-DF6C8535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12C-51E3-407B-8A56-83B5FB75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D66-B96C-48AE-B251-DA8342B4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88C-1363-4834-BEA9-A99677DA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027-F3E7-468F-8971-7E8CF654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4CB-CADE-4E97-9B53-2E3BA279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1BE-E94C-4BEE-BB48-1A045ADF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42F-D48E-49F2-BCCE-1334014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DF5-0F32-4730-B3B5-B9E536B5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683-AE87-413A-86A8-B8396F17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08B-8318-4D10-91FB-CC319894A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pretar correctamente un grá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24360" y="2852640"/>
            <a:ext cx="439272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El movimiento del perro está dado p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y(t)= C sin(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t+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=1.4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[hz], 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rresponde a la amplitud del movimiento (5m) y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debe ser calculado a partir de los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1628640"/>
            <a:ext cx="590364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orqué la C corresponde al largo de la cuer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la función seno puede tomar valores entre 1 y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-5 = C ·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= C ·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373720"/>
            <a:ext cx="1584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C=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9280" y="1628640"/>
            <a:ext cx="590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nto vale </a:t>
            </a:r>
            <a:r>
              <a:rPr b="1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al inicio, es deci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0, la posición es 3,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= 3,21 = 5 · sen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·0+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sen(</a:t>
            </a:r>
            <a:r>
              <a:rPr b="1" lang="es-ES" sz="35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)=3,21 / 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tenemos la ecuación de movimiento del perro, bastará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lcular la 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 perro a medida que transcurre el tiempo par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aficar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gráfico será direc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 el tie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demoró en pasar el perro por tercera vez por el pun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hora … a trabajar en EXCE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mauricio casanova</cp:lastModifiedBy>
  <dcterms:modified xsi:type="dcterms:W3CDTF">2005-01-03T02:58:29Z</dcterms:modified>
  <cp:revision>4</cp:revision>
  <dc:subject/>
  <dc:title>Clase nº1  Complemento Numérico</dc:title>
</cp:coreProperties>
</file>