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768-CD6F-41B8-A0FD-CB4EE139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6BA-E9BA-4F61-8D50-546DC520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1F4-3C11-4615-A63B-A221BC60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85F-9863-486E-9E2A-5EF16D99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703-47D9-44BB-8084-A199D6F0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DA0-21E1-4C98-9C4D-EC9726D9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7A7-6299-4B06-9C1A-67E5577E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1AF-760A-43C1-9AA4-E3E4889E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FC9-9E7E-4C40-903F-3B962B70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FE5-58E4-4A9C-BEEB-307AE5AB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5E1-7F55-45DA-9825-251CD0EF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01A-BB53-43A7-8366-EEAAC56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F18-B0D7-44F8-8F03-36E3D8DAF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forzar cómo graficar e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pretar correctamente un gráf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965680" cy="4278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184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 perro parte corriendo en dirección al punto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965680" cy="427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24360" y="2852640"/>
            <a:ext cx="439272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El movimiento del perro está dado po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y(t)= C sin(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t+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 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=1.4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[hz], </a:t>
            </a: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rresponde a la amplitud del movimiento (5m) y  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debe ser calculado a partir de los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184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 perro parte corriendo en dirección al punto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arámetros: C,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32200" cy="422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9280" y="1628640"/>
            <a:ext cx="590364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orqué la C corresponde al largo de la cuer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bemos que la función seno puede tomar valores entre 1 y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-5 = C ·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5 = C ·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5373720"/>
            <a:ext cx="1584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C=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arámetros: C,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32200" cy="422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9280" y="1628640"/>
            <a:ext cx="590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nto vale </a:t>
            </a:r>
            <a:r>
              <a:rPr b="1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bemos que al inicio, es decir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0, la posición es 3,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= 3,21 = 5 · sen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·0+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sen(</a:t>
            </a:r>
            <a:r>
              <a:rPr b="1" lang="es-ES" sz="35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)=3,21 / 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tenemos la ecuación de movimiento del perro, bastará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lcular la posi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 perro a medida que transcurre el tiempo par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raficar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gráfico será direc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er el tiem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demoró en pasar el perro por tercera vez por el pun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hora … a trabajar en EXCEL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mauricio casanova</cp:lastModifiedBy>
  <dcterms:modified xsi:type="dcterms:W3CDTF">2005-01-03T02:58:29Z</dcterms:modified>
  <cp:revision>4</cp:revision>
  <dc:subject/>
  <dc:title>Clase nº1  Complemento Numérico</dc:title>
</cp:coreProperties>
</file>