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2DAB-F5D3-4BD9-A384-CB4A2433C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9B6B-B08B-4D6A-B921-D0CC4D4B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BC9A-2E35-418E-BA93-F2B9189F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4156-D215-4C25-9405-FC1D2CFCE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CFF9-6430-4730-B54A-79BDB48F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68B3-4C2D-455A-8F02-4993D211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952A-2F8F-457F-8F02-B5B6EC1C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54CD-0C99-4196-A086-B3E5B978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30BF-1BEB-4D17-8B2B-30CBA4F7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C6C0-8875-4E1F-B41E-AB18260B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3D01-9E64-4BD2-8145-1E822A09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9531-E4BE-4707-8C1E-79E20C6F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FFD8-948A-4980-B6B9-C2CE1182F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2205000"/>
            <a:ext cx="6192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e n º 1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mento Numér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560" y="4076280"/>
            <a:ext cx="727236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tiv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eforzar cómo graficar en 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nterpretar correctamente un gráf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571680" cy="857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1620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620640"/>
            <a:ext cx="4319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ULTAD DE CIENCIAS FISICAS Y MATEMA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ELA DE VERANO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unciad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2965680" cy="4278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24360" y="184464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El perro parte corriendo en dirección al punto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unciad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2965680" cy="4278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24360" y="2852640"/>
            <a:ext cx="4392720" cy="32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-El movimiento del perro está dado por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200" spc="-1" strike="noStrike">
                <a:solidFill>
                  <a:srgbClr val="ff3300"/>
                </a:solidFill>
                <a:latin typeface="Tahoma"/>
              </a:rPr>
              <a:t>y(t)= C sin(</a:t>
            </a:r>
            <a:r>
              <a:rPr b="1" lang="es-ES" sz="2200" spc="-1" strike="noStrike">
                <a:solidFill>
                  <a:srgbClr val="ff3300"/>
                </a:solidFill>
                <a:latin typeface="Symbol"/>
                <a:ea typeface="Symbol"/>
              </a:rPr>
              <a:t></a:t>
            </a:r>
            <a:r>
              <a:rPr b="1" lang="es-ES" sz="2200" spc="-1" strike="noStrike">
                <a:solidFill>
                  <a:srgbClr val="ff3300"/>
                </a:solidFill>
                <a:latin typeface="Tahoma"/>
              </a:rPr>
              <a:t>t+</a:t>
            </a:r>
            <a:r>
              <a:rPr b="1" lang="es-ES" sz="2200" spc="-1" strike="noStrike">
                <a:solidFill>
                  <a:srgbClr val="ff3300"/>
                </a:solidFill>
                <a:latin typeface="Symbol"/>
                <a:ea typeface="Symbol"/>
              </a:rPr>
              <a:t></a:t>
            </a:r>
            <a:r>
              <a:rPr b="1" lang="es-ES" sz="2200" spc="-1" strike="noStrike">
                <a:solidFill>
                  <a:srgbClr val="ff33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onde  </a:t>
            </a:r>
            <a:r>
              <a:rPr b="1" lang="es-ES" sz="2200" spc="-1" strike="noStrike">
                <a:solidFill>
                  <a:srgbClr val="ff3300"/>
                </a:solidFill>
                <a:latin typeface="Symbol"/>
                <a:ea typeface="Symbol"/>
              </a:rPr>
              <a:t>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=1.4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[hz], </a:t>
            </a:r>
            <a:r>
              <a:rPr b="1" lang="es-ES" sz="22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s-ES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rresponde a la amplitud del movimiento (5m) y  </a:t>
            </a:r>
            <a:r>
              <a:rPr b="1" lang="es-ES" sz="2200" spc="-1" strike="noStrike">
                <a:solidFill>
                  <a:srgbClr val="ff3300"/>
                </a:solidFill>
                <a:latin typeface="Symbol"/>
                <a:ea typeface="Symbol"/>
              </a:rPr>
              <a:t>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debe ser calculado a partir de los da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24360" y="184464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El perro parte corriendo en dirección al punto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Parámetros: C, </a:t>
            </a:r>
            <a:r>
              <a:rPr b="1" lang="es-ES" sz="4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s-ES" sz="4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2932200" cy="4228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59280" y="1628640"/>
            <a:ext cx="5903640" cy="40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Porqué la C corresponde al largo de la cuerd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abemos que la función seno puede tomar valores entre 1 y -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o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 -5 = C ·(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 5 = C ·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ueg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88000" y="5373720"/>
            <a:ext cx="15843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3300"/>
                </a:solidFill>
                <a:latin typeface="Arial"/>
              </a:rPr>
              <a:t>C=5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Parámetros: C, </a:t>
            </a:r>
            <a:r>
              <a:rPr b="1" lang="es-ES" sz="4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s-ES" sz="4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2932200" cy="4228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59280" y="1628640"/>
            <a:ext cx="590364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Cuánto vale </a:t>
            </a:r>
            <a:r>
              <a:rPr b="1" lang="es-E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abemos que al inicio, es decir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0, la posición es 3,2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o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 (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ienz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 = 3,21 = 5 · sen(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·0+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ueg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3300"/>
                </a:solidFill>
                <a:latin typeface="Arial"/>
              </a:rPr>
              <a:t>sen(</a:t>
            </a:r>
            <a:r>
              <a:rPr b="1" lang="es-ES" sz="3500" spc="-1" strike="noStrike">
                <a:solidFill>
                  <a:srgbClr val="ff3300"/>
                </a:solidFill>
                <a:latin typeface="Symbol"/>
                <a:ea typeface="Symbol"/>
              </a:rPr>
              <a:t></a:t>
            </a:r>
            <a:r>
              <a:rPr b="1" lang="es-ES" sz="3500" spc="-1" strike="noStrike">
                <a:solidFill>
                  <a:srgbClr val="ff3300"/>
                </a:solidFill>
                <a:latin typeface="Arial"/>
              </a:rPr>
              <a:t>)=3,21 / 5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Arial"/>
              </a:rPr>
              <a:t>Qué hacer en EXCEL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o tenemos la ecuación de movimiento del perro, bastará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alcular la posició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l perro a medida que transcurre el tiempo para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raficar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 gráfico será directo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ver el tiemp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e demoró en pasar el perro por tercera vez por el pun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hora … a trabajar en EXCEL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01:06:42Z</dcterms:created>
  <dc:creator>Maria Fernanda Duran Sierra</dc:creator>
  <dc:description/>
  <dc:language>en-US</dc:language>
  <cp:lastModifiedBy>mauricio casanova</cp:lastModifiedBy>
  <dcterms:modified xsi:type="dcterms:W3CDTF">2005-01-03T02:58:29Z</dcterms:modified>
  <cp:revision>4</cp:revision>
  <dc:subject/>
  <dc:title>Clase nº1  Complemento Numérico</dc:title>
</cp:coreProperties>
</file>