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0508-8618-41B1-A620-D687D63BC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249A-C8DD-48B7-8BD0-96DBFD2E3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99F2-D0F5-4EF8-8101-A9D89A09D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C2AD-44DC-4731-A687-D68402FF7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2144-01B9-4985-B7AE-B2FC2461D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FEA9-E0E9-4C9F-AB63-367F45D20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3CD3-EB8A-423F-9C70-349652476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1508-D79D-43E0-A328-0B0574486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B275-0983-45F1-BADD-054350647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5B79-19F8-453D-A6EF-812ED128C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6AFD-E267-4638-9BE3-2C19EEE6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E7DC-AF18-40A2-95AC-C595E0B7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46DB7-553D-4951-ABC0-193B84D8A6E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11280" y="90756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0" spc="-1" strike="noStrike">
                <a:solidFill>
                  <a:srgbClr val="ff3300"/>
                </a:solidFill>
                <a:latin typeface="Arial"/>
              </a:rPr>
              <a:t>CLASE 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500" spc="-1" strike="noStrike">
                <a:solidFill>
                  <a:srgbClr val="6666ff"/>
                </a:solidFill>
                <a:latin typeface="Arial"/>
              </a:rPr>
              <a:t>CINEMATICA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Claudia Rahman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* Observen que se supuso que el tiempo transcurre igualmente en ambos sistemas  (GALILEO… ¿Verdad?... Si las velocidades relativas son pequeñas comparadas con c, entonces es verdad! 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290520" y="3693960"/>
            <a:ext cx="8273880" cy="1390680"/>
            <a:chOff x="290520" y="3693960"/>
            <a:chExt cx="8273880" cy="1390680"/>
          </a:xfrm>
        </p:grpSpPr>
        <mc:AlternateContent>
          <mc:Choice xmlns:a14="http://schemas.microsoft.com/office/drawing/2010/main" Requires="a14">
            <p:sp>
              <p:nvSpPr>
                <p:cNvPr id="167" name=""/>
                <p:cNvSpPr txBox="1"/>
                <p:nvPr/>
              </p:nvSpPr>
              <p:spPr>
                <a:xfrm>
                  <a:off x="290520" y="3693960"/>
                  <a:ext cx="8273880" cy="1390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arco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rilla</m:t>
                                  </m:r>
                                </m:den>
                              </m:f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arco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rriente</m:t>
                                  </m:r>
                                </m:den>
                              </m:f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rriente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rilla</m:t>
                                  </m:r>
                                </m:den>
                              </m:f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arco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rilla</m:t>
                                  </m:r>
                                </m:den>
                              </m:f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°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j</m:t>
                              </m:r>
                            </m:e>
                          </m:acc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sen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°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i</m:t>
                              </m:r>
                            </m:e>
                          </m:acc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 </m:t>
                          </m:r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i</m:t>
                              </m:r>
                            </m:e>
                          </m:acc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68" name=""/>
            <p:cNvSpPr/>
            <p:nvPr/>
          </p:nvSpPr>
          <p:spPr>
            <a:xfrm>
              <a:off x="395280" y="386064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5280" y="458136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411280" y="386064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788000" y="3860640"/>
              <a:ext cx="2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885080" y="458136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000000"/>
                </a:solidFill>
                <a:latin typeface="Arial"/>
              </a:rPr>
              <a:t>Velocidad relat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MX" sz="3000" spc="-1" strike="noStrike">
                <a:solidFill>
                  <a:srgbClr val="000000"/>
                </a:solidFill>
                <a:latin typeface="Arial"/>
              </a:rPr>
              <a:t>En general, para un móvil A que se mueve c/r a un sistema de referencia O´ que se mueve a su vez c/r a un sistema de referencia O se tendrá que el vector posición de A c/r a O 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1476360" y="4203720"/>
            <a:ext cx="5361120" cy="1025640"/>
            <a:chOff x="1476360" y="4203720"/>
            <a:chExt cx="5361120" cy="1025640"/>
          </a:xfrm>
        </p:grpSpPr>
        <mc:AlternateContent>
          <mc:Choice xmlns:a14="http://schemas.microsoft.com/office/drawing/2010/main" Requires="a14">
            <p:sp>
              <p:nvSpPr>
                <p:cNvPr id="178" name=""/>
                <p:cNvSpPr txBox="1"/>
                <p:nvPr/>
              </p:nvSpPr>
              <p:spPr>
                <a:xfrm>
                  <a:off x="1476360" y="4203720"/>
                  <a:ext cx="5361120" cy="102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A</m:t>
                              </m:r>
                            </m:num>
                            <m:den>
                              <m:r>
                                <m:t xml:space="preserve">O</m:t>
                              </m:r>
                            </m:den>
                          </m:f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A</m:t>
                              </m:r>
                            </m:num>
                            <m:den>
                              <m:r>
                                <m:t xml:space="preserve">O</m:t>
                              </m:r>
                            </m:den>
                          </m:f>
                          <m:r>
                            <m:t xml:space="preserve">´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  <m:r>
                            <m:rPr>
                              <m:lit/>
                              <m:nor/>
                            </m:rPr>
                            <m:t xml:space="preserve">´/</m:t>
                          </m:r>
                          <m:r>
                            <m:t xml:space="preserve">O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79" name=""/>
            <p:cNvSpPr/>
            <p:nvPr/>
          </p:nvSpPr>
          <p:spPr>
            <a:xfrm>
              <a:off x="1547640" y="4491000"/>
              <a:ext cx="4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492360" y="4491000"/>
              <a:ext cx="4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35640" y="449100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000000"/>
                </a:solidFill>
                <a:latin typeface="Arial"/>
              </a:rPr>
              <a:t>Principio de superposi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s-MX" sz="3000" spc="-1" strike="noStrike">
                <a:solidFill>
                  <a:srgbClr val="ff0000"/>
                </a:solidFill>
                <a:latin typeface="Arial"/>
              </a:rPr>
              <a:t>Ejercicio mental … </a:t>
            </a:r>
            <a:r>
              <a:rPr b="0" lang="es-MX" sz="27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es-MX" sz="2700" spc="-1" strike="noStrike" baseline="-25000">
                <a:solidFill>
                  <a:srgbClr val="ff0000"/>
                </a:solidFill>
                <a:latin typeface="Arial"/>
              </a:rPr>
              <a:t>B</a:t>
            </a:r>
            <a:r>
              <a:rPr b="0" lang="es-MX" sz="2700" spc="-1" strike="noStrike">
                <a:solidFill>
                  <a:srgbClr val="ff0000"/>
                </a:solidFill>
                <a:latin typeface="Arial"/>
              </a:rPr>
              <a:t>=20 Km/h  y V</a:t>
            </a:r>
            <a:r>
              <a:rPr b="0" lang="es-MX" sz="2700" spc="-1" strike="noStrike" baseline="-25000">
                <a:solidFill>
                  <a:srgbClr val="ff0000"/>
                </a:solidFill>
                <a:latin typeface="Arial"/>
              </a:rPr>
              <a:t>C</a:t>
            </a:r>
            <a:r>
              <a:rPr b="0" lang="es-MX" sz="2700" spc="-1" strike="noStrike">
                <a:solidFill>
                  <a:srgbClr val="ff0000"/>
                </a:solidFill>
                <a:latin typeface="Arial"/>
              </a:rPr>
              <a:t>=10 Km/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000" spc="-1" strike="noStrike">
                <a:solidFill>
                  <a:srgbClr val="ff0000"/>
                </a:solidFill>
                <a:latin typeface="Arial"/>
              </a:rPr>
              <a:t>1) Considere un intervalo de una hor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000" spc="-1" strike="noStrike">
                <a:solidFill>
                  <a:srgbClr val="ff0000"/>
                </a:solidFill>
                <a:latin typeface="Arial"/>
              </a:rPr>
              <a:t>2) La corriente del canal se detie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s-MX" sz="3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s-MX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s-MX" sz="3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s-MX" sz="3000" spc="-1" strike="noStrike">
                <a:solidFill>
                  <a:srgbClr val="ff0000"/>
                </a:solidFill>
                <a:latin typeface="Arial"/>
              </a:rPr>
              <a:t>el barco se desplaza 20 Km. desde </a:t>
            </a:r>
            <a:r>
              <a:rPr b="0" i="1" lang="es-MX" sz="3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s-MX" sz="3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s-MX" sz="3000" spc="-1" strike="noStrike">
                <a:solidFill>
                  <a:srgbClr val="ff0000"/>
                </a:solidFill>
                <a:latin typeface="Arial"/>
              </a:rPr>
              <a:t>O´ a 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000" spc="-1" strike="noStrike">
                <a:solidFill>
                  <a:srgbClr val="ff0000"/>
                </a:solidFill>
                <a:latin typeface="Arial"/>
              </a:rPr>
              <a:t>3) Deje fluir la corriente del canal y suponga que el barco no se propuls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s-MX" sz="3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s-MX" sz="3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s-MX" sz="3000" spc="-1" strike="noStrike">
                <a:solidFill>
                  <a:srgbClr val="ff0000"/>
                </a:solidFill>
                <a:latin typeface="Arial"/>
              </a:rPr>
              <a:t>el barco se desplaza 10 Km. desd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s-MX" sz="3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s-MX" sz="3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s-MX" sz="3000" spc="-1" strike="noStrike">
                <a:solidFill>
                  <a:srgbClr val="ff0000"/>
                </a:solidFill>
                <a:latin typeface="Arial"/>
              </a:rPr>
              <a:t>P a P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1330200" y="3716280"/>
                <a:ext cx="64944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1403280" y="5734080"/>
                <a:ext cx="7207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000000"/>
                </a:solidFill>
                <a:latin typeface="Arial"/>
              </a:rPr>
              <a:t>Principio de superposi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9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El desplazamiento total durante la hora, es la superposición de ambos desplazamientos, ie, el vector de O hasta 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668600" y="3484440"/>
            <a:ext cx="4701600" cy="2492640"/>
            <a:chOff x="1668600" y="3484440"/>
            <a:chExt cx="4701600" cy="2492640"/>
          </a:xfrm>
        </p:grpSpPr>
        <p:sp>
          <p:nvSpPr>
            <p:cNvPr id="193" name=""/>
            <p:cNvSpPr/>
            <p:nvPr/>
          </p:nvSpPr>
          <p:spPr>
            <a:xfrm>
              <a:off x="6037200" y="35002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1668600" y="3500280"/>
              <a:ext cx="1701360" cy="2476800"/>
              <a:chOff x="1668600" y="3500280"/>
              <a:chExt cx="1701360" cy="2476800"/>
            </a:xfrm>
          </p:grpSpPr>
          <p:sp>
            <p:nvSpPr>
              <p:cNvPr id="195" name=""/>
              <p:cNvSpPr/>
              <p:nvPr/>
            </p:nvSpPr>
            <p:spPr>
              <a:xfrm>
                <a:off x="3083040" y="3500280"/>
                <a:ext cx="0" cy="201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 flipV="1">
                <a:off x="2147760" y="3789360"/>
                <a:ext cx="935280" cy="172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920680" y="560880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668600" y="3521160"/>
                <a:ext cx="40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P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775960" y="485316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4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>
                <a:off x="2795400" y="4797360"/>
                <a:ext cx="574560" cy="288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839960" y="4363920"/>
                <a:ext cx="746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400" spc="-1" strike="noStrike">
                    <a:solidFill>
                      <a:srgbClr val="000000"/>
                    </a:solidFill>
                    <a:latin typeface="Arial"/>
                  </a:rPr>
                  <a:t>20 Km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4495680" y="3500280"/>
              <a:ext cx="1700640" cy="2476800"/>
              <a:chOff x="4495680" y="3500280"/>
              <a:chExt cx="1700640" cy="2476800"/>
            </a:xfrm>
          </p:grpSpPr>
          <p:sp>
            <p:nvSpPr>
              <p:cNvPr id="203" name=""/>
              <p:cNvSpPr/>
              <p:nvPr/>
            </p:nvSpPr>
            <p:spPr>
              <a:xfrm>
                <a:off x="5910120" y="3500280"/>
                <a:ext cx="0" cy="201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 flipV="1">
                <a:off x="4974480" y="3789360"/>
                <a:ext cx="934920" cy="172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747760" y="560880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495680" y="3521160"/>
                <a:ext cx="40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P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602680" y="485316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4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>
                <a:off x="5622480" y="4797360"/>
                <a:ext cx="573840" cy="288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666680" y="4363920"/>
                <a:ext cx="746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400" spc="-1" strike="noStrike">
                    <a:solidFill>
                      <a:srgbClr val="000000"/>
                    </a:solidFill>
                    <a:latin typeface="Arial"/>
                  </a:rPr>
                  <a:t>20 Km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5029200" y="3789360"/>
              <a:ext cx="93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100480" y="3484440"/>
              <a:ext cx="74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Arial"/>
                </a:rPr>
                <a:t>10 Km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000000"/>
                </a:solidFill>
                <a:latin typeface="Arial"/>
              </a:rPr>
              <a:t>Principio de superposi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9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El movimiento en la dirección     no altera las leyes que rigen el movimiento en la dirección     , y viceversa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Ambos movimientos pueden ser analizado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en forma separad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33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116000" y="1557360"/>
            <a:ext cx="5670720" cy="2232000"/>
            <a:chOff x="1116000" y="1557360"/>
            <a:chExt cx="5670720" cy="2232000"/>
          </a:xfrm>
        </p:grpSpPr>
        <mc:AlternateContent>
          <mc:Choice xmlns:a14="http://schemas.microsoft.com/office/drawing/2010/main" Requires="a14">
            <p:sp>
              <p:nvSpPr>
                <p:cNvPr id="217" name=""/>
                <p:cNvSpPr txBox="1"/>
                <p:nvPr/>
              </p:nvSpPr>
              <p:spPr>
                <a:xfrm>
                  <a:off x="1116000" y="3414600"/>
                  <a:ext cx="431640" cy="37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∴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8" name=""/>
                <p:cNvSpPr txBox="1"/>
                <p:nvPr/>
              </p:nvSpPr>
              <p:spPr>
                <a:xfrm>
                  <a:off x="5148360" y="1557360"/>
                  <a:ext cx="241200" cy="50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i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9" name=""/>
                <p:cNvSpPr txBox="1"/>
                <p:nvPr/>
              </p:nvSpPr>
              <p:spPr>
                <a:xfrm>
                  <a:off x="6486480" y="1957320"/>
                  <a:ext cx="300240" cy="56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j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Se lanza un objeto con velocidad horizontal      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Si la partícula se ubica al borde de un edificio de altura h. ¿A que distancia del borde tocará el piso este objeto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7093080" y="1555920"/>
                <a:ext cx="357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736920" y="3357720"/>
            <a:ext cx="6859080" cy="4896000"/>
            <a:chOff x="736920" y="3357720"/>
            <a:chExt cx="6859080" cy="4896000"/>
          </a:xfrm>
        </p:grpSpPr>
        <p:sp>
          <p:nvSpPr>
            <p:cNvPr id="227" name=""/>
            <p:cNvSpPr/>
            <p:nvPr/>
          </p:nvSpPr>
          <p:spPr>
            <a:xfrm>
              <a:off x="1403280" y="3862080"/>
              <a:ext cx="1440000" cy="21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338200" y="4222440"/>
              <a:ext cx="217440" cy="286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338200" y="4655880"/>
              <a:ext cx="217440" cy="286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338200" y="5087520"/>
              <a:ext cx="21744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834920" y="4222440"/>
              <a:ext cx="217800" cy="286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834920" y="4655880"/>
              <a:ext cx="217800" cy="286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834920" y="5086080"/>
              <a:ext cx="217800" cy="286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555640" y="3646080"/>
              <a:ext cx="216000" cy="215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403280" y="6022800"/>
              <a:ext cx="6192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257480" y="3790800"/>
              <a:ext cx="5762160" cy="446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2843280" y="3790800"/>
              <a:ext cx="12952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914560" y="3790800"/>
              <a:ext cx="576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091280" y="3430440"/>
              <a:ext cx="0" cy="50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713640" y="3377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843280" y="6238800"/>
              <a:ext cx="424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81640" y="61862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187280" y="3862080"/>
              <a:ext cx="0" cy="21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36920" y="47462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5" name=""/>
                <p:cNvSpPr txBox="1"/>
                <p:nvPr/>
              </p:nvSpPr>
              <p:spPr>
                <a:xfrm>
                  <a:off x="2914560" y="3357720"/>
                  <a:ext cx="306360" cy="43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Las  ecuaciones serán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9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3059280" y="2276640"/>
                <a:ext cx="2665080" cy="23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t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g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2627280" y="1844640"/>
                <a:ext cx="2670120" cy="439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g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⇒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g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⇒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⇒</m:t>
                        </m:r>
                        <m:r>
                          <m:t xml:space="preserve">t</m:t>
                        </m:r>
                        <m:r>
                          <m:t xml:space="preserve">∗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g</m:t>
                                </m:r>
                              </m:den>
                            </m:f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Luego, reemplazando el valor del tiempo obtenid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2987640" y="2205000"/>
                <a:ext cx="194472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t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g</m:t>
                                </m:r>
                              </m:den>
                            </m:f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000" spc="-1" strike="noStrike">
                <a:solidFill>
                  <a:srgbClr val="000000"/>
                </a:solidFill>
                <a:latin typeface="Arial"/>
              </a:rPr>
              <a:t>Posición, velocidad y aceleración en dos dimens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s-MX" sz="2700" spc="-1" strike="noStrike">
                <a:solidFill>
                  <a:srgbClr val="ff0000"/>
                </a:solidFill>
                <a:latin typeface="Arial"/>
              </a:rPr>
              <a:t>Habíamos visto qu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700" spc="-1" strike="noStrike">
                <a:solidFill>
                  <a:srgbClr val="6666ff"/>
                </a:solidFill>
                <a:latin typeface="Arial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038400" y="3036960"/>
            <a:ext cx="2706840" cy="2624040"/>
            <a:chOff x="3038400" y="3036960"/>
            <a:chExt cx="2706840" cy="2624040"/>
          </a:xfrm>
        </p:grpSpPr>
        <mc:AlternateContent>
          <mc:Choice xmlns:a14="http://schemas.microsoft.com/office/drawing/2010/main" Requires="a14">
            <p:sp>
              <p:nvSpPr>
                <p:cNvPr id="47" name=""/>
                <p:cNvSpPr txBox="1"/>
                <p:nvPr/>
              </p:nvSpPr>
              <p:spPr>
                <a:xfrm>
                  <a:off x="3038400" y="3036960"/>
                  <a:ext cx="2706840" cy="262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</m:e>
                          </m:d>
                        </m:e>
                        <m:e>
                          <m:r>
                            <m:t xml:space="preserve">v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d>
                        </m:e>
                        <m:e>
                          <m:r>
                            <m:t xml:space="preserve">a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48" name=""/>
            <p:cNvSpPr/>
            <p:nvPr/>
          </p:nvSpPr>
          <p:spPr>
            <a:xfrm>
              <a:off x="3132000" y="3284280"/>
              <a:ext cx="28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132000" y="4076640"/>
              <a:ext cx="28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132000" y="5013000"/>
              <a:ext cx="28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000000"/>
                </a:solidFill>
                <a:latin typeface="Arial"/>
              </a:rPr>
              <a:t>Movimiento relativo, 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9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55640" y="2276640"/>
            <a:ext cx="7875720" cy="40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500" spc="-1" strike="noStrike">
                <a:solidFill>
                  <a:srgbClr val="6666ff"/>
                </a:solidFill>
                <a:latin typeface="Arial"/>
              </a:rPr>
              <a:t>Una persona camina sobre la cubierta de un barco. Su velocidad con respecto al barco (relativa),se puede determinar usando las definiciones dadas anteriormente </a:t>
            </a: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tomando como sistema de referencia el barco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500" spc="-1" strike="noStrike">
                <a:solidFill>
                  <a:srgbClr val="6666ff"/>
                </a:solidFill>
                <a:latin typeface="Arial"/>
              </a:rPr>
              <a:t>Ahora bien, para un observador ubicado en la orilla, la situación es COMPLETAMENTE diferente pues debe sumarle a la velocidad del pasajero relativa  al barco, la velocidad del barco mism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5003640" y="5357880"/>
                <a:ext cx="36720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→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GALILEO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000000"/>
                </a:solidFill>
                <a:latin typeface="Arial"/>
              </a:rPr>
              <a:t>Movimiento relat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143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0000"/>
                </a:solidFill>
                <a:latin typeface="Arial"/>
              </a:rPr>
              <a:t>Cuando se habla de velocidad se debe indicar el sistema de referencia con respecto al cual ésta se está midiendo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0000"/>
                </a:solidFill>
                <a:latin typeface="Arial"/>
              </a:rPr>
              <a:t>En este sentido se emplea el término </a:t>
            </a:r>
            <a:r>
              <a:rPr b="0" lang="es-MX" sz="2500" spc="-1" strike="noStrike">
                <a:solidFill>
                  <a:srgbClr val="6666ff"/>
                </a:solidFill>
                <a:latin typeface="Arial"/>
              </a:rPr>
              <a:t>velocidad relativa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0000"/>
                </a:solidFill>
                <a:latin typeface="Arial"/>
              </a:rPr>
              <a:t>En estricto rigor todas las velocidades son relativas, pero en la práctica, se usa sólo cuando hay más de un sistema de referencia </a:t>
            </a:r>
            <a:r>
              <a:rPr b="0" lang="es-MX" sz="21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MX" sz="21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9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0000"/>
                </a:solidFill>
                <a:latin typeface="Arial"/>
              </a:rPr>
              <a:t>La corriente de un canal tiene una velocidad V</a:t>
            </a:r>
            <a:r>
              <a:rPr b="0" lang="es-MX" sz="2500" spc="-1" strike="noStrike" baseline="-25000">
                <a:solidFill>
                  <a:srgbClr val="ff0000"/>
                </a:solidFill>
                <a:latin typeface="Arial"/>
              </a:rPr>
              <a:t>C </a:t>
            </a:r>
            <a:r>
              <a:rPr b="0" lang="es-MX" sz="2500" spc="-1" strike="noStrike">
                <a:solidFill>
                  <a:srgbClr val="ff0000"/>
                </a:solidFill>
                <a:latin typeface="Arial"/>
              </a:rPr>
              <a:t>en dirección sur. Un barco navega en dirección de 30° Nor-este con una velocidad de V</a:t>
            </a:r>
            <a:r>
              <a:rPr b="0" lang="es-MX" sz="2500" spc="-1" strike="noStrike" baseline="-25000">
                <a:solidFill>
                  <a:srgbClr val="ff0000"/>
                </a:solidFill>
                <a:latin typeface="Arial"/>
              </a:rPr>
              <a:t>B</a:t>
            </a:r>
            <a:r>
              <a:rPr b="0" lang="es-MX" sz="25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s-MX" sz="2500" spc="-1" strike="noStrike">
                <a:solidFill>
                  <a:srgbClr val="6666ff"/>
                </a:solidFill>
                <a:latin typeface="Arial"/>
              </a:rPr>
              <a:t>con respecto a la corriente del can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5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0" i="1" lang="es-MX" sz="2500" spc="-1" strike="noStrike">
                <a:solidFill>
                  <a:srgbClr val="000000"/>
                </a:solidFill>
                <a:latin typeface="Arial"/>
              </a:rPr>
              <a:t>¿Cuál es la velocidad del barco según un observador situado en la orilla?</a:t>
            </a:r>
            <a:r>
              <a:rPr b="0" i="1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466560" y="1989000"/>
            <a:ext cx="8066160" cy="4275360"/>
            <a:chOff x="466560" y="1989000"/>
            <a:chExt cx="8066160" cy="4275360"/>
          </a:xfrm>
        </p:grpSpPr>
        <p:grpSp>
          <p:nvGrpSpPr>
            <p:cNvPr id="64" name=""/>
            <p:cNvGrpSpPr/>
            <p:nvPr/>
          </p:nvGrpSpPr>
          <p:grpSpPr>
            <a:xfrm>
              <a:off x="466560" y="1989000"/>
              <a:ext cx="8066160" cy="4275360"/>
              <a:chOff x="466560" y="1989000"/>
              <a:chExt cx="8066160" cy="4275360"/>
            </a:xfrm>
          </p:grpSpPr>
          <p:grpSp>
            <p:nvGrpSpPr>
              <p:cNvPr id="65" name=""/>
              <p:cNvGrpSpPr/>
              <p:nvPr/>
            </p:nvGrpSpPr>
            <p:grpSpPr>
              <a:xfrm>
                <a:off x="466560" y="1989000"/>
                <a:ext cx="8066160" cy="4060800"/>
                <a:chOff x="466560" y="1989000"/>
                <a:chExt cx="8066160" cy="406080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539640" y="5291280"/>
                  <a:ext cx="7993080" cy="380880"/>
                </a:xfrm>
                <a:custGeom>
                  <a:avLst/>
                  <a:gdLst/>
                  <a:ahLst/>
                  <a:rect l="l" t="t" r="r" b="b"/>
                  <a:pathLst>
                    <a:path w="5035" h="240">
                      <a:moveTo>
                        <a:pt x="0" y="233"/>
                      </a:moveTo>
                      <a:cubicBezTo>
                        <a:pt x="181" y="150"/>
                        <a:pt x="363" y="67"/>
                        <a:pt x="544" y="52"/>
                      </a:cubicBezTo>
                      <a:cubicBezTo>
                        <a:pt x="725" y="37"/>
                        <a:pt x="930" y="120"/>
                        <a:pt x="1089" y="143"/>
                      </a:cubicBezTo>
                      <a:cubicBezTo>
                        <a:pt x="1248" y="166"/>
                        <a:pt x="1354" y="188"/>
                        <a:pt x="1497" y="188"/>
                      </a:cubicBezTo>
                      <a:cubicBezTo>
                        <a:pt x="1640" y="188"/>
                        <a:pt x="1791" y="136"/>
                        <a:pt x="1950" y="143"/>
                      </a:cubicBezTo>
                      <a:cubicBezTo>
                        <a:pt x="2109" y="150"/>
                        <a:pt x="2283" y="226"/>
                        <a:pt x="2449" y="233"/>
                      </a:cubicBezTo>
                      <a:cubicBezTo>
                        <a:pt x="2615" y="240"/>
                        <a:pt x="2782" y="226"/>
                        <a:pt x="2948" y="188"/>
                      </a:cubicBezTo>
                      <a:cubicBezTo>
                        <a:pt x="3114" y="150"/>
                        <a:pt x="3235" y="14"/>
                        <a:pt x="3447" y="7"/>
                      </a:cubicBezTo>
                      <a:cubicBezTo>
                        <a:pt x="3659" y="0"/>
                        <a:pt x="4021" y="120"/>
                        <a:pt x="4218" y="143"/>
                      </a:cubicBezTo>
                      <a:cubicBezTo>
                        <a:pt x="4415" y="166"/>
                        <a:pt x="4491" y="143"/>
                        <a:pt x="4627" y="143"/>
                      </a:cubicBezTo>
                      <a:cubicBezTo>
                        <a:pt x="4763" y="143"/>
                        <a:pt x="4899" y="143"/>
                        <a:pt x="5035" y="143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466560" y="1989000"/>
                  <a:ext cx="7993080" cy="381240"/>
                </a:xfrm>
                <a:custGeom>
                  <a:avLst/>
                  <a:gdLst/>
                  <a:ahLst/>
                  <a:rect l="l" t="t" r="r" b="b"/>
                  <a:pathLst>
                    <a:path w="5035" h="240">
                      <a:moveTo>
                        <a:pt x="0" y="233"/>
                      </a:moveTo>
                      <a:cubicBezTo>
                        <a:pt x="181" y="150"/>
                        <a:pt x="363" y="67"/>
                        <a:pt x="544" y="52"/>
                      </a:cubicBezTo>
                      <a:cubicBezTo>
                        <a:pt x="725" y="37"/>
                        <a:pt x="930" y="120"/>
                        <a:pt x="1089" y="143"/>
                      </a:cubicBezTo>
                      <a:cubicBezTo>
                        <a:pt x="1248" y="166"/>
                        <a:pt x="1354" y="188"/>
                        <a:pt x="1497" y="188"/>
                      </a:cubicBezTo>
                      <a:cubicBezTo>
                        <a:pt x="1640" y="188"/>
                        <a:pt x="1791" y="136"/>
                        <a:pt x="1950" y="143"/>
                      </a:cubicBezTo>
                      <a:cubicBezTo>
                        <a:pt x="2109" y="150"/>
                        <a:pt x="2283" y="226"/>
                        <a:pt x="2449" y="233"/>
                      </a:cubicBezTo>
                      <a:cubicBezTo>
                        <a:pt x="2615" y="240"/>
                        <a:pt x="2782" y="226"/>
                        <a:pt x="2948" y="188"/>
                      </a:cubicBezTo>
                      <a:cubicBezTo>
                        <a:pt x="3114" y="150"/>
                        <a:pt x="3235" y="14"/>
                        <a:pt x="3447" y="7"/>
                      </a:cubicBezTo>
                      <a:cubicBezTo>
                        <a:pt x="3659" y="0"/>
                        <a:pt x="4021" y="120"/>
                        <a:pt x="4218" y="143"/>
                      </a:cubicBezTo>
                      <a:cubicBezTo>
                        <a:pt x="4415" y="166"/>
                        <a:pt x="4491" y="143"/>
                        <a:pt x="4627" y="143"/>
                      </a:cubicBezTo>
                      <a:cubicBezTo>
                        <a:pt x="4763" y="143"/>
                        <a:pt x="4899" y="143"/>
                        <a:pt x="5035" y="143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 flipV="1">
                  <a:off x="4427640" y="2925720"/>
                  <a:ext cx="0" cy="1727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4427640" y="4653000"/>
                  <a:ext cx="1224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4346280" y="248616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y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5705280" y="438480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x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4049640" y="4673520"/>
                  <a:ext cx="435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O´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3348000" y="5445000"/>
                  <a:ext cx="144360" cy="144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 flipH="1">
                  <a:off x="3347640" y="5445000"/>
                  <a:ext cx="144360" cy="144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3257280" y="5681520"/>
                  <a:ext cx="358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 flipH="1" flipV="1">
                  <a:off x="3492360" y="3068280"/>
                  <a:ext cx="935280" cy="1584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4068360" y="3932280"/>
                  <a:ext cx="378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000000"/>
                      </a:solidFill>
                      <a:latin typeface="Arial"/>
                    </a:rPr>
                    <a:t>3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 flipH="1">
                  <a:off x="4067280" y="3860640"/>
                  <a:ext cx="720000" cy="288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3708360" y="3502080"/>
                  <a:ext cx="289080" cy="3603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3402000" y="3494160"/>
                  <a:ext cx="333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3492360" y="3068640"/>
                  <a:ext cx="142920" cy="73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3492360" y="3068640"/>
                  <a:ext cx="0" cy="144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971640" y="3789360"/>
                  <a:ext cx="151272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1098360" y="3233880"/>
                  <a:ext cx="11181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Corriente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2842920" y="5327640"/>
                <a:ext cx="360720" cy="936720"/>
                <a:chOff x="2842920" y="5327640"/>
                <a:chExt cx="360720" cy="93672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2914560" y="5327640"/>
                  <a:ext cx="216000" cy="28764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2987640" y="5615280"/>
                  <a:ext cx="0" cy="43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843280" y="5759640"/>
                  <a:ext cx="360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2987640" y="6048360"/>
                  <a:ext cx="216000" cy="21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flipH="1">
                  <a:off x="2842920" y="6046920"/>
                  <a:ext cx="144360" cy="144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"/>
            <p:cNvSpPr/>
            <p:nvPr/>
          </p:nvSpPr>
          <p:spPr>
            <a:xfrm>
              <a:off x="6210720" y="2251080"/>
              <a:ext cx="2224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O´ se mueve con l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corriente del ca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Arial"/>
              </a:rPr>
              <a:t>El sistema de referencia xy asociado al punto O´ se mueve junto con la corriente del cana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Arial"/>
              </a:rPr>
              <a:t>La posición del barco c/r al observador parado en la orilla está dado en cualquier instante por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739080" y="4149720"/>
            <a:ext cx="7894800" cy="2362680"/>
            <a:chOff x="739080" y="4149720"/>
            <a:chExt cx="7894800" cy="2362680"/>
          </a:xfrm>
        </p:grpSpPr>
        <mc:AlternateContent>
          <mc:Choice xmlns:a14="http://schemas.microsoft.com/office/drawing/2010/main" Requires="a14">
            <p:sp>
              <p:nvSpPr>
                <p:cNvPr id="96" name=""/>
                <p:cNvSpPr txBox="1"/>
                <p:nvPr/>
              </p:nvSpPr>
              <p:spPr>
                <a:xfrm>
                  <a:off x="2556000" y="4149720"/>
                  <a:ext cx="2879640" cy="52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OP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OO</m:t>
                      </m:r>
                      <m:r>
                        <m:t xml:space="preserve">´</m:t>
                      </m:r>
                      <m:r>
                        <m:t xml:space="preserve">+</m:t>
                      </m:r>
                      <m:r>
                        <m:t xml:space="preserve">O</m:t>
                      </m:r>
                      <m:r>
                        <m:t xml:space="preserve">´</m:t>
                      </m:r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7" name=""/>
            <p:cNvSpPr/>
            <p:nvPr/>
          </p:nvSpPr>
          <p:spPr>
            <a:xfrm flipV="1">
              <a:off x="2340000" y="4723920"/>
              <a:ext cx="503280" cy="5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39080" y="5176800"/>
              <a:ext cx="20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Posición del barc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c/r al observado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en la orill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3924360" y="472392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043440" y="5321160"/>
              <a:ext cx="1625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Posición d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punto O´ c/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al observado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en la orill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>
              <a:off x="5148000" y="4723920"/>
              <a:ext cx="21564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132520" y="5321160"/>
              <a:ext cx="3501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Desplazamiento del barco c/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al sistema de coordenadas móvi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O´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627280" y="422100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708360" y="422100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716360" y="422100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23640" y="1962000"/>
            <a:ext cx="8209080" cy="4275360"/>
            <a:chOff x="323640" y="1962000"/>
            <a:chExt cx="8209080" cy="4275360"/>
          </a:xfrm>
        </p:grpSpPr>
        <p:sp>
          <p:nvSpPr>
            <p:cNvPr id="109" name=""/>
            <p:cNvSpPr/>
            <p:nvPr/>
          </p:nvSpPr>
          <p:spPr>
            <a:xfrm>
              <a:off x="539640" y="5264280"/>
              <a:ext cx="7993080" cy="380880"/>
            </a:xfrm>
            <a:custGeom>
              <a:avLst/>
              <a:gdLst/>
              <a:ahLst/>
              <a:rect l="l" t="t" r="r" b="b"/>
              <a:pathLst>
                <a:path w="5035" h="240">
                  <a:moveTo>
                    <a:pt x="0" y="233"/>
                  </a:moveTo>
                  <a:cubicBezTo>
                    <a:pt x="181" y="150"/>
                    <a:pt x="363" y="67"/>
                    <a:pt x="544" y="52"/>
                  </a:cubicBezTo>
                  <a:cubicBezTo>
                    <a:pt x="725" y="37"/>
                    <a:pt x="930" y="120"/>
                    <a:pt x="1089" y="143"/>
                  </a:cubicBezTo>
                  <a:cubicBezTo>
                    <a:pt x="1248" y="166"/>
                    <a:pt x="1354" y="188"/>
                    <a:pt x="1497" y="188"/>
                  </a:cubicBezTo>
                  <a:cubicBezTo>
                    <a:pt x="1640" y="188"/>
                    <a:pt x="1791" y="136"/>
                    <a:pt x="1950" y="143"/>
                  </a:cubicBezTo>
                  <a:cubicBezTo>
                    <a:pt x="2109" y="150"/>
                    <a:pt x="2283" y="226"/>
                    <a:pt x="2449" y="233"/>
                  </a:cubicBezTo>
                  <a:cubicBezTo>
                    <a:pt x="2615" y="240"/>
                    <a:pt x="2782" y="226"/>
                    <a:pt x="2948" y="188"/>
                  </a:cubicBezTo>
                  <a:cubicBezTo>
                    <a:pt x="3114" y="150"/>
                    <a:pt x="3235" y="14"/>
                    <a:pt x="3447" y="7"/>
                  </a:cubicBezTo>
                  <a:cubicBezTo>
                    <a:pt x="3659" y="0"/>
                    <a:pt x="4021" y="120"/>
                    <a:pt x="4218" y="143"/>
                  </a:cubicBezTo>
                  <a:cubicBezTo>
                    <a:pt x="4415" y="166"/>
                    <a:pt x="4491" y="143"/>
                    <a:pt x="4627" y="143"/>
                  </a:cubicBezTo>
                  <a:cubicBezTo>
                    <a:pt x="4763" y="143"/>
                    <a:pt x="4899" y="143"/>
                    <a:pt x="5035" y="14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66560" y="1962000"/>
              <a:ext cx="7993080" cy="381240"/>
            </a:xfrm>
            <a:custGeom>
              <a:avLst/>
              <a:gdLst/>
              <a:ahLst/>
              <a:rect l="l" t="t" r="r" b="b"/>
              <a:pathLst>
                <a:path w="5035" h="240">
                  <a:moveTo>
                    <a:pt x="0" y="233"/>
                  </a:moveTo>
                  <a:cubicBezTo>
                    <a:pt x="181" y="150"/>
                    <a:pt x="363" y="67"/>
                    <a:pt x="544" y="52"/>
                  </a:cubicBezTo>
                  <a:cubicBezTo>
                    <a:pt x="725" y="37"/>
                    <a:pt x="930" y="120"/>
                    <a:pt x="1089" y="143"/>
                  </a:cubicBezTo>
                  <a:cubicBezTo>
                    <a:pt x="1248" y="166"/>
                    <a:pt x="1354" y="188"/>
                    <a:pt x="1497" y="188"/>
                  </a:cubicBezTo>
                  <a:cubicBezTo>
                    <a:pt x="1640" y="188"/>
                    <a:pt x="1791" y="136"/>
                    <a:pt x="1950" y="143"/>
                  </a:cubicBezTo>
                  <a:cubicBezTo>
                    <a:pt x="2109" y="150"/>
                    <a:pt x="2283" y="226"/>
                    <a:pt x="2449" y="233"/>
                  </a:cubicBezTo>
                  <a:cubicBezTo>
                    <a:pt x="2615" y="240"/>
                    <a:pt x="2782" y="226"/>
                    <a:pt x="2948" y="188"/>
                  </a:cubicBezTo>
                  <a:cubicBezTo>
                    <a:pt x="3114" y="150"/>
                    <a:pt x="3235" y="14"/>
                    <a:pt x="3447" y="7"/>
                  </a:cubicBezTo>
                  <a:cubicBezTo>
                    <a:pt x="3659" y="0"/>
                    <a:pt x="4021" y="120"/>
                    <a:pt x="4218" y="143"/>
                  </a:cubicBezTo>
                  <a:cubicBezTo>
                    <a:pt x="4415" y="166"/>
                    <a:pt x="4491" y="143"/>
                    <a:pt x="4627" y="143"/>
                  </a:cubicBezTo>
                  <a:cubicBezTo>
                    <a:pt x="4763" y="143"/>
                    <a:pt x="4899" y="143"/>
                    <a:pt x="5035" y="14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1115640" y="5300640"/>
              <a:ext cx="144720" cy="144360"/>
              <a:chOff x="1115640" y="5300640"/>
              <a:chExt cx="144720" cy="144360"/>
            </a:xfrm>
          </p:grpSpPr>
          <p:sp>
            <p:nvSpPr>
              <p:cNvPr id="112" name=""/>
              <p:cNvSpPr/>
              <p:nvPr/>
            </p:nvSpPr>
            <p:spPr>
              <a:xfrm>
                <a:off x="1116000" y="530064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>
                <a:off x="1115640" y="530064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973080" y="558972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844720" y="2421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2781360" y="2466720"/>
              <a:ext cx="0" cy="172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781360" y="4194000"/>
              <a:ext cx="122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059000" y="3925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757240" y="4214880"/>
              <a:ext cx="43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O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 flipV="1">
              <a:off x="1846080" y="2610000"/>
              <a:ext cx="934920" cy="1584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422080" y="347328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2421000" y="3402000"/>
              <a:ext cx="720000" cy="2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22560" y="3068640"/>
              <a:ext cx="28872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49080" y="3035160"/>
              <a:ext cx="54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P(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846440" y="2610000"/>
              <a:ext cx="14256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846440" y="261000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323640" y="5300640"/>
              <a:ext cx="360720" cy="936720"/>
              <a:chOff x="323640" y="5300640"/>
              <a:chExt cx="360720" cy="936720"/>
            </a:xfrm>
          </p:grpSpPr>
          <p:sp>
            <p:nvSpPr>
              <p:cNvPr id="128" name=""/>
              <p:cNvSpPr/>
              <p:nvPr/>
            </p:nvSpPr>
            <p:spPr>
              <a:xfrm>
                <a:off x="395280" y="5300640"/>
                <a:ext cx="216000" cy="287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68360" y="5588280"/>
                <a:ext cx="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24000" y="5732640"/>
                <a:ext cx="36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68360" y="6021360"/>
                <a:ext cx="21600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>
                <a:off x="323640" y="601992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6713280" y="24591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5589720" y="2466720"/>
              <a:ext cx="0" cy="172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589720" y="4194000"/>
              <a:ext cx="122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867360" y="3925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565600" y="4214880"/>
              <a:ext cx="43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O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4654440" y="2610000"/>
              <a:ext cx="935280" cy="1584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230440" y="347328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5229360" y="3402000"/>
              <a:ext cx="720000" cy="2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714920" y="2781360"/>
              <a:ext cx="28872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709080" y="242100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P(t)+</a:t>
              </a:r>
              <a:r>
                <a:rPr b="0" lang="es-MX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654440" y="2610000"/>
              <a:ext cx="14292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54440" y="261000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1187280" y="4221000"/>
              <a:ext cx="1656000" cy="1152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1187280" y="4149720"/>
              <a:ext cx="4392720" cy="12240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309760" y="393372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696560" y="3878280"/>
              <a:ext cx="58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t+</a:t>
              </a:r>
              <a:r>
                <a:rPr b="0" lang="es-MX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MX" sz="2500" spc="-1" strike="noStrike">
                <a:solidFill>
                  <a:srgbClr val="000000"/>
                </a:solidFill>
                <a:latin typeface="Arial"/>
              </a:rPr>
              <a:t>La velocidad del barco c/r a la orilla será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289080" y="2276640"/>
            <a:ext cx="8243640" cy="1730160"/>
            <a:chOff x="289080" y="2276640"/>
            <a:chExt cx="8243640" cy="1730160"/>
          </a:xfrm>
        </p:grpSpPr>
        <mc:AlternateContent>
          <mc:Choice xmlns:a14="http://schemas.microsoft.com/office/drawing/2010/main" Requires="a14">
            <p:sp>
              <p:nvSpPr>
                <p:cNvPr id="154" name=""/>
                <p:cNvSpPr txBox="1"/>
                <p:nvPr/>
              </p:nvSpPr>
              <p:spPr>
                <a:xfrm>
                  <a:off x="289080" y="2276640"/>
                  <a:ext cx="8243640" cy="173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arco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rilla</m:t>
                                  </m:r>
                                </m:den>
                              </m:f>
                            </m:sub>
                          </m:sSub>
                          <m:r>
                            <m:t xml:space="preserve">=</m:t>
                          </m:r>
                          <m:limLow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im</m:t>
                              </m:r>
                            </m:e>
                            <m:lim>
                              <m:r>
                                <m:t xml:space="preserve">Δt</m:t>
                              </m:r>
                              <m:r>
                                <m:t xml:space="preserve">→</m:t>
                              </m:r>
                              <m:r>
                                <m:t xml:space="preserve">0</m:t>
                              </m:r>
                            </m:lim>
                          </m:limLow>
                          <m:d>
                            <m:dPr>
                              <m:begChr m:val="{"/>
                              <m:endChr m:val="}"/>
                            </m:dPr>
                            <m:e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P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Δt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P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)</m:t>
                                  </m:r>
                                </m:num>
                                <m:den>
                                  <m:r>
                                    <m:t xml:space="preserve">Δt</m:t>
                                  </m:r>
                                </m:den>
                              </m:f>
                            </m:e>
                          </m:d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arco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rilla</m:t>
                                  </m:r>
                                </m:den>
                              </m:f>
                            </m:sub>
                          </m:sSub>
                          <m:r>
                            <m:t xml:space="preserve">=</m:t>
                          </m:r>
                          <m:limLow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im</m:t>
                              </m:r>
                            </m:e>
                            <m:lim>
                              <m:r>
                                <m:t xml:space="preserve">Δt</m:t>
                              </m:r>
                              <m:r>
                                <m:t xml:space="preserve">→</m:t>
                              </m:r>
                              <m:r>
                                <m:t xml:space="preserve">0</m:t>
                              </m:r>
                            </m:lim>
                          </m:limLow>
                          <m:d>
                            <m:dPr>
                              <m:begChr m:val="{"/>
                              <m:endChr m:val="}"/>
                            </m:dPr>
                            <m:e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O</m:t>
                                  </m:r>
                                  <m:r>
                                    <m:t xml:space="preserve">´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Δt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O</m:t>
                                  </m:r>
                                  <m:r>
                                    <m:t xml:space="preserve">´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)</m:t>
                                  </m:r>
                                </m:num>
                                <m:den>
                                  <m:r>
                                    <m:t xml:space="preserve">Δt</m:t>
                                  </m:r>
                                </m:den>
                              </m:f>
                            </m:e>
                          </m:d>
                          <m:r>
                            <m:t xml:space="preserve">+</m:t>
                          </m:r>
                          <m:limLow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im</m:t>
                              </m:r>
                            </m:e>
                            <m:lim>
                              <m:r>
                                <m:t xml:space="preserve">Δt</m:t>
                              </m:r>
                              <m:r>
                                <m:t xml:space="preserve">→</m:t>
                              </m:r>
                              <m:r>
                                <m:t xml:space="preserve">0</m:t>
                              </m:r>
                            </m:lim>
                          </m:limLow>
                          <m:d>
                            <m:dPr>
                              <m:begChr m:val="{"/>
                              <m:endChr m:val="}"/>
                            </m:dPr>
                            <m:e>
                              <m:f>
                                <m:num>
                                  <m:r>
                                    <m:t xml:space="preserve">O</m:t>
                                  </m:r>
                                  <m:r>
                                    <m:t xml:space="preserve">´</m:t>
                                  </m:r>
                                  <m:r>
                                    <m:t xml:space="preserve">P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Δt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O</m:t>
                                  </m:r>
                                  <m:r>
                                    <m:t xml:space="preserve">´</m:t>
                                  </m:r>
                                  <m:r>
                                    <m:t xml:space="preserve">P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)</m:t>
                                  </m:r>
                                </m:num>
                                <m:den>
                                  <m:r>
                                    <m:t xml:space="preserve">Δt</m:t>
                                  </m:r>
                                </m:den>
                              </m:f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55" name=""/>
            <p:cNvSpPr/>
            <p:nvPr/>
          </p:nvSpPr>
          <p:spPr>
            <a:xfrm>
              <a:off x="2411280" y="23619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95640" y="23619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484360" y="32256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067280" y="32256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940360" y="32256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596360" y="32256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2323440" y="4516560"/>
            <a:ext cx="413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Arial"/>
              </a:rPr>
              <a:t>El límite de la suma, es igual a la su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Arial"/>
              </a:rPr>
              <a:t>del límite de los suman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8T01:44:00Z</dcterms:created>
  <dc:creator>Claudia Rahmann</dc:creator>
  <dc:description/>
  <dc:language>en-US</dc:language>
  <cp:lastModifiedBy>nzamora</cp:lastModifiedBy>
  <dcterms:modified xsi:type="dcterms:W3CDTF">2005-01-13T16:15:05Z</dcterms:modified>
  <cp:revision>396</cp:revision>
  <dc:subject/>
  <dc:title>FISICA I</dc:title>
</cp:coreProperties>
</file>