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A16E-80B9-4244-B150-A7A1339B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FCF2-EF0A-4ACA-BECB-F973FFB6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9EE7-9B1D-4D4E-8F09-163CB583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0BF9-BB7C-4363-9BD4-99813C55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BE0E-D5AB-4C7D-97D5-1013831B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329D-C04E-4C59-ACC6-4AD66F95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4F6C-9AA0-4828-B8B9-7BCE1D51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7A31-6819-4B85-80EC-AE43B83A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6BA2-94C1-4F50-B1F6-721444C2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D1D1-DC56-4C78-8321-58B0A22F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F74D-BA8B-4198-A676-E36000FB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5DC1-484E-4F23-B1B0-9777893F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8506-B857-4B7A-9743-09D1657CD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ducaplus.org/movi/2_5velocidad.html" TargetMode="External"/><Relationship Id="rId3" Type="http://schemas.openxmlformats.org/officeDocument/2006/relationships/hyperlink" Target="http://www.educaplus.org/movi/1_2escavect.html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3300"/>
                </a:solidFill>
                <a:latin typeface="Arial"/>
              </a:rPr>
              <a:t>CLASE 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CINEMATIC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laudia Rah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Tenemos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Y además, como se tiene qu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79600" y="2960640"/>
                <a:ext cx="22068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506760" y="4998960"/>
                <a:ext cx="23464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800" spc="-1" strike="noStrike">
                <a:solidFill>
                  <a:srgbClr val="6666ff"/>
                </a:solidFill>
                <a:latin typeface="Arial"/>
              </a:rPr>
              <a:t>Entonces se tendrá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700360" y="2708280"/>
                <a:ext cx="4176720" cy="339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Para el caso en que el movimiento parte en x</a:t>
            </a:r>
            <a:r>
              <a:rPr b="0" i="1" lang="es-MX" sz="2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distinto de cero se tendrá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04080" y="3759120"/>
            <a:ext cx="7929000" cy="2324880"/>
            <a:chOff x="604080" y="3759120"/>
            <a:chExt cx="7929000" cy="2324880"/>
          </a:xfrm>
        </p:grpSpPr>
        <p:sp>
          <p:nvSpPr>
            <p:cNvPr id="148" name=""/>
            <p:cNvSpPr/>
            <p:nvPr/>
          </p:nvSpPr>
          <p:spPr>
            <a:xfrm>
              <a:off x="1991160" y="3875760"/>
              <a:ext cx="149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604080" y="3759120"/>
              <a:ext cx="7929000" cy="2324880"/>
              <a:chOff x="604080" y="3759120"/>
              <a:chExt cx="7929000" cy="2324880"/>
            </a:xfrm>
          </p:grpSpPr>
          <p:sp>
            <p:nvSpPr>
              <p:cNvPr id="150" name=""/>
              <p:cNvSpPr/>
              <p:nvPr/>
            </p:nvSpPr>
            <p:spPr>
              <a:xfrm>
                <a:off x="3779640" y="4760280"/>
                <a:ext cx="753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162200" y="4760280"/>
                <a:ext cx="1370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910240" y="5671080"/>
                <a:ext cx="189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607560" y="54259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930400" y="57178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925720" y="52394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774560" y="48074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13880" y="43164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082040" y="48074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479040" y="545364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152160" y="54536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500560" y="545364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052720" y="54536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73840" y="54536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81360" y="54536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35720" y="431640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509600" y="431640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82360" y="43164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679440" y="45428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233960" y="431640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794400" y="431640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295800" y="45428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77000" y="454284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950840" y="45428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66200" y="45428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3160" y="45428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291040" y="379728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983960" y="37972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5440" y="37972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912240" y="37972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201040" y="5664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620720" y="5664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383680" y="45270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382280" y="45270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513440" y="47534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552680" y="4008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11640" y="5415120"/>
                <a:ext cx="177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660400" y="5415120"/>
                <a:ext cx="178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33880" y="5415120"/>
                <a:ext cx="177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813320" y="5415120"/>
                <a:ext cx="178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168560" y="5415120"/>
                <a:ext cx="24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04080" y="5415120"/>
                <a:ext cx="244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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064720" y="4277880"/>
                <a:ext cx="177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669080" y="4277880"/>
                <a:ext cx="178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41840" y="4277880"/>
                <a:ext cx="177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865560" y="4504680"/>
                <a:ext cx="24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481360" y="4504680"/>
                <a:ext cx="244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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994560" y="4277880"/>
                <a:ext cx="178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483000" y="4504680"/>
                <a:ext cx="24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110320" y="4504680"/>
                <a:ext cx="177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706040" y="4504680"/>
                <a:ext cx="178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080360" y="4504680"/>
                <a:ext cx="24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125440" y="3759120"/>
                <a:ext cx="177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44560" y="3759120"/>
                <a:ext cx="178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099440" y="3759120"/>
                <a:ext cx="24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3304800" y="46368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50640" y="4636800"/>
              <a:ext cx="14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268360" y="2133720"/>
                <a:ext cx="432144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808200" y="3649680"/>
            <a:ext cx="71514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La forma de graficar esta ecuación en el plan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posición versus tiempo, dependerá de los valor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de los diferentes parámetr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jemplo de acel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843280" y="2081160"/>
            <a:ext cx="3673440" cy="4587840"/>
            <a:chOff x="2843280" y="2081160"/>
            <a:chExt cx="3673440" cy="4587840"/>
          </a:xfrm>
        </p:grpSpPr>
        <p:grpSp>
          <p:nvGrpSpPr>
            <p:cNvPr id="214" name=""/>
            <p:cNvGrpSpPr/>
            <p:nvPr/>
          </p:nvGrpSpPr>
          <p:grpSpPr>
            <a:xfrm>
              <a:off x="2843280" y="2421000"/>
              <a:ext cx="3673440" cy="3672000"/>
              <a:chOff x="2843280" y="2421000"/>
              <a:chExt cx="3673440" cy="3672000"/>
            </a:xfrm>
          </p:grpSpPr>
          <p:sp>
            <p:nvSpPr>
              <p:cNvPr id="215" name=""/>
              <p:cNvSpPr/>
              <p:nvPr/>
            </p:nvSpPr>
            <p:spPr>
              <a:xfrm flipV="1">
                <a:off x="2843280" y="2421000"/>
                <a:ext cx="0" cy="36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843280" y="6093000"/>
                <a:ext cx="367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3346560" y="2986200"/>
              <a:ext cx="3097080" cy="2243160"/>
            </a:xfrm>
            <a:custGeom>
              <a:avLst/>
              <a:gdLst/>
              <a:ahLst/>
              <a:rect l="l" t="t" r="r" b="b"/>
              <a:pathLst>
                <a:path w="1951" h="1413">
                  <a:moveTo>
                    <a:pt x="0" y="0"/>
                  </a:moveTo>
                  <a:cubicBezTo>
                    <a:pt x="291" y="699"/>
                    <a:pt x="583" y="1399"/>
                    <a:pt x="908" y="1406"/>
                  </a:cubicBezTo>
                  <a:cubicBezTo>
                    <a:pt x="1233" y="1413"/>
                    <a:pt x="1777" y="272"/>
                    <a:pt x="1951" y="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43280" y="4425840"/>
              <a:ext cx="3097080" cy="2243160"/>
            </a:xfrm>
            <a:custGeom>
              <a:avLst/>
              <a:gdLst/>
              <a:ahLst/>
              <a:rect l="l" t="t" r="r" b="b"/>
              <a:pathLst>
                <a:path w="1951" h="1413">
                  <a:moveTo>
                    <a:pt x="0" y="0"/>
                  </a:moveTo>
                  <a:cubicBezTo>
                    <a:pt x="291" y="699"/>
                    <a:pt x="583" y="1399"/>
                    <a:pt x="908" y="1406"/>
                  </a:cubicBezTo>
                  <a:cubicBezTo>
                    <a:pt x="1233" y="1413"/>
                    <a:pt x="1777" y="272"/>
                    <a:pt x="1951" y="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33280" y="287352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 &gt;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41640" y="2081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399400" y="416880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27280" y="3789360"/>
            <a:ext cx="360360" cy="1224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09960" y="3376440"/>
            <a:ext cx="69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s-MX" sz="18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de acel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197080" y="1771560"/>
            <a:ext cx="5222880" cy="4683240"/>
            <a:chOff x="2197080" y="1771560"/>
            <a:chExt cx="5222880" cy="4683240"/>
          </a:xfrm>
        </p:grpSpPr>
        <p:sp>
          <p:nvSpPr>
            <p:cNvPr id="226" name=""/>
            <p:cNvSpPr/>
            <p:nvPr/>
          </p:nvSpPr>
          <p:spPr>
            <a:xfrm flipV="1">
              <a:off x="2637000" y="1988640"/>
              <a:ext cx="0" cy="446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7000" y="4292640"/>
              <a:ext cx="43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7000" y="6453360"/>
              <a:ext cx="43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97080" y="179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97080" y="4313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54640" y="42400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75160" y="60865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637000" y="4724280"/>
              <a:ext cx="2881080" cy="165744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7000" y="1771560"/>
              <a:ext cx="2376360" cy="2521080"/>
            </a:xfrm>
            <a:custGeom>
              <a:avLst/>
              <a:gdLst/>
              <a:ahLst/>
              <a:rect l="l" t="t" r="r" b="b"/>
              <a:pathLst>
                <a:path w="1497" h="1588">
                  <a:moveTo>
                    <a:pt x="0" y="1588"/>
                  </a:moveTo>
                  <a:cubicBezTo>
                    <a:pt x="420" y="1539"/>
                    <a:pt x="840" y="1490"/>
                    <a:pt x="1089" y="1225"/>
                  </a:cubicBezTo>
                  <a:cubicBezTo>
                    <a:pt x="1338" y="960"/>
                    <a:pt x="1417" y="480"/>
                    <a:pt x="1497" y="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03360" y="244008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a &gt;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37000" y="60213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46440" y="55166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54440" y="50133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645000" y="4869000"/>
              <a:ext cx="1009440" cy="1584360"/>
              <a:chOff x="3645000" y="4869000"/>
              <a:chExt cx="1009440" cy="1584360"/>
            </a:xfrm>
          </p:grpSpPr>
          <p:sp>
            <p:nvSpPr>
              <p:cNvPr id="240" name=""/>
              <p:cNvSpPr/>
              <p:nvPr/>
            </p:nvSpPr>
            <p:spPr>
              <a:xfrm>
                <a:off x="3645000" y="5300640"/>
                <a:ext cx="0" cy="11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654440" y="4869000"/>
                <a:ext cx="0" cy="158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637000" y="2708280"/>
              <a:ext cx="3025080" cy="1008000"/>
              <a:chOff x="2637000" y="2708280"/>
              <a:chExt cx="3025080" cy="1008000"/>
            </a:xfrm>
          </p:grpSpPr>
          <p:sp>
            <p:nvSpPr>
              <p:cNvPr id="243" name=""/>
              <p:cNvSpPr/>
              <p:nvPr/>
            </p:nvSpPr>
            <p:spPr>
              <a:xfrm>
                <a:off x="2637000" y="3716280"/>
                <a:ext cx="100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46440" y="3211560"/>
                <a:ext cx="100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654440" y="2708280"/>
                <a:ext cx="100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3645000" y="2708280"/>
              <a:ext cx="1009440" cy="1584360"/>
              <a:chOff x="3645000" y="2708280"/>
              <a:chExt cx="1009440" cy="1584360"/>
            </a:xfrm>
          </p:grpSpPr>
          <p:sp>
            <p:nvSpPr>
              <p:cNvPr id="247" name=""/>
              <p:cNvSpPr/>
              <p:nvPr/>
            </p:nvSpPr>
            <p:spPr>
              <a:xfrm>
                <a:off x="3645000" y="3139920"/>
                <a:ext cx="0" cy="11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54440" y="2708280"/>
                <a:ext cx="0" cy="158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V="1">
              <a:off x="2637000" y="4147920"/>
              <a:ext cx="1225440" cy="1443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573360" y="3068280"/>
              <a:ext cx="1297080" cy="11523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 con aceleració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Se lanza un cuerpo verticalmente hacia abajo con una velocidad inicial de 7 m/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a) ¿Cuál será su velocidad luego de haber descendido 3 s?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b) ¿Qué distancia habrá descendido en esos 3 s?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c) Si el cuerpo se lanzó desde una altura de 200 m, ¿en cuánto tiempo alcanzará el suelo?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d) ¿Con qué velocidad lo hará?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* Considere g = 10 m/s</a:t>
            </a:r>
            <a:r>
              <a:rPr b="0" i="1" lang="es-MX" sz="2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2720" y="1959120"/>
            <a:ext cx="731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¿Cuál será su velocidad luego de haber descendido 3 s?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539720" y="4462560"/>
                <a:ext cx="2887920" cy="20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6497640" y="3422520"/>
            <a:ext cx="2268360" cy="3390840"/>
            <a:chOff x="6497640" y="3422520"/>
            <a:chExt cx="2268360" cy="3390840"/>
          </a:xfrm>
        </p:grpSpPr>
        <p:grpSp>
          <p:nvGrpSpPr>
            <p:cNvPr id="258" name=""/>
            <p:cNvGrpSpPr/>
            <p:nvPr/>
          </p:nvGrpSpPr>
          <p:grpSpPr>
            <a:xfrm>
              <a:off x="6659640" y="3422520"/>
              <a:ext cx="2106360" cy="3390840"/>
              <a:chOff x="6659640" y="3422520"/>
              <a:chExt cx="2106360" cy="339084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6659640" y="3860640"/>
                <a:ext cx="2089080" cy="2952720"/>
                <a:chOff x="6659640" y="3860640"/>
                <a:chExt cx="2089080" cy="2952720"/>
              </a:xfrm>
            </p:grpSpPr>
            <p:pic>
              <p:nvPicPr>
                <p:cNvPr id="26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248600" y="3860640"/>
                  <a:ext cx="860400" cy="288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1" name=""/>
                <p:cNvSpPr/>
                <p:nvPr/>
              </p:nvSpPr>
              <p:spPr>
                <a:xfrm>
                  <a:off x="6659640" y="6813360"/>
                  <a:ext cx="20890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244000" y="3860640"/>
                  <a:ext cx="504720" cy="29527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7634520" y="3422520"/>
                <a:ext cx="11314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=7 m/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6659640" y="393372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97640" y="3521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257560" y="2387520"/>
                <a:ext cx="19540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252720" y="4035600"/>
            <a:ext cx="610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¿Qué distancia habrá descendido en esos 3 s?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28560" y="2584440"/>
                <a:ext cx="5599080" cy="379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7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0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049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≈</m:t>
                        </m:r>
                        <m:r>
                          <m:t xml:space="preserve">5,6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363240" y="1628640"/>
            <a:ext cx="625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i el cuerpo se lanzó desde una altura de 200 m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¿en cuánto tiempo alcanzará el suelo?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796080" y="3422520"/>
            <a:ext cx="2160360" cy="3390840"/>
            <a:chOff x="6796080" y="3422520"/>
            <a:chExt cx="2160360" cy="3390840"/>
          </a:xfrm>
        </p:grpSpPr>
        <p:grpSp>
          <p:nvGrpSpPr>
            <p:cNvPr id="274" name=""/>
            <p:cNvGrpSpPr/>
            <p:nvPr/>
          </p:nvGrpSpPr>
          <p:grpSpPr>
            <a:xfrm>
              <a:off x="6796080" y="3422520"/>
              <a:ext cx="2160360" cy="3390840"/>
              <a:chOff x="6796080" y="3422520"/>
              <a:chExt cx="2160360" cy="33908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6850080" y="3422520"/>
                <a:ext cx="2106360" cy="3390840"/>
                <a:chOff x="6850080" y="3422520"/>
                <a:chExt cx="2106360" cy="33908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6850080" y="3860640"/>
                  <a:ext cx="2089080" cy="2952720"/>
                  <a:chOff x="6850080" y="3860640"/>
                  <a:chExt cx="2089080" cy="2952720"/>
                </a:xfrm>
              </p:grpSpPr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9040" y="3860640"/>
                    <a:ext cx="860400" cy="28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8" name=""/>
                  <p:cNvSpPr/>
                  <p:nvPr/>
                </p:nvSpPr>
                <p:spPr>
                  <a:xfrm>
                    <a:off x="6850080" y="6813360"/>
                    <a:ext cx="208908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8434440" y="3860640"/>
                    <a:ext cx="504720" cy="29527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7824960" y="3422520"/>
                  <a:ext cx="11314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1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1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=7 m/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1" name=""/>
              <p:cNvSpPr/>
              <p:nvPr/>
            </p:nvSpPr>
            <p:spPr>
              <a:xfrm>
                <a:off x="6958080" y="3933720"/>
                <a:ext cx="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96080" y="3521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6877080" y="3933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2880" y="1628640"/>
            <a:ext cx="383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¿Con qué velocidad lo hará?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6796080" y="3422520"/>
            <a:ext cx="2160360" cy="3390840"/>
            <a:chOff x="6796080" y="3422520"/>
            <a:chExt cx="2160360" cy="3390840"/>
          </a:xfrm>
        </p:grpSpPr>
        <p:grpSp>
          <p:nvGrpSpPr>
            <p:cNvPr id="288" name=""/>
            <p:cNvGrpSpPr/>
            <p:nvPr/>
          </p:nvGrpSpPr>
          <p:grpSpPr>
            <a:xfrm>
              <a:off x="6796080" y="3422520"/>
              <a:ext cx="2160360" cy="3390840"/>
              <a:chOff x="6796080" y="3422520"/>
              <a:chExt cx="2160360" cy="339084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6850080" y="3422520"/>
                <a:ext cx="2106360" cy="3390840"/>
                <a:chOff x="6850080" y="3422520"/>
                <a:chExt cx="2106360" cy="339084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6850080" y="3860640"/>
                  <a:ext cx="2089080" cy="2952720"/>
                  <a:chOff x="6850080" y="3860640"/>
                  <a:chExt cx="2089080" cy="2952720"/>
                </a:xfrm>
              </p:grpSpPr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9040" y="3860640"/>
                    <a:ext cx="860400" cy="28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2" name=""/>
                  <p:cNvSpPr/>
                  <p:nvPr/>
                </p:nvSpPr>
                <p:spPr>
                  <a:xfrm>
                    <a:off x="6850080" y="6813360"/>
                    <a:ext cx="208908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8434440" y="3860640"/>
                    <a:ext cx="504720" cy="29527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"/>
                <p:cNvSpPr/>
                <p:nvPr/>
              </p:nvSpPr>
              <p:spPr>
                <a:xfrm>
                  <a:off x="7824960" y="3422520"/>
                  <a:ext cx="11314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1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1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=7 m/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>
                <a:off x="6958080" y="3933720"/>
                <a:ext cx="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796080" y="3521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877080" y="3933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763640" y="2733840"/>
                <a:ext cx="252108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5,6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ACELER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 conceptos de velocidad y aceleración están relacionados, pero muchas veces se hace una interpretación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ncorrec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esta relació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chas personas piensan que cuando un cuerpo se mueve con una gran velocidad, su aceleración también es grande; que si se mueve con velocidad pequeña es porque su aceleración es pequeña; y si su velocidad es cero, entonces su aceleración también debe valer cero.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¡Esto es un error!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aceleración relaciona los cambios de la velocidad con el tiempo en el que se producen, es decir, que mid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 tan rápidos son los cambi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velocida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Una aceleración grande significa que la velocidad cambia rápidament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Una aceleración pequeña significa que la velocidad cambia lentament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Una aceleración cero significa que la velocidad no cambi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 con aceleración 2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Un observador situado a 40 m de altura ve pasar un cuerpo hacia arriba con una cierta velocidad y al cabo de 10 s lo ve pasar hacia abajo, con una velocidad igual en módulo pero de distinto sentid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a) ¿Cuál fue la velocidad con la que pasó el móvil?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b) ¿Cuál fue la altura máxima alcanzada?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219640" y="1700280"/>
            <a:ext cx="3134880" cy="4975200"/>
            <a:chOff x="5219640" y="1700280"/>
            <a:chExt cx="3134880" cy="4975200"/>
          </a:xfrm>
        </p:grpSpPr>
        <p:grpSp>
          <p:nvGrpSpPr>
            <p:cNvPr id="303" name=""/>
            <p:cNvGrpSpPr/>
            <p:nvPr/>
          </p:nvGrpSpPr>
          <p:grpSpPr>
            <a:xfrm>
              <a:off x="5219640" y="3141720"/>
              <a:ext cx="3134880" cy="3533760"/>
              <a:chOff x="5219640" y="3141720"/>
              <a:chExt cx="3134880" cy="3533760"/>
            </a:xfrm>
          </p:grpSpPr>
          <p:sp>
            <p:nvSpPr>
              <p:cNvPr id="304" name=""/>
              <p:cNvSpPr/>
              <p:nvPr/>
            </p:nvSpPr>
            <p:spPr>
              <a:xfrm>
                <a:off x="5219640" y="6675480"/>
                <a:ext cx="20890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804000" y="3722760"/>
                <a:ext cx="504720" cy="29527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467480" y="3716280"/>
                <a:ext cx="0" cy="29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666200" y="503244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40 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0360" y="3141720"/>
                <a:ext cx="21600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6012000" y="3357720"/>
                <a:ext cx="7272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5724000" y="3645000"/>
                <a:ext cx="28764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5867280" y="3645000"/>
                <a:ext cx="14472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6012000" y="3428640"/>
                <a:ext cx="1425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6084720" y="3357360"/>
                <a:ext cx="1429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5724000" y="3213000"/>
                <a:ext cx="28764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5724000" y="3141720"/>
                <a:ext cx="28764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724000" y="3213000"/>
                <a:ext cx="28764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5724000" y="3284640"/>
                <a:ext cx="28764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093080" y="3284640"/>
                <a:ext cx="142920" cy="144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164360" y="342900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093080" y="350028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flipV="1">
              <a:off x="6659640" y="170028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786720" y="2297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 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1403280" y="1844640"/>
                <a:ext cx="266400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328680" y="357840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Luego se tendrá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971640" y="3905280"/>
                <a:ext cx="3601800" cy="28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t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Un tren puede acelerar a una razón de 20 cm./s</a:t>
            </a:r>
            <a:r>
              <a:rPr b="0" i="1" lang="es-MX" sz="2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 y desacelerar a 100 cm./s</a:t>
            </a:r>
            <a:r>
              <a:rPr b="0" i="1" lang="es-MX" sz="2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. Determine el tiempo mínimo que puede demorar este tren para ir de una estación a otra situada a 2 Km. de distanci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187280" y="5157720"/>
            <a:ext cx="6840720" cy="1324080"/>
            <a:chOff x="1187280" y="5157720"/>
            <a:chExt cx="6840720" cy="1324080"/>
          </a:xfrm>
        </p:grpSpPr>
        <p:sp>
          <p:nvSpPr>
            <p:cNvPr id="331" name=""/>
            <p:cNvSpPr/>
            <p:nvPr/>
          </p:nvSpPr>
          <p:spPr>
            <a:xfrm>
              <a:off x="1258920" y="5805360"/>
              <a:ext cx="669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8920" y="6021360"/>
              <a:ext cx="676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81280" y="611352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 K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87280" y="5300640"/>
              <a:ext cx="72072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92360" y="5589360"/>
              <a:ext cx="14292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32000" y="5589360"/>
              <a:ext cx="14292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92360" y="5157720"/>
              <a:ext cx="7128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92360" y="5373720"/>
              <a:ext cx="1429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104480" y="4240080"/>
            <a:ext cx="258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elera a 20 cm/s</a:t>
            </a:r>
            <a:r>
              <a:rPr b="0" lang="es-MX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acelera a 100 cm/s</a:t>
            </a:r>
            <a:r>
              <a:rPr b="0" lang="es-MX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¿Qué es lo intuitiv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El mínimo tiempo será si el tren acelera todo el tiempo hasta un cierto instante en el cual debe poner los frenos para alcanzar a detenerse justo al frente de la est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15960" y="1574640"/>
            <a:ext cx="7837200" cy="5050080"/>
            <a:chOff x="615960" y="1574640"/>
            <a:chExt cx="7837200" cy="5050080"/>
          </a:xfrm>
        </p:grpSpPr>
        <p:grpSp>
          <p:nvGrpSpPr>
            <p:cNvPr id="344" name=""/>
            <p:cNvGrpSpPr/>
            <p:nvPr/>
          </p:nvGrpSpPr>
          <p:grpSpPr>
            <a:xfrm>
              <a:off x="1495440" y="2773440"/>
              <a:ext cx="5915160" cy="3681360"/>
              <a:chOff x="1495440" y="2773440"/>
              <a:chExt cx="5915160" cy="3681360"/>
            </a:xfrm>
          </p:grpSpPr>
          <p:sp>
            <p:nvSpPr>
              <p:cNvPr id="345" name=""/>
              <p:cNvSpPr/>
              <p:nvPr/>
            </p:nvSpPr>
            <p:spPr>
              <a:xfrm>
                <a:off x="1495440" y="6282000"/>
                <a:ext cx="554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1495440" y="2826000"/>
                <a:ext cx="0" cy="345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1495440" y="4122720"/>
                <a:ext cx="2879640" cy="2159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375080" y="4122720"/>
                <a:ext cx="1152720" cy="21592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057760" y="4213440"/>
                <a:ext cx="1264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a=0,2 m/s</a:t>
                </a:r>
                <a:r>
                  <a:rPr b="0" lang="es-MX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680000" y="4338720"/>
                <a:ext cx="121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a= -1 m/s</a:t>
                </a:r>
                <a:r>
                  <a:rPr b="0" lang="es-MX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765080" y="27734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165800" y="608652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495440" y="6426360"/>
                <a:ext cx="280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303800" y="6426360"/>
                <a:ext cx="12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615960" y="1574640"/>
              <a:ext cx="783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En este gráfico se pueden ver las 2 etapas involucrada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en el proble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37440" y="62564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327320" y="1773360"/>
            <a:ext cx="6628680" cy="4790160"/>
            <a:chOff x="1327320" y="1773360"/>
            <a:chExt cx="6628680" cy="4790160"/>
          </a:xfrm>
        </p:grpSpPr>
        <p:sp>
          <p:nvSpPr>
            <p:cNvPr id="362" name=""/>
            <p:cNvSpPr/>
            <p:nvPr/>
          </p:nvSpPr>
          <p:spPr>
            <a:xfrm>
              <a:off x="1725480" y="5961240"/>
              <a:ext cx="585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1725480" y="1834920"/>
              <a:ext cx="0" cy="412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1725480" y="3384360"/>
              <a:ext cx="3040200" cy="2576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65680" y="3384720"/>
              <a:ext cx="1216080" cy="2576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23800" y="3492360"/>
              <a:ext cx="1337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=0,2 m/s</a:t>
              </a:r>
              <a:r>
                <a:rPr b="0" lang="es-MX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42680" y="3573360"/>
              <a:ext cx="1287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= -1 m/s</a:t>
              </a:r>
              <a:r>
                <a:rPr b="0" lang="es-MX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09520" y="1773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11200" y="57294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70840" y="615780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54840" y="609300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30760" y="3429000"/>
              <a:ext cx="0" cy="252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1706040" y="3357720"/>
              <a:ext cx="3024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27320" y="3141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63640" y="6093000"/>
              <a:ext cx="29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716360" y="609300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953280" y="1743120"/>
            <a:ext cx="643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Dado que la aceleración es la pendiente d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gráfico de velocidad versus tiempo, se tendrá qu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411280" y="2925720"/>
            <a:ext cx="1152360" cy="2232000"/>
            <a:chOff x="2411280" y="2925720"/>
            <a:chExt cx="1152360" cy="2232000"/>
          </a:xfrm>
        </p:grpSpPr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2411280" y="2925720"/>
                  <a:ext cx="1081080" cy="99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2484000" y="4222800"/>
                  <a:ext cx="107964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5" name=""/>
          <p:cNvSpPr/>
          <p:nvPr/>
        </p:nvSpPr>
        <p:spPr>
          <a:xfrm>
            <a:off x="4700520" y="4406760"/>
            <a:ext cx="2416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¿Está bien est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55080" y="1719360"/>
            <a:ext cx="57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ado que el tiempo es positivo se tendr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441520" y="2925720"/>
            <a:ext cx="2851200" cy="2246400"/>
            <a:chOff x="2441520" y="2925720"/>
            <a:chExt cx="2851200" cy="2246400"/>
          </a:xfrm>
        </p:grpSpPr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2523960" y="2925720"/>
                  <a:ext cx="2541600" cy="99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2441520" y="4208400"/>
                  <a:ext cx="2851200" cy="96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953280" y="1743120"/>
            <a:ext cx="2279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uego se tendrá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278080" y="2565360"/>
                <a:ext cx="30369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1021320" y="4340160"/>
            <a:ext cx="733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¿Cómo encontramos 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Con el área bajo la curva del gráfico de velo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versus tiemp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966960" y="2179800"/>
            <a:ext cx="6628680" cy="4601520"/>
            <a:chOff x="966960" y="2179800"/>
            <a:chExt cx="6628680" cy="4601520"/>
          </a:xfrm>
        </p:grpSpPr>
        <p:grpSp>
          <p:nvGrpSpPr>
            <p:cNvPr id="405" name=""/>
            <p:cNvGrpSpPr/>
            <p:nvPr/>
          </p:nvGrpSpPr>
          <p:grpSpPr>
            <a:xfrm>
              <a:off x="966960" y="2179800"/>
              <a:ext cx="6628680" cy="4601520"/>
              <a:chOff x="966960" y="2179800"/>
              <a:chExt cx="6628680" cy="4601520"/>
            </a:xfrm>
          </p:grpSpPr>
          <p:sp>
            <p:nvSpPr>
              <p:cNvPr id="406" name=""/>
              <p:cNvSpPr/>
              <p:nvPr/>
            </p:nvSpPr>
            <p:spPr>
              <a:xfrm>
                <a:off x="1365120" y="6367680"/>
                <a:ext cx="585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1365120" y="2241360"/>
                <a:ext cx="0" cy="412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1365120" y="3790800"/>
                <a:ext cx="3040200" cy="25765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05320" y="3791160"/>
                <a:ext cx="1216080" cy="2576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963440" y="3898800"/>
                <a:ext cx="1337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=0,2 m/s</a:t>
                </a:r>
                <a:r>
                  <a:rPr b="0" lang="es-MX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882320" y="3979800"/>
                <a:ext cx="1287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= -1 m/s</a:t>
                </a:r>
                <a:r>
                  <a:rPr b="0" lang="es-MX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649160" y="21798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350840" y="613584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625000" y="637560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232880" y="635652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70400" y="3835440"/>
                <a:ext cx="0" cy="252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1345680" y="3764160"/>
                <a:ext cx="302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966960" y="35481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2195640" y="5707080"/>
              <a:ext cx="792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43280" y="5130720"/>
              <a:ext cx="1297080" cy="122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90920" y="4556160"/>
              <a:ext cx="172872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90560" y="6140520"/>
              <a:ext cx="360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67280" y="4122720"/>
              <a:ext cx="108108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087880" y="1773360"/>
                <a:ext cx="235584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as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ltur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ACELER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aceleración nos di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ómo camb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velocida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no cómo 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velocidad. Por lo tanto un móvil puede tener un velocidad grande y una aceleración pequeña (o cero) y vicever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l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elocida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es una magnitud que contempla la rapidez de un móvil y su dirección, los cambios que se produzcan en la velocidad serán debido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ciones en la rapidez y/o en la direc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eler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 un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agnitud vectoria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e relaciona los cambios en la velocidad con el tiempo que tardan en producirse. Un móvil está acelerando mientras su velocidad cambia.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927080" y="2060640"/>
            <a:ext cx="4876920" cy="4392720"/>
            <a:chOff x="1927080" y="2060640"/>
            <a:chExt cx="4876920" cy="4392720"/>
          </a:xfrm>
        </p:grpSpPr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3166920" y="2060640"/>
                  <a:ext cx="2390760" cy="97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0" name=""/>
                <p:cNvSpPr txBox="1"/>
                <p:nvPr/>
              </p:nvSpPr>
              <p:spPr>
                <a:xfrm>
                  <a:off x="1927080" y="2805120"/>
                  <a:ext cx="4876920" cy="364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L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h</m:t>
                          </m:r>
                          <m:r>
                            <m:t xml:space="preserve">⇒</m:t>
                          </m:r>
                          <m:r>
                            <m:t xml:space="preserve">h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L</m:t>
                              </m:r>
                            </m:num>
                            <m:den>
                              <m:r>
                                <m:t xml:space="preserve">0,5</m:t>
                              </m:r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den>
                          </m:f>
                        </m:e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L</m:t>
                              </m:r>
                            </m:num>
                            <m:den>
                              <m:r>
                                <m:t xml:space="preserve">0,5</m:t>
                              </m:r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 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L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3200" spc="-1" strike="noStrike" u="sng">
                <a:solidFill>
                  <a:srgbClr val="6666ff"/>
                </a:solidFill>
                <a:uFillTx/>
                <a:latin typeface="Arial"/>
              </a:rPr>
              <a:t>El área bajo la curva en un gráfico velocidad versus tiempo representa la distancia recorr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En el caso de aceleración constante, la distancia recorrida es el área bajo el trapecio de la fig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12720" y="2516040"/>
            <a:ext cx="8233920" cy="4017960"/>
            <a:chOff x="612720" y="2516040"/>
            <a:chExt cx="8233920" cy="4017960"/>
          </a:xfrm>
        </p:grpSpPr>
        <p:grpSp>
          <p:nvGrpSpPr>
            <p:cNvPr id="52" name=""/>
            <p:cNvGrpSpPr/>
            <p:nvPr/>
          </p:nvGrpSpPr>
          <p:grpSpPr>
            <a:xfrm>
              <a:off x="612720" y="2516040"/>
              <a:ext cx="8233920" cy="4017960"/>
              <a:chOff x="612720" y="2516040"/>
              <a:chExt cx="8233920" cy="401796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612720" y="2516040"/>
                <a:ext cx="8233920" cy="4017960"/>
                <a:chOff x="612720" y="2516040"/>
                <a:chExt cx="8233920" cy="4017960"/>
              </a:xfrm>
            </p:grpSpPr>
            <p:grpSp>
              <p:nvGrpSpPr>
                <p:cNvPr id="54" name=""/>
                <p:cNvGrpSpPr/>
                <p:nvPr/>
              </p:nvGrpSpPr>
              <p:grpSpPr>
                <a:xfrm>
                  <a:off x="612720" y="2663640"/>
                  <a:ext cx="4927320" cy="3870360"/>
                  <a:chOff x="612720" y="2663640"/>
                  <a:chExt cx="4927320" cy="387036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V="1">
                    <a:off x="993600" y="2663640"/>
                    <a:ext cx="0" cy="345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993600" y="6119640"/>
                    <a:ext cx="4176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5295240" y="5924520"/>
                    <a:ext cx="244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612720" y="4449600"/>
                    <a:ext cx="295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v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618120" y="5314680"/>
                    <a:ext cx="36828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v</a:t>
                    </a:r>
                    <a:r>
                      <a:rPr b="0" lang="es-MX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612720" y="3481200"/>
                    <a:ext cx="295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v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flipV="1">
                    <a:off x="971280" y="3665160"/>
                    <a:ext cx="2952360" cy="18716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971280" y="5537160"/>
                    <a:ext cx="791640" cy="57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195280" y="4816440"/>
                    <a:ext cx="1726920" cy="1258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1908000" y="4960800"/>
                    <a:ext cx="1655280" cy="1152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1618920" y="5105160"/>
                    <a:ext cx="1368000" cy="1008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1402920" y="5249880"/>
                    <a:ext cx="1152360" cy="863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1187280" y="5465520"/>
                    <a:ext cx="936000" cy="64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3924000" y="3736800"/>
                    <a:ext cx="0" cy="2376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2411280" y="4673520"/>
                    <a:ext cx="1512360" cy="10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2700000" y="4457520"/>
                    <a:ext cx="1223640" cy="863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2916000" y="4313160"/>
                    <a:ext cx="1007640" cy="64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3203280" y="4168800"/>
                    <a:ext cx="720360" cy="43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3419280" y="4024080"/>
                    <a:ext cx="504360" cy="28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3635280" y="3881160"/>
                    <a:ext cx="288360" cy="142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971280" y="5824440"/>
                    <a:ext cx="360000" cy="288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3760200" y="6165720"/>
                    <a:ext cx="244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" name=""/>
                <p:cNvSpPr/>
                <p:nvPr/>
              </p:nvSpPr>
              <p:spPr>
                <a:xfrm>
                  <a:off x="4581720" y="2516040"/>
                  <a:ext cx="42649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200" spc="-1" strike="noStrike">
                      <a:solidFill>
                        <a:srgbClr val="000000"/>
                      </a:solidFill>
                      <a:latin typeface="Arial"/>
                    </a:rPr>
                    <a:t>¿Cuál es el área bajo la curva?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78" name=""/>
                    <p:cNvSpPr txBox="1"/>
                    <p:nvPr/>
                  </p:nvSpPr>
                  <p:spPr>
                    <a:xfrm>
                      <a:off x="4968720" y="3254400"/>
                      <a:ext cx="2840040" cy="1739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eqArr>
                            <m:e>
                              <m:r>
                                <m:t xml:space="preserve">A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t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v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r>
                                <m:t xml:space="preserve">⋅</m:t>
                              </m:r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(</m:t>
                                  </m:r>
                                  <m:r>
                                    <m:t xml:space="preserve">v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eqAr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79" name=""/>
              <p:cNvSpPr/>
              <p:nvPr/>
            </p:nvSpPr>
            <p:spPr>
              <a:xfrm>
                <a:off x="684360" y="4516560"/>
                <a:ext cx="14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2394000" y="5103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Por lo cual se tendrá que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es la distancia recorrida en 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tiempo 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Esta distancia </a:t>
            </a:r>
            <a:r>
              <a:rPr b="0" i="1" lang="es-MX" sz="3200" spc="-1" strike="noStrike">
                <a:solidFill>
                  <a:srgbClr val="ff0000"/>
                </a:solidFill>
                <a:latin typeface="Arial"/>
              </a:rPr>
              <a:t>DEBE 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ser la misma que recorrió el móvil con velocidad cons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v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00000" y="2205000"/>
            <a:ext cx="6537600" cy="3456000"/>
            <a:chOff x="900000" y="2205000"/>
            <a:chExt cx="6537600" cy="3456000"/>
          </a:xfrm>
        </p:grpSpPr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5952960" y="2205000"/>
                  <a:ext cx="1484640" cy="91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t xml:space="preserve">v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>
              <a:off x="900000" y="5661000"/>
              <a:ext cx="216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3280" y="2352600"/>
            <a:ext cx="7308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Por definición, la velocidad media es la velocida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constante con la cual </a:t>
            </a: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DEBE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 viajar un móvil par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recorrer la misma distancia que en un caso dad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de velocidad variable, empleando el mismo tiemp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178080" y="4365720"/>
            <a:ext cx="2470320" cy="1179360"/>
            <a:chOff x="3178080" y="4365720"/>
            <a:chExt cx="2470320" cy="1179360"/>
          </a:xfrm>
        </p:grpSpPr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3773520" y="4365720"/>
                  <a:ext cx="151272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v</m:t>
                      </m:r>
                      <m:r>
                        <m:t xml:space="preserve">⋅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4" name=""/>
            <p:cNvSpPr/>
            <p:nvPr/>
          </p:nvSpPr>
          <p:spPr>
            <a:xfrm>
              <a:off x="4565520" y="4437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3178080" y="4941720"/>
              <a:ext cx="2470320" cy="603360"/>
              <a:chOff x="3178080" y="4941720"/>
              <a:chExt cx="2470320" cy="603360"/>
            </a:xfrm>
          </p:grpSpPr>
          <p:sp>
            <p:nvSpPr>
              <p:cNvPr id="96" name=""/>
              <p:cNvSpPr/>
              <p:nvPr/>
            </p:nvSpPr>
            <p:spPr>
              <a:xfrm>
                <a:off x="3736440" y="5176800"/>
                <a:ext cx="191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Partiendo de x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3178080" y="4941720"/>
                <a:ext cx="50328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Es decir, se deberá tener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A partir de aquí, es posible deducir la fórmula para la velocidad 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571840" y="2924280"/>
            <a:ext cx="2990880" cy="3252600"/>
            <a:chOff x="2571840" y="2924280"/>
            <a:chExt cx="2990880" cy="3252600"/>
          </a:xfrm>
        </p:grpSpPr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2571840" y="2924280"/>
                  <a:ext cx="2990880" cy="97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t xml:space="preserve">v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v</m:t>
                      </m:r>
                      <m:r>
                        <m:t xml:space="preserve">⋅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4" name=""/>
            <p:cNvSpPr/>
            <p:nvPr/>
          </p:nvSpPr>
          <p:spPr>
            <a:xfrm>
              <a:off x="4427640" y="328464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3419640" y="5229360"/>
                  <a:ext cx="1657080" cy="94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"/>
            <p:cNvSpPr/>
            <p:nvPr/>
          </p:nvSpPr>
          <p:spPr>
            <a:xfrm>
              <a:off x="4859280" y="5589720"/>
              <a:ext cx="2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125440" y="2584440"/>
            <a:ext cx="4928040" cy="3987000"/>
            <a:chOff x="2125440" y="2584440"/>
            <a:chExt cx="4928040" cy="3987000"/>
          </a:xfrm>
        </p:grpSpPr>
        <p:grpSp>
          <p:nvGrpSpPr>
            <p:cNvPr id="110" name=""/>
            <p:cNvGrpSpPr/>
            <p:nvPr/>
          </p:nvGrpSpPr>
          <p:grpSpPr>
            <a:xfrm>
              <a:off x="2125440" y="2663640"/>
              <a:ext cx="4928040" cy="3907800"/>
              <a:chOff x="2125440" y="2663640"/>
              <a:chExt cx="4928040" cy="390780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2125440" y="2663640"/>
                <a:ext cx="4928040" cy="3907800"/>
                <a:chOff x="2125440" y="2663640"/>
                <a:chExt cx="4928040" cy="3907800"/>
              </a:xfrm>
            </p:grpSpPr>
            <p:sp>
              <p:nvSpPr>
                <p:cNvPr id="112" name=""/>
                <p:cNvSpPr/>
                <p:nvPr/>
              </p:nvSpPr>
              <p:spPr>
                <a:xfrm flipV="1">
                  <a:off x="2506680" y="2663640"/>
                  <a:ext cx="0" cy="345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506680" y="6119640"/>
                  <a:ext cx="417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808680" y="592452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125440" y="44496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131200" y="5314680"/>
                  <a:ext cx="3682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128680" y="3481200"/>
                  <a:ext cx="331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V="1">
                  <a:off x="2484360" y="3665520"/>
                  <a:ext cx="2952720" cy="18712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484360" y="5537160"/>
                  <a:ext cx="792000" cy="57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708360" y="4816440"/>
                  <a:ext cx="1727280" cy="125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421080" y="4960800"/>
                  <a:ext cx="1655640" cy="115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132000" y="5105160"/>
                  <a:ext cx="1368360" cy="10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916000" y="5249880"/>
                  <a:ext cx="1152720" cy="86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700360" y="5465520"/>
                  <a:ext cx="936360" cy="64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437080" y="3736800"/>
                  <a:ext cx="0" cy="237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924360" y="4673520"/>
                  <a:ext cx="1512720" cy="1078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213080" y="4457520"/>
                  <a:ext cx="1224000" cy="86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429080" y="4313160"/>
                  <a:ext cx="1008000" cy="64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716360" y="4168800"/>
                  <a:ext cx="720720" cy="43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932360" y="4024080"/>
                  <a:ext cx="504720" cy="28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148360" y="3881160"/>
                  <a:ext cx="28872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484360" y="5824440"/>
                  <a:ext cx="360360" cy="28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276520" y="6165720"/>
                  <a:ext cx="2815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2197080" y="451656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2609640" y="2584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01:44:00Z</dcterms:created>
  <dc:creator>Claudia Rahmann</dc:creator>
  <dc:description/>
  <dc:language>en-US</dc:language>
  <cp:lastModifiedBy>Claudia Rahmann</cp:lastModifiedBy>
  <dcterms:modified xsi:type="dcterms:W3CDTF">2005-01-11T14:42:17Z</dcterms:modified>
  <cp:revision>367</cp:revision>
  <dc:subject/>
  <dc:title>FISICA I</dc:title>
</cp:coreProperties>
</file>