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50B-DE10-4A1F-8C5B-AC34EC8E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E10-3B89-408F-9507-699962CC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4E0-7484-4704-9229-83E5AB96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B33-FE51-4D10-8907-F483D4C1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E8E-F44F-4505-8F90-69A1CD6D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E0A-B8B3-4D18-8EC9-EC611206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6CA-1515-4844-AC98-EE43E2A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BAC-53EE-4E35-84F7-7B1A6126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978-BDE6-443F-8DD3-FD853B4C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812-4389-4F78-9A71-76B1885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68A-ED66-4465-B399-B3E10F75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244-B9DA-4FF9-B960-D39367A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522E-5B83-4250-A6AF-217790ED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2_5velocidad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enem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Y además, como se tiene qu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9600" y="2960640"/>
                <a:ext cx="2206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6760" y="4998960"/>
                <a:ext cx="23464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6666ff"/>
                </a:solidFill>
                <a:latin typeface="Arial"/>
              </a:rPr>
              <a:t>Entonces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00360" y="2708280"/>
                <a:ext cx="4176720" cy="33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ara el caso en que el movimiento parte en x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distinto de cero se tend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4080" y="3759120"/>
            <a:ext cx="7929000" cy="2324880"/>
            <a:chOff x="604080" y="3759120"/>
            <a:chExt cx="7929000" cy="2324880"/>
          </a:xfrm>
        </p:grpSpPr>
        <p:sp>
          <p:nvSpPr>
            <p:cNvPr id="148" name=""/>
            <p:cNvSpPr/>
            <p:nvPr/>
          </p:nvSpPr>
          <p:spPr>
            <a:xfrm>
              <a:off x="1991160" y="3875760"/>
              <a:ext cx="14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04080" y="3759120"/>
              <a:ext cx="7929000" cy="2324880"/>
              <a:chOff x="604080" y="3759120"/>
              <a:chExt cx="7929000" cy="2324880"/>
            </a:xfrm>
          </p:grpSpPr>
          <p:sp>
            <p:nvSpPr>
              <p:cNvPr id="150" name=""/>
              <p:cNvSpPr/>
              <p:nvPr/>
            </p:nvSpPr>
            <p:spPr>
              <a:xfrm>
                <a:off x="3779640" y="4760280"/>
                <a:ext cx="753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200" y="4760280"/>
                <a:ext cx="1370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10240" y="5671080"/>
                <a:ext cx="1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07560" y="5425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30400" y="571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25720" y="5239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7456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1388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82040" y="4807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7904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52160" y="54536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00560" y="54536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5272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384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81360" y="54536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3572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09600" y="43164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2360" y="4316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7944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396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94400" y="43164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958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7000" y="45428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50840" y="45428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6620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3160" y="45428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91040" y="379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396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54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2240" y="379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10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2072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836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82280" y="4527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13440" y="4753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2680" y="4008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1164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6040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33880" y="5415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3320" y="5415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68560" y="5415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080" y="541512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6472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6908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41840" y="42778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55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81360" y="4504680"/>
                <a:ext cx="24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94560" y="42778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300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0320" y="450468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706040" y="450468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80360" y="450468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25440" y="3759120"/>
                <a:ext cx="177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44560" y="375912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99440" y="37591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304800" y="4636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50640" y="463680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68360" y="2133720"/>
                <a:ext cx="4321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808200" y="3649680"/>
            <a:ext cx="7151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 forma de graficar esta ecuación en el pla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sición versus tiempo, dependerá de los val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e los diferentes parámetr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2081160"/>
            <a:ext cx="3673440" cy="4587840"/>
            <a:chOff x="2843280" y="2081160"/>
            <a:chExt cx="3673440" cy="4587840"/>
          </a:xfrm>
        </p:grpSpPr>
        <p:grpSp>
          <p:nvGrpSpPr>
            <p:cNvPr id="214" name=""/>
            <p:cNvGrpSpPr/>
            <p:nvPr/>
          </p:nvGrpSpPr>
          <p:grpSpPr>
            <a:xfrm>
              <a:off x="2843280" y="2421000"/>
              <a:ext cx="3673440" cy="3672000"/>
              <a:chOff x="2843280" y="2421000"/>
              <a:chExt cx="3673440" cy="36720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2843280" y="2421000"/>
                <a:ext cx="0" cy="36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43280" y="6093000"/>
                <a:ext cx="367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346560" y="298620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43280" y="4425840"/>
              <a:ext cx="3097080" cy="2243160"/>
            </a:xfrm>
            <a:custGeom>
              <a:avLst/>
              <a:gdLst/>
              <a:ahLst/>
              <a:rect l="l" t="t" r="r" b="b"/>
              <a:pathLst>
                <a:path w="1951" h="1413">
                  <a:moveTo>
                    <a:pt x="0" y="0"/>
                  </a:moveTo>
                  <a:cubicBezTo>
                    <a:pt x="291" y="699"/>
                    <a:pt x="583" y="1399"/>
                    <a:pt x="908" y="1406"/>
                  </a:cubicBezTo>
                  <a:cubicBezTo>
                    <a:pt x="1233" y="1413"/>
                    <a:pt x="1777" y="272"/>
                    <a:pt x="1951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33280" y="28735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1640" y="208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399400" y="416880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3789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09960" y="3376440"/>
            <a:ext cx="69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197080" y="1771560"/>
            <a:ext cx="5222880" cy="4683240"/>
            <a:chOff x="2197080" y="1771560"/>
            <a:chExt cx="5222880" cy="4683240"/>
          </a:xfrm>
        </p:grpSpPr>
        <p:sp>
          <p:nvSpPr>
            <p:cNvPr id="226" name=""/>
            <p:cNvSpPr/>
            <p:nvPr/>
          </p:nvSpPr>
          <p:spPr>
            <a:xfrm flipV="1">
              <a:off x="2637000" y="1988640"/>
              <a:ext cx="0" cy="44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7000" y="429264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7000" y="6453360"/>
              <a:ext cx="43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080" y="1792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7080" y="4313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4640" y="4240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75160" y="6086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37000" y="4724280"/>
              <a:ext cx="2881080" cy="1657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7000" y="1771560"/>
              <a:ext cx="2376360" cy="2521080"/>
            </a:xfrm>
            <a:custGeom>
              <a:avLst/>
              <a:gdLst/>
              <a:ahLst/>
              <a:rect l="l" t="t" r="r" b="b"/>
              <a:pathLst>
                <a:path w="1497" h="1588">
                  <a:moveTo>
                    <a:pt x="0" y="1588"/>
                  </a:moveTo>
                  <a:cubicBezTo>
                    <a:pt x="420" y="1539"/>
                    <a:pt x="840" y="1490"/>
                    <a:pt x="1089" y="1225"/>
                  </a:cubicBezTo>
                  <a:cubicBezTo>
                    <a:pt x="1338" y="960"/>
                    <a:pt x="1417" y="480"/>
                    <a:pt x="1497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03360" y="24400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37000" y="6021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46440" y="551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4440" y="50133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645000" y="4869000"/>
              <a:ext cx="1009440" cy="1584360"/>
              <a:chOff x="3645000" y="4869000"/>
              <a:chExt cx="1009440" cy="1584360"/>
            </a:xfrm>
          </p:grpSpPr>
          <p:sp>
            <p:nvSpPr>
              <p:cNvPr id="240" name=""/>
              <p:cNvSpPr/>
              <p:nvPr/>
            </p:nvSpPr>
            <p:spPr>
              <a:xfrm>
                <a:off x="3645000" y="53006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54440" y="486900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637000" y="2708280"/>
              <a:ext cx="3025080" cy="1008000"/>
              <a:chOff x="2637000" y="2708280"/>
              <a:chExt cx="3025080" cy="1008000"/>
            </a:xfrm>
          </p:grpSpPr>
          <p:sp>
            <p:nvSpPr>
              <p:cNvPr id="243" name=""/>
              <p:cNvSpPr/>
              <p:nvPr/>
            </p:nvSpPr>
            <p:spPr>
              <a:xfrm>
                <a:off x="2637000" y="3716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6440" y="321156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4440" y="270828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645000" y="2708280"/>
              <a:ext cx="1009440" cy="1584360"/>
              <a:chOff x="3645000" y="2708280"/>
              <a:chExt cx="1009440" cy="1584360"/>
            </a:xfrm>
          </p:grpSpPr>
          <p:sp>
            <p:nvSpPr>
              <p:cNvPr id="247" name=""/>
              <p:cNvSpPr/>
              <p:nvPr/>
            </p:nvSpPr>
            <p:spPr>
              <a:xfrm>
                <a:off x="3645000" y="313992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54440" y="2708280"/>
                <a:ext cx="0" cy="158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2637000" y="4147920"/>
              <a:ext cx="1225440" cy="144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73360" y="3068280"/>
              <a:ext cx="1297080" cy="1152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Se lanza un cuerpo verticalmente hacia abajo con una velocidad inicial de 7 m/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a) ¿Cuál será su velocidad luego de haber descendido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b) ¿Qué distancia habrá descendido en esos 3 s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c) Si el cuerpo se lanzó desde una altura de 200 m, ¿en cuánto tiempo alcanzará el suelo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d) ¿Con qué velocidad lo hará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* Considere g = 10 m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2720" y="1959120"/>
            <a:ext cx="73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uál será su velocidad luego de haber descendido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539720" y="4462560"/>
                <a:ext cx="2887920" cy="20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6497640" y="3422520"/>
            <a:ext cx="2268360" cy="3390840"/>
            <a:chOff x="6497640" y="3422520"/>
            <a:chExt cx="2268360" cy="3390840"/>
          </a:xfrm>
        </p:grpSpPr>
        <p:grpSp>
          <p:nvGrpSpPr>
            <p:cNvPr id="258" name=""/>
            <p:cNvGrpSpPr/>
            <p:nvPr/>
          </p:nvGrpSpPr>
          <p:grpSpPr>
            <a:xfrm>
              <a:off x="6659640" y="3422520"/>
              <a:ext cx="2106360" cy="3390840"/>
              <a:chOff x="6659640" y="3422520"/>
              <a:chExt cx="2106360" cy="33908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659640" y="3860640"/>
                <a:ext cx="2089080" cy="2952720"/>
                <a:chOff x="6659640" y="3860640"/>
                <a:chExt cx="2089080" cy="2952720"/>
              </a:xfrm>
            </p:grpSpPr>
            <p:pic>
              <p:nvPicPr>
                <p:cNvPr id="2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48600" y="3860640"/>
                  <a:ext cx="860400" cy="288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>
                  <a:off x="6659640" y="6813360"/>
                  <a:ext cx="20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244000" y="3860640"/>
                  <a:ext cx="504720" cy="2952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634520" y="3422520"/>
                <a:ext cx="1131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=7 m/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659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7640" y="3521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57560" y="2387520"/>
                <a:ext cx="19540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52720" y="4035600"/>
            <a:ext cx="61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Qué distancia habrá descendido en esos 3 s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8560" y="2584440"/>
                <a:ext cx="559908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49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≈</m:t>
                        </m:r>
                        <m:r>
                          <m:t xml:space="preserve">5,6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63240" y="1628640"/>
            <a:ext cx="625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 el cuerpo se lanzó desde una altura de 200 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en cuánto tiempo alcanzará el suelo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74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2880" y="1628640"/>
            <a:ext cx="38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¿Con qué velocidad lo hará?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796080" y="3422520"/>
            <a:ext cx="2160360" cy="3390840"/>
            <a:chOff x="6796080" y="3422520"/>
            <a:chExt cx="2160360" cy="3390840"/>
          </a:xfrm>
        </p:grpSpPr>
        <p:grpSp>
          <p:nvGrpSpPr>
            <p:cNvPr id="288" name=""/>
            <p:cNvGrpSpPr/>
            <p:nvPr/>
          </p:nvGrpSpPr>
          <p:grpSpPr>
            <a:xfrm>
              <a:off x="6796080" y="3422520"/>
              <a:ext cx="2160360" cy="3390840"/>
              <a:chOff x="6796080" y="3422520"/>
              <a:chExt cx="2160360" cy="339084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850080" y="3422520"/>
                <a:ext cx="2106360" cy="3390840"/>
                <a:chOff x="6850080" y="3422520"/>
                <a:chExt cx="2106360" cy="339084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6850080" y="3860640"/>
                  <a:ext cx="2089080" cy="2952720"/>
                  <a:chOff x="6850080" y="3860640"/>
                  <a:chExt cx="2089080" cy="2952720"/>
                </a:xfrm>
              </p:grpSpPr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9040" y="3860640"/>
                    <a:ext cx="860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6850080" y="6813360"/>
                    <a:ext cx="20890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434440" y="3860640"/>
                    <a:ext cx="504720" cy="2952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7824960" y="3422520"/>
                  <a:ext cx="1131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1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=7 m/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958080" y="393372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96080" y="3521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877080" y="39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763640" y="2733840"/>
                <a:ext cx="252108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,6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conceptos de velocidad y aceleración están relacionados, pero muchas veces se hace una interpretació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correc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esta rel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as personas piensan que cuando un cuerpo se mueve con una gran velocidad, su aceleración también es grande; que si se mueve con velocidad pequeña es porque su aceleración es pequeña; y si su velocidad es cero, entonces su aceleración también debe valer cero.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¡Esto es un error!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aceleración relaciona los cambios de la velocidad con el tiempo en el que se producen, es decir, que mi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 tan rápidos son los camb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velocida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grande significa que la velocidad cambia rápid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pequeña significa que la velocidad cambia lentamen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na aceleración cero significa que la velocidad no camb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con aceleración 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 observador situado a 40 m de altura ve pasar un cuerpo hacia arriba con una cierta velocidad y al cabo de 10 s lo ve pasar hacia abajo, con una velocidad igual en módulo pero de distinto senti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) ¿Cuál fue la velocidad con la que pasó el móvil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) ¿Cuál fue la altura máxima alcanzada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219640" y="1700280"/>
            <a:ext cx="3134880" cy="4975200"/>
            <a:chOff x="5219640" y="1700280"/>
            <a:chExt cx="3134880" cy="4975200"/>
          </a:xfrm>
        </p:grpSpPr>
        <p:grpSp>
          <p:nvGrpSpPr>
            <p:cNvPr id="303" name=""/>
            <p:cNvGrpSpPr/>
            <p:nvPr/>
          </p:nvGrpSpPr>
          <p:grpSpPr>
            <a:xfrm>
              <a:off x="5219640" y="3141720"/>
              <a:ext cx="3134880" cy="3533760"/>
              <a:chOff x="5219640" y="3141720"/>
              <a:chExt cx="3134880" cy="3533760"/>
            </a:xfrm>
          </p:grpSpPr>
          <p:sp>
            <p:nvSpPr>
              <p:cNvPr id="304" name=""/>
              <p:cNvSpPr/>
              <p:nvPr/>
            </p:nvSpPr>
            <p:spPr>
              <a:xfrm>
                <a:off x="5219640" y="6675480"/>
                <a:ext cx="2089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04000" y="3722760"/>
                <a:ext cx="504720" cy="2952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67480" y="3716280"/>
                <a:ext cx="0" cy="29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66200" y="50324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0360" y="314172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012000" y="3357720"/>
                <a:ext cx="7272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5724000" y="3645000"/>
                <a:ext cx="28764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867280" y="3645000"/>
                <a:ext cx="144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012000" y="3428640"/>
                <a:ext cx="1425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084720" y="3357360"/>
                <a:ext cx="142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724000" y="314172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724000" y="3213000"/>
                <a:ext cx="287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24000" y="328464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93080" y="3284640"/>
                <a:ext cx="142920" cy="144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64360" y="34290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93080" y="3500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6659640" y="1700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6720" y="2297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03280" y="1844640"/>
                <a:ext cx="26640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28680" y="357840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71640" y="3905280"/>
                <a:ext cx="360180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Un tren puede acelerar a una razón de 2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y desacelerar a 100 cm./s</a:t>
            </a:r>
            <a:r>
              <a:rPr b="0" i="1" lang="es-MX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. Determine el tiempo mínimo que puede demorar este tren para ir de una estación a otra situada a 2 Km. de distanc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187280" y="5157720"/>
            <a:ext cx="6840720" cy="1324080"/>
            <a:chOff x="1187280" y="5157720"/>
            <a:chExt cx="6840720" cy="1324080"/>
          </a:xfrm>
        </p:grpSpPr>
        <p:sp>
          <p:nvSpPr>
            <p:cNvPr id="331" name=""/>
            <p:cNvSpPr/>
            <p:nvPr/>
          </p:nvSpPr>
          <p:spPr>
            <a:xfrm>
              <a:off x="1258920" y="5805360"/>
              <a:ext cx="669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8920" y="602136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81280" y="61135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 K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87280" y="5300640"/>
              <a:ext cx="72072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236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32000" y="5589360"/>
              <a:ext cx="14292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92360" y="5157720"/>
              <a:ext cx="7128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92360" y="5373720"/>
              <a:ext cx="14292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104480" y="424008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lera a 2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celera a 100 cm/s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Qué es lo intuitiv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ínimo tiempo será si el tren acelera todo el tiempo hasta un cierto instante en el cual debe poner los frenos para alcanzar a detenerse justo al frente de la es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5960" y="1574640"/>
            <a:ext cx="7837200" cy="5050080"/>
            <a:chOff x="615960" y="1574640"/>
            <a:chExt cx="7837200" cy="5050080"/>
          </a:xfrm>
        </p:grpSpPr>
        <p:grpSp>
          <p:nvGrpSpPr>
            <p:cNvPr id="344" name=""/>
            <p:cNvGrpSpPr/>
            <p:nvPr/>
          </p:nvGrpSpPr>
          <p:grpSpPr>
            <a:xfrm>
              <a:off x="1495440" y="2773440"/>
              <a:ext cx="5915160" cy="3681360"/>
              <a:chOff x="1495440" y="2773440"/>
              <a:chExt cx="5915160" cy="3681360"/>
            </a:xfrm>
          </p:grpSpPr>
          <p:sp>
            <p:nvSpPr>
              <p:cNvPr id="345" name=""/>
              <p:cNvSpPr/>
              <p:nvPr/>
            </p:nvSpPr>
            <p:spPr>
              <a:xfrm>
                <a:off x="1495440" y="6282000"/>
                <a:ext cx="554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95440" y="282600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495440" y="4122720"/>
                <a:ext cx="2879640" cy="215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5080" y="4122720"/>
                <a:ext cx="1152720" cy="2159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57760" y="4213440"/>
                <a:ext cx="126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80000" y="4338720"/>
                <a:ext cx="12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65080" y="2773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65800" y="6086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95440" y="642636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03800" y="6426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15960" y="1574640"/>
              <a:ext cx="78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ste gráfico se pueden ver las 2 etapas involucrad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en el probl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37440" y="6256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327320" y="1773360"/>
            <a:ext cx="6628680" cy="4790160"/>
            <a:chOff x="1327320" y="1773360"/>
            <a:chExt cx="6628680" cy="4790160"/>
          </a:xfrm>
        </p:grpSpPr>
        <p:sp>
          <p:nvSpPr>
            <p:cNvPr id="362" name=""/>
            <p:cNvSpPr/>
            <p:nvPr/>
          </p:nvSpPr>
          <p:spPr>
            <a:xfrm>
              <a:off x="1725480" y="5961240"/>
              <a:ext cx="585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725480" y="1834920"/>
              <a:ext cx="0" cy="41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25480" y="3384360"/>
              <a:ext cx="3040200" cy="25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65680" y="3384720"/>
              <a:ext cx="1216080" cy="2576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23800" y="3492360"/>
              <a:ext cx="133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0,2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2680" y="3573360"/>
              <a:ext cx="1287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= -1 m/s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952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1200" y="57294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70840" y="61578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4840" y="60930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30760" y="3429000"/>
              <a:ext cx="0" cy="252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706040" y="335772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27320" y="31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63640" y="609300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6360" y="6093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3280" y="1743120"/>
            <a:ext cx="643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ado que la aceleración es la pendiente 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gráfico de velocidad versus tiempo, se tendrá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411280" y="2925720"/>
            <a:ext cx="1152360" cy="2232000"/>
            <a:chOff x="2411280" y="2925720"/>
            <a:chExt cx="1152360" cy="223200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411280" y="2925720"/>
                  <a:ext cx="108108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484000" y="4222800"/>
                  <a:ext cx="107964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4700520" y="440676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¿Está bien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55080" y="171936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ado que el tiempo es positivo se 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441520" y="2925720"/>
            <a:ext cx="2851200" cy="2246400"/>
            <a:chOff x="2441520" y="2925720"/>
            <a:chExt cx="2851200" cy="224640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523960" y="2925720"/>
                  <a:ext cx="254160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441520" y="4208400"/>
                  <a:ext cx="2851200" cy="9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53280" y="174312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uego se tend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278080" y="2565360"/>
                <a:ext cx="3036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1021320" y="4340160"/>
            <a:ext cx="733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¿Cómo encontramos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 el área bajo la curva del gráfico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versus tiemp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66960" y="2179800"/>
            <a:ext cx="6628680" cy="4601520"/>
            <a:chOff x="966960" y="2179800"/>
            <a:chExt cx="6628680" cy="4601520"/>
          </a:xfrm>
        </p:grpSpPr>
        <p:grpSp>
          <p:nvGrpSpPr>
            <p:cNvPr id="405" name=""/>
            <p:cNvGrpSpPr/>
            <p:nvPr/>
          </p:nvGrpSpPr>
          <p:grpSpPr>
            <a:xfrm>
              <a:off x="966960" y="2179800"/>
              <a:ext cx="6628680" cy="4601520"/>
              <a:chOff x="966960" y="2179800"/>
              <a:chExt cx="6628680" cy="4601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365120" y="6367680"/>
                <a:ext cx="585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365120" y="2241360"/>
                <a:ext cx="0" cy="412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365120" y="3790800"/>
                <a:ext cx="3040200" cy="257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05320" y="3791160"/>
                <a:ext cx="1216080" cy="25765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63440" y="3898800"/>
                <a:ext cx="1337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0,2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82320" y="3979800"/>
                <a:ext cx="1287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= -1 m/s</a:t>
                </a:r>
                <a:r>
                  <a:rPr b="0" lang="es-MX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49160" y="2179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50840" y="61358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25000" y="63756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32880" y="6356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70400" y="3835440"/>
                <a:ext cx="0" cy="252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45680" y="3764160"/>
                <a:ext cx="30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66960" y="3548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2195640" y="5707080"/>
              <a:ext cx="792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43280" y="5130720"/>
              <a:ext cx="129708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0920" y="455616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90560" y="61405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67280" y="4122720"/>
              <a:ext cx="108108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87880" y="1773360"/>
                <a:ext cx="23558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ltur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ACELER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celeración nos d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ómo camb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o cómo 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velocidad. Por lo tanto un móvil puede tener un velocidad grande y una aceleración pequeña (o cero) y vice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locida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es una magnitud que contempla la rapidez de un móvil y su dirección, los cambios que se produzcan en la velocidad serán debido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ciones en la rapidez y/o en la direc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ler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e relaciona los cambios en la velocidad con el tiempo que tardan en producirse. Un móvil está acelerando mientras su velocidad cambia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27080" y="2060640"/>
            <a:ext cx="4876920" cy="4392720"/>
            <a:chOff x="1927080" y="2060640"/>
            <a:chExt cx="4876920" cy="439272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166920" y="2060640"/>
                  <a:ext cx="2390760" cy="97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1927080" y="2805120"/>
                  <a:ext cx="4876920" cy="364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r>
                            <m:t xml:space="preserve">⇒</m:t>
                          </m:r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0,5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L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 u="sng">
                <a:solidFill>
                  <a:srgbClr val="6666ff"/>
                </a:solidFill>
                <a:uFillTx/>
                <a:latin typeface="Arial"/>
              </a:rPr>
              <a:t>El área bajo la curva en un gráfico velocidad versus tiempo representa la distancia recor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n el caso de aceleración constante, la distancia recorrida es el área bajo el trapecio de la fi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2720" y="2516040"/>
            <a:ext cx="8233920" cy="4017960"/>
            <a:chOff x="612720" y="2516040"/>
            <a:chExt cx="8233920" cy="4017960"/>
          </a:xfrm>
        </p:grpSpPr>
        <p:grpSp>
          <p:nvGrpSpPr>
            <p:cNvPr id="52" name=""/>
            <p:cNvGrpSpPr/>
            <p:nvPr/>
          </p:nvGrpSpPr>
          <p:grpSpPr>
            <a:xfrm>
              <a:off x="612720" y="2516040"/>
              <a:ext cx="8233920" cy="4017960"/>
              <a:chOff x="612720" y="2516040"/>
              <a:chExt cx="8233920" cy="40179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12720" y="2516040"/>
                <a:ext cx="8233920" cy="4017960"/>
                <a:chOff x="612720" y="2516040"/>
                <a:chExt cx="8233920" cy="401796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612720" y="2663640"/>
                  <a:ext cx="4927320" cy="3870360"/>
                  <a:chOff x="612720" y="2663640"/>
                  <a:chExt cx="4927320" cy="38703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V="1">
                    <a:off x="993600" y="266364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93600" y="611964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5295240" y="59245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12720" y="44496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18120" y="5314680"/>
                    <a:ext cx="368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12720" y="34812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V="1">
                    <a:off x="971280" y="3665160"/>
                    <a:ext cx="2952360" cy="1871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971280" y="5537160"/>
                    <a:ext cx="791640" cy="57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195280" y="4816440"/>
                    <a:ext cx="1726920" cy="125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8000" y="4960800"/>
                    <a:ext cx="1655280" cy="1152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618920" y="5105160"/>
                    <a:ext cx="136800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402920" y="5249880"/>
                    <a:ext cx="1152360" cy="86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187280" y="5465520"/>
                    <a:ext cx="93600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24000" y="3736800"/>
                    <a:ext cx="0" cy="237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411280" y="4673520"/>
                    <a:ext cx="151236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700000" y="4457520"/>
                    <a:ext cx="1223640" cy="8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916000" y="4313160"/>
                    <a:ext cx="100764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203280" y="4168800"/>
                    <a:ext cx="720360" cy="43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419280" y="4024080"/>
                    <a:ext cx="504360" cy="28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635280" y="3881160"/>
                    <a:ext cx="288360" cy="1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71280" y="5824440"/>
                    <a:ext cx="36000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760200" y="616572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>
                  <a:off x="4581720" y="2516040"/>
                  <a:ext cx="4264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200" spc="-1" strike="noStrike">
                      <a:solidFill>
                        <a:srgbClr val="000000"/>
                      </a:solidFill>
                      <a:latin typeface="Arial"/>
                    </a:rPr>
                    <a:t>¿Cuál es el área bajo la curva?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8" name=""/>
                    <p:cNvSpPr txBox="1"/>
                    <p:nvPr/>
                  </p:nvSpPr>
                  <p:spPr>
                    <a:xfrm>
                      <a:off x="4968720" y="3254400"/>
                      <a:ext cx="2840040" cy="1739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v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" name=""/>
              <p:cNvSpPr/>
              <p:nvPr/>
            </p:nvSpPr>
            <p:spPr>
              <a:xfrm>
                <a:off x="684360" y="451656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2394000" y="510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Por lo cual se tendrá que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la distancia recorrida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tiempo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ta distancia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DEBE 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ser la misma que recorrió el móvil con velocidad con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v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00000" y="2205000"/>
            <a:ext cx="6537600" cy="3456000"/>
            <a:chOff x="900000" y="2205000"/>
            <a:chExt cx="6537600" cy="34560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952960" y="2205000"/>
                  <a:ext cx="148464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900000" y="5661000"/>
              <a:ext cx="216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3280" y="2352600"/>
            <a:ext cx="730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definición, la velocidad media es la veloc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constante con la cual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DEBE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 viajar un móvil pa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recorrer la misma distancia que en un caso da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de velocidad variable, empleando el mismo tiem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178080" y="4365720"/>
            <a:ext cx="2470320" cy="1179360"/>
            <a:chOff x="3178080" y="4365720"/>
            <a:chExt cx="2470320" cy="117936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3773520" y="4365720"/>
                  <a:ext cx="15127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4565520" y="4437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178080" y="4941720"/>
              <a:ext cx="2470320" cy="603360"/>
              <a:chOff x="3178080" y="4941720"/>
              <a:chExt cx="2470320" cy="603360"/>
            </a:xfrm>
          </p:grpSpPr>
          <p:sp>
            <p:nvSpPr>
              <p:cNvPr id="96" name=""/>
              <p:cNvSpPr/>
              <p:nvPr/>
            </p:nvSpPr>
            <p:spPr>
              <a:xfrm>
                <a:off x="3736440" y="5176800"/>
                <a:ext cx="191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artiendo de x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178080" y="4941720"/>
                <a:ext cx="503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Es decir, se deberá tener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3200" spc="-1" strike="noStrike">
                <a:solidFill>
                  <a:srgbClr val="6666ff"/>
                </a:solidFill>
                <a:latin typeface="Arial"/>
              </a:rPr>
              <a:t>A partir de aquí, es posible deducir la fórmula para la velocidad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1840" y="2924280"/>
            <a:ext cx="2990880" cy="3252600"/>
            <a:chOff x="2571840" y="2924280"/>
            <a:chExt cx="2990880" cy="32526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571840" y="2924280"/>
                  <a:ext cx="299088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(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⋅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4427640" y="3284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3419640" y="5229360"/>
                  <a:ext cx="165708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859280" y="55897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La posición en función del tiempo para aceleración constan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25440" y="2584440"/>
            <a:ext cx="4928040" cy="3987000"/>
            <a:chOff x="2125440" y="2584440"/>
            <a:chExt cx="4928040" cy="3987000"/>
          </a:xfrm>
        </p:grpSpPr>
        <p:grpSp>
          <p:nvGrpSpPr>
            <p:cNvPr id="110" name=""/>
            <p:cNvGrpSpPr/>
            <p:nvPr/>
          </p:nvGrpSpPr>
          <p:grpSpPr>
            <a:xfrm>
              <a:off x="2125440" y="2663640"/>
              <a:ext cx="4928040" cy="3907800"/>
              <a:chOff x="2125440" y="2663640"/>
              <a:chExt cx="4928040" cy="39078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125440" y="2663640"/>
                <a:ext cx="4928040" cy="3907800"/>
                <a:chOff x="2125440" y="2663640"/>
                <a:chExt cx="4928040" cy="3907800"/>
              </a:xfrm>
            </p:grpSpPr>
            <p:sp>
              <p:nvSpPr>
                <p:cNvPr id="112" name=""/>
                <p:cNvSpPr/>
                <p:nvPr/>
              </p:nvSpPr>
              <p:spPr>
                <a:xfrm flipV="1">
                  <a:off x="2506680" y="2663640"/>
                  <a:ext cx="0" cy="345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506680" y="6119640"/>
                  <a:ext cx="417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808680" y="59245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25440" y="44496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31200" y="53146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128680" y="3481200"/>
                  <a:ext cx="331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484360" y="3665520"/>
                  <a:ext cx="2952720" cy="1871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84360" y="5537160"/>
                  <a:ext cx="79200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08360" y="4816440"/>
                  <a:ext cx="1727280" cy="125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21080" y="4960800"/>
                  <a:ext cx="1655640" cy="115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132000" y="5105160"/>
                  <a:ext cx="1368360" cy="10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916000" y="5249880"/>
                  <a:ext cx="1152720" cy="86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00360" y="5465520"/>
                  <a:ext cx="93636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37080" y="3736800"/>
                  <a:ext cx="0" cy="237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4360" y="4673520"/>
                  <a:ext cx="1512720" cy="10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213080" y="4457520"/>
                  <a:ext cx="1224000" cy="86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29080" y="4313160"/>
                  <a:ext cx="1008000" cy="64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16360" y="4168800"/>
                  <a:ext cx="720720" cy="43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32360" y="4024080"/>
                  <a:ext cx="50472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48360" y="3881160"/>
                  <a:ext cx="28872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84360" y="5824440"/>
                  <a:ext cx="360360" cy="28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76520" y="6165720"/>
                  <a:ext cx="281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2197080" y="45165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09640" y="2584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1T14:42:17Z</dcterms:modified>
  <cp:revision>367</cp:revision>
  <dc:subject/>
  <dc:title>FISICA I</dc:title>
</cp:coreProperties>
</file>