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917A-1848-48A9-8213-60658583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521E-2278-496F-B75E-081F8B2F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F210-2F59-41E8-9CDF-76BA42A1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ACE-8EE1-4E2C-A35B-B4EA7F19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2F0-75C1-4027-85EE-0A676D37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D74-3834-4D6E-BD6A-2FAEBD09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9F7-47F8-4AB9-92AF-5E86D9C8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6BB-93C4-4888-9373-F6B259D7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D343-8A7C-45D3-A27A-B97292C0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58B5-33F3-451B-99E2-284CBFCB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2F3-4DA7-48DA-B1F7-EDC81274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E94-DBF0-4AC1-8D5E-9F81E424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DEB6-A0A8-4EBD-A3C2-CCEBAA46F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ducaplus.org/movi/1_2escavect.html" TargetMode="External"/><Relationship Id="rId3" Type="http://schemas.openxmlformats.org/officeDocument/2006/relationships/hyperlink" Target="http://www.educaplus.org/movi/1_2escavect.html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CINEMATIC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apidez /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apidez y velocidad son dos magnitudes cinemáticas que suelen confundirse con frecu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ez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es una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gnitud escalar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que relaciona la distancia recorrida con el tiemp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elocidad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es una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agnitud vectorial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que relaciona el cambio de posición (o desplazamiento) con el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6666ff"/>
                </a:solidFill>
                <a:latin typeface="Arial"/>
              </a:rPr>
              <a:t>Una persona pasea desde A hasta B, retrocede hasta C y retrocede de nuevo para alcanzar el punto D. Calcula su rapidez media y su velocidad media con los datos del gráfico</a:t>
            </a: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58920" y="3871800"/>
            <a:ext cx="6551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ramo A-B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ancia recorrida:  350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mpo empleado :  3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ramo B-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ancia recorrida:  200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mpo empleado :  2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ramo C-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ancia recorrida:  450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mpo empleado :  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ovimiento 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Distancia recorrida: 350+200+450 = 1000 m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Tiempo total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: 10 min. = 600 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apidez media = distancia/tiemp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1000 m/600 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1,7 m/s &gt;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ovimiento 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Distancia recorrida: 350+200+450 = 1000 m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Tiempo total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: 10 min. = 600 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elocidad media = (posición final-posición inicial)/tiemp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(-100-500) m/600 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-1 m/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837440" y="1766880"/>
            <a:ext cx="5973120" cy="4039920"/>
            <a:chOff x="1837440" y="1766880"/>
            <a:chExt cx="5973120" cy="4039920"/>
          </a:xfrm>
        </p:grpSpPr>
        <p:sp>
          <p:nvSpPr>
            <p:cNvPr id="145" name=""/>
            <p:cNvSpPr/>
            <p:nvPr/>
          </p:nvSpPr>
          <p:spPr>
            <a:xfrm flipH="1" flipV="1">
              <a:off x="2687400" y="1766880"/>
              <a:ext cx="1260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837440" y="2295360"/>
              <a:ext cx="5973120" cy="3511440"/>
              <a:chOff x="1837440" y="2295360"/>
              <a:chExt cx="5973120" cy="3511440"/>
            </a:xfrm>
          </p:grpSpPr>
          <p:sp>
            <p:nvSpPr>
              <p:cNvPr id="147" name=""/>
              <p:cNvSpPr/>
              <p:nvPr/>
            </p:nvSpPr>
            <p:spPr>
              <a:xfrm>
                <a:off x="2700360" y="4868640"/>
                <a:ext cx="475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65760" y="47178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06520" y="47239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00360" y="2563560"/>
                <a:ext cx="1150920" cy="165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3851280" y="3428280"/>
                <a:ext cx="865080" cy="79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61280" y="5006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3800" y="5013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12400" y="500652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90000" y="229536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910520" y="393192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921680" y="32126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3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00360" y="4220640"/>
                <a:ext cx="11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700360" y="3428640"/>
                <a:ext cx="20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51280" y="422064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16360" y="3428640"/>
                <a:ext cx="0" cy="143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837440" y="5438520"/>
                <a:ext cx="63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-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700360" y="5660640"/>
                <a:ext cx="388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16360" y="3428640"/>
                <a:ext cx="1871640" cy="22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88000" y="4868640"/>
                <a:ext cx="0" cy="79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700360" y="2563560"/>
                <a:ext cx="3887640" cy="3096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781080" y="2997000"/>
                <a:ext cx="198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Arial"/>
                  </a:rPr>
                  <a:t>Velocidad me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4200" y="1982880"/>
            <a:ext cx="7898760" cy="4038480"/>
            <a:chOff x="304200" y="1982880"/>
            <a:chExt cx="7898760" cy="4038480"/>
          </a:xfrm>
        </p:grpSpPr>
        <p:grpSp>
          <p:nvGrpSpPr>
            <p:cNvPr id="170" name=""/>
            <p:cNvGrpSpPr/>
            <p:nvPr/>
          </p:nvGrpSpPr>
          <p:grpSpPr>
            <a:xfrm>
              <a:off x="304200" y="1982880"/>
              <a:ext cx="7898760" cy="4038480"/>
              <a:chOff x="304200" y="1982880"/>
              <a:chExt cx="7898760" cy="403848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2306520" y="1982880"/>
                <a:ext cx="5504040" cy="4038480"/>
                <a:chOff x="2306520" y="1982880"/>
                <a:chExt cx="5504040" cy="4038480"/>
              </a:xfrm>
            </p:grpSpPr>
            <p:sp>
              <p:nvSpPr>
                <p:cNvPr id="172" name=""/>
                <p:cNvSpPr/>
                <p:nvPr/>
              </p:nvSpPr>
              <p:spPr>
                <a:xfrm flipH="1" flipV="1">
                  <a:off x="2687400" y="1982880"/>
                  <a:ext cx="12600" cy="403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700360" y="5085000"/>
                  <a:ext cx="475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65760" y="493416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306520" y="4940280"/>
                  <a:ext cx="35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843280" y="2637000"/>
                  <a:ext cx="4033800" cy="2208240"/>
                </a:xfrm>
                <a:custGeom>
                  <a:avLst/>
                  <a:gdLst/>
                  <a:ahLst/>
                  <a:rect l="l" t="t" r="r" b="b"/>
                  <a:pathLst>
                    <a:path w="2541" h="1391">
                      <a:moveTo>
                        <a:pt x="0" y="1391"/>
                      </a:moveTo>
                      <a:cubicBezTo>
                        <a:pt x="242" y="816"/>
                        <a:pt x="485" y="242"/>
                        <a:pt x="908" y="121"/>
                      </a:cubicBezTo>
                      <a:cubicBezTo>
                        <a:pt x="1331" y="0"/>
                        <a:pt x="2269" y="574"/>
                        <a:pt x="2541" y="66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3276720" y="2853000"/>
                  <a:ext cx="1582560" cy="1079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3276720" y="3068280"/>
                  <a:ext cx="2303280" cy="8636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304200" y="2871720"/>
                <a:ext cx="198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Velocidad me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por intervalo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916160" y="3881520"/>
                <a:ext cx="3286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La velocidad media depen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del intervalo de tiempo que se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o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583160" y="2354400"/>
                <a:ext cx="4107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200" spc="-1" strike="noStrike">
                    <a:solidFill>
                      <a:srgbClr val="ff0000"/>
                    </a:solidFill>
                    <a:latin typeface="Arial"/>
                  </a:rPr>
                  <a:t>v</a:t>
                </a:r>
                <a:r>
                  <a:rPr b="0" lang="es-MX" sz="2200" spc="-1" strike="noStrike" baseline="-25000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445360" y="2641680"/>
                <a:ext cx="4107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200" spc="-1" strike="noStrike">
                    <a:solidFill>
                      <a:srgbClr val="6666ff"/>
                    </a:solidFill>
                    <a:latin typeface="Arial"/>
                  </a:rPr>
                  <a:t>v</a:t>
                </a:r>
                <a:r>
                  <a:rPr b="0" lang="es-MX" sz="2200" spc="-1" strike="noStrike" baseline="-25000">
                    <a:solidFill>
                      <a:srgbClr val="6666ff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43280" y="2421000"/>
                <a:ext cx="21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08720" y="270828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558320" y="51577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9640" y="51577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6666ff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6666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03120" y="1587600"/>
            <a:ext cx="8013960" cy="4833000"/>
            <a:chOff x="303120" y="1587600"/>
            <a:chExt cx="8013960" cy="4833000"/>
          </a:xfrm>
        </p:grpSpPr>
        <p:sp>
          <p:nvSpPr>
            <p:cNvPr id="190" name=""/>
            <p:cNvSpPr/>
            <p:nvPr/>
          </p:nvSpPr>
          <p:spPr>
            <a:xfrm>
              <a:off x="303120" y="1587600"/>
              <a:ext cx="8013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El área bajo la curva en un gráfico de posición versus tiempo representa la distancia recorrida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357920" y="2701800"/>
              <a:ext cx="5814720" cy="3718800"/>
              <a:chOff x="1357920" y="2701800"/>
              <a:chExt cx="5814720" cy="37188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357920" y="2701800"/>
                <a:ext cx="5814720" cy="3718800"/>
                <a:chOff x="1357920" y="2701800"/>
                <a:chExt cx="5814720" cy="3718800"/>
              </a:xfrm>
            </p:grpSpPr>
            <p:sp>
              <p:nvSpPr>
                <p:cNvPr id="193" name=""/>
                <p:cNvSpPr/>
                <p:nvPr/>
              </p:nvSpPr>
              <p:spPr>
                <a:xfrm flipH="1" flipV="1">
                  <a:off x="1834920" y="2825640"/>
                  <a:ext cx="12600" cy="346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855800" y="5922720"/>
                  <a:ext cx="475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721200" y="577188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461960" y="5778360"/>
                  <a:ext cx="35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496880" y="2701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57920" y="4763880"/>
                  <a:ext cx="368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835280" y="5059080"/>
                  <a:ext cx="28810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768560" y="3998520"/>
                  <a:ext cx="2404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elocidad consta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835280" y="5059080"/>
                  <a:ext cx="2881080" cy="8636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486680" y="6014880"/>
                  <a:ext cx="3178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03" name=""/>
                  <p:cNvSpPr txBox="1"/>
                  <p:nvPr/>
                </p:nvSpPr>
                <p:spPr>
                  <a:xfrm>
                    <a:off x="2843280" y="3565080"/>
                    <a:ext cx="1001520" cy="115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  <m:e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d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el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aceleración se define como la razón entre el cambio de velocidad y el intervalo en el cual esta ocur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660840" y="3301920"/>
                <a:ext cx="13190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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Velocidad constante, aceleración n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357920" y="1700280"/>
            <a:ext cx="5814720" cy="4157640"/>
            <a:chOff x="1357920" y="1700280"/>
            <a:chExt cx="5814720" cy="4157640"/>
          </a:xfrm>
        </p:grpSpPr>
        <p:sp>
          <p:nvSpPr>
            <p:cNvPr id="211" name=""/>
            <p:cNvSpPr/>
            <p:nvPr/>
          </p:nvSpPr>
          <p:spPr>
            <a:xfrm flipH="1" flipV="1">
              <a:off x="1842840" y="1819440"/>
              <a:ext cx="1260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55800" y="4921560"/>
              <a:ext cx="47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1200" y="47707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61960" y="4776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96880" y="1700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57920" y="37627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35280" y="4057920"/>
              <a:ext cx="2881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68560" y="2997360"/>
              <a:ext cx="240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Velocidad const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Aceleración nu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6666ff"/>
                </a:solidFill>
                <a:latin typeface="Arial"/>
              </a:rPr>
              <a:t>Es muy difícil encontrar un movimiento con velocidad constante. Lo natural es que la velocidad cambie a lo largo de la trayectoria</a:t>
            </a:r>
            <a:r>
              <a:rPr b="0" lang="en-US" sz="25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 estas condiciones un gráfico posición versus tiempo, se vuelve complicado: el cambio de velocidad produce, de acuerdo al razonamiento anterior, un cambio en la pendiente de la curva y el gráfico deja de ser una línea recta (con pendiente constante) y se transforma en una curv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Velocidad variable, aceleración const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338840" y="1647720"/>
            <a:ext cx="6308280" cy="4157640"/>
            <a:chOff x="1338840" y="1647720"/>
            <a:chExt cx="6308280" cy="4157640"/>
          </a:xfrm>
        </p:grpSpPr>
        <p:sp>
          <p:nvSpPr>
            <p:cNvPr id="221" name=""/>
            <p:cNvSpPr/>
            <p:nvPr/>
          </p:nvSpPr>
          <p:spPr>
            <a:xfrm flipH="1" flipV="1">
              <a:off x="1842840" y="1766880"/>
              <a:ext cx="1260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55800" y="4869000"/>
              <a:ext cx="47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21200" y="471816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61960" y="4724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96880" y="164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5138640" y="2760840"/>
                  <a:ext cx="2508480" cy="11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"/>
            <p:cNvSpPr/>
            <p:nvPr/>
          </p:nvSpPr>
          <p:spPr>
            <a:xfrm flipV="1">
              <a:off x="2071800" y="2421000"/>
              <a:ext cx="2808000" cy="1944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38840" y="26557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57920" y="371016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55800" y="393372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19440" y="3933720"/>
              <a:ext cx="0" cy="93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55800" y="292428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59080" y="2924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89760" y="48895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78720" y="49417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150160" y="516420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aceleración 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nidades de m/s</a:t>
            </a:r>
            <a:r>
              <a:rPr b="1" lang="es-MX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el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Si la pendiente de un gráfico de velocidad versus tiempo es constante, entonces, se tiene un movimiento con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aceleración con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752560" y="3429000"/>
                <a:ext cx="3403800" cy="17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el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NO OLVIDAR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Los gráficos de velocidad versus tiempo para el caso de aceleración constante son líneas rectas cuya pendiente indica la magnitud de la acele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La idea detrás de la </a:t>
            </a:r>
            <a:r>
              <a:rPr b="0" i="1" lang="es-ES" sz="2200" spc="-1" strike="noStrike" u="sng">
                <a:solidFill>
                  <a:srgbClr val="ff0000"/>
                </a:solidFill>
                <a:uFillTx/>
                <a:latin typeface="Arial"/>
              </a:rPr>
              <a:t>velocidad media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 es intuitiva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26120" y="2558880"/>
            <a:ext cx="6260400" cy="3966840"/>
            <a:chOff x="1626120" y="2558880"/>
            <a:chExt cx="6260400" cy="3966840"/>
          </a:xfrm>
        </p:grpSpPr>
        <p:sp>
          <p:nvSpPr>
            <p:cNvPr id="49" name=""/>
            <p:cNvSpPr/>
            <p:nvPr/>
          </p:nvSpPr>
          <p:spPr>
            <a:xfrm>
              <a:off x="2055240" y="2558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626120" y="2565360"/>
              <a:ext cx="4921920" cy="3960360"/>
              <a:chOff x="1626120" y="2565360"/>
              <a:chExt cx="4921920" cy="3960360"/>
            </a:xfrm>
          </p:grpSpPr>
          <p:sp>
            <p:nvSpPr>
              <p:cNvPr id="51" name=""/>
              <p:cNvSpPr/>
              <p:nvPr/>
            </p:nvSpPr>
            <p:spPr>
              <a:xfrm flipV="1">
                <a:off x="2001600" y="2565360"/>
                <a:ext cx="0" cy="34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001600" y="6021360"/>
                <a:ext cx="41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303240" y="582624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946320" y="3598920"/>
                <a:ext cx="0" cy="244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2001240" y="3598920"/>
                <a:ext cx="19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01240" y="4149720"/>
                <a:ext cx="24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449600" y="4149720"/>
                <a:ext cx="0" cy="18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16440" y="609444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376800" y="611352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01600" y="3562560"/>
                <a:ext cx="2952360" cy="2413080"/>
              </a:xfrm>
              <a:custGeom>
                <a:avLst/>
                <a:gdLst/>
                <a:ahLst/>
                <a:rect l="l" t="t" r="r" b="b"/>
                <a:pathLst>
                  <a:path w="1860" h="1520">
                    <a:moveTo>
                      <a:pt x="0" y="1520"/>
                    </a:moveTo>
                    <a:cubicBezTo>
                      <a:pt x="26" y="1293"/>
                      <a:pt x="53" y="1067"/>
                      <a:pt x="136" y="976"/>
                    </a:cubicBezTo>
                    <a:cubicBezTo>
                      <a:pt x="219" y="885"/>
                      <a:pt x="378" y="991"/>
                      <a:pt x="499" y="976"/>
                    </a:cubicBezTo>
                    <a:cubicBezTo>
                      <a:pt x="620" y="961"/>
                      <a:pt x="771" y="1006"/>
                      <a:pt x="862" y="885"/>
                    </a:cubicBezTo>
                    <a:cubicBezTo>
                      <a:pt x="953" y="764"/>
                      <a:pt x="982" y="394"/>
                      <a:pt x="1043" y="250"/>
                    </a:cubicBezTo>
                    <a:cubicBezTo>
                      <a:pt x="1104" y="106"/>
                      <a:pt x="1142" y="0"/>
                      <a:pt x="1225" y="23"/>
                    </a:cubicBezTo>
                    <a:cubicBezTo>
                      <a:pt x="1308" y="46"/>
                      <a:pt x="1436" y="326"/>
                      <a:pt x="1542" y="386"/>
                    </a:cubicBezTo>
                    <a:cubicBezTo>
                      <a:pt x="1648" y="446"/>
                      <a:pt x="1754" y="416"/>
                      <a:pt x="1860" y="38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657240" y="3311640"/>
                <a:ext cx="1007640" cy="1079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512880" y="4464000"/>
                <a:ext cx="0" cy="15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2001240" y="4464000"/>
                <a:ext cx="151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3225600" y="5040360"/>
                <a:ext cx="0" cy="93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2001240" y="5040360"/>
                <a:ext cx="12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3153960" y="4391280"/>
                <a:ext cx="431640" cy="792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340160" y="61200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837240" y="61200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48080" y="482436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26120" y="424836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26120" y="38815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26120" y="33829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5078160" y="3855960"/>
              <a:ext cx="179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Velocidad re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20600" y="3016080"/>
              <a:ext cx="416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Arial"/>
                </a:rPr>
                <a:t>Velocidad media en el intervalo [t</a:t>
              </a:r>
              <a:r>
                <a:rPr b="1" lang="es-MX" sz="18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s-MX" sz="1800" spc="-1" strike="noStrike">
                  <a:solidFill>
                    <a:srgbClr val="ff0000"/>
                  </a:solidFill>
                  <a:latin typeface="Arial"/>
                </a:rPr>
                <a:t>,t</a:t>
              </a:r>
              <a:r>
                <a:rPr b="1" lang="es-MX" sz="18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s-MX" sz="1800" spc="-1" strike="noStrike">
                  <a:solidFill>
                    <a:srgbClr val="ff0000"/>
                  </a:solidFill>
                  <a:latin typeface="Arial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Velocidad medi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340000" y="2708280"/>
          <a:ext cx="4038480" cy="2808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o de tiemp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dad medi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t &lt; 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t &lt; 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788000" y="3573360"/>
                <a:ext cx="1079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59200" y="4508640"/>
                <a:ext cx="11080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3500" spc="-1" strike="noStrike">
                <a:solidFill>
                  <a:srgbClr val="ff0000"/>
                </a:solidFill>
                <a:latin typeface="Arial"/>
              </a:rPr>
              <a:t>La velocidad media entre el punto O y P de la trayectoria se define como el cuociente entre el camino recorrido x</a:t>
            </a:r>
            <a:r>
              <a:rPr b="0" i="1" lang="es-ES" sz="3500" spc="-1" strike="noStrike" baseline="-25000">
                <a:solidFill>
                  <a:srgbClr val="ff0000"/>
                </a:solidFill>
                <a:latin typeface="Arial"/>
              </a:rPr>
              <a:t>P</a:t>
            </a:r>
            <a:r>
              <a:rPr b="0" i="1" lang="es-ES" sz="3500" spc="-1" strike="noStrike">
                <a:solidFill>
                  <a:srgbClr val="ff0000"/>
                </a:solidFill>
                <a:latin typeface="Arial"/>
              </a:rPr>
              <a:t>-x</a:t>
            </a:r>
            <a:r>
              <a:rPr b="0" i="1" lang="es-ES" sz="35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i="1" lang="es-ES" sz="3500" spc="-1" strike="noStrike">
                <a:solidFill>
                  <a:srgbClr val="ff0000"/>
                </a:solidFill>
                <a:latin typeface="Arial"/>
              </a:rPr>
              <a:t> y el tiempo total empleado en recorrerlo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80720" y="2060640"/>
            <a:ext cx="8815320" cy="4431240"/>
            <a:chOff x="180720" y="2060640"/>
            <a:chExt cx="8815320" cy="4431240"/>
          </a:xfrm>
        </p:grpSpPr>
        <p:sp>
          <p:nvSpPr>
            <p:cNvPr id="92" name=""/>
            <p:cNvSpPr/>
            <p:nvPr/>
          </p:nvSpPr>
          <p:spPr>
            <a:xfrm>
              <a:off x="180720" y="2060640"/>
              <a:ext cx="38354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ECUERDA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En la definición de velocidad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media se pierde informació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acerca de las variaciones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de la  velocidad que pudier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ocurrir durante la trayectori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4068720" y="2557440"/>
              <a:ext cx="4927320" cy="3934440"/>
              <a:chOff x="4068720" y="2557440"/>
              <a:chExt cx="4927320" cy="393444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4068720" y="2630160"/>
                <a:ext cx="4927320" cy="3861720"/>
                <a:chOff x="4068720" y="2630160"/>
                <a:chExt cx="4927320" cy="3861720"/>
              </a:xfrm>
            </p:grpSpPr>
            <p:grpSp>
              <p:nvGrpSpPr>
                <p:cNvPr id="95" name=""/>
                <p:cNvGrpSpPr/>
                <p:nvPr/>
              </p:nvGrpSpPr>
              <p:grpSpPr>
                <a:xfrm>
                  <a:off x="4068720" y="2630160"/>
                  <a:ext cx="4927320" cy="3861720"/>
                  <a:chOff x="4068720" y="2630160"/>
                  <a:chExt cx="4927320" cy="386172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V="1">
                    <a:off x="4449600" y="2630160"/>
                    <a:ext cx="0" cy="345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4449600" y="6086160"/>
                    <a:ext cx="4176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751240" y="5891040"/>
                    <a:ext cx="244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7995600" y="6086160"/>
                    <a:ext cx="3333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r>
                      <a:rPr b="0" lang="es-MX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4075200" y="3206520"/>
                    <a:ext cx="3837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r>
                      <a:rPr b="0" lang="es-MX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100720" y="3062160"/>
                    <a:ext cx="333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4068720" y="5790960"/>
                    <a:ext cx="358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4449600" y="3422520"/>
                    <a:ext cx="3671640" cy="266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313" h="1678">
                        <a:moveTo>
                          <a:pt x="0" y="1678"/>
                        </a:moveTo>
                        <a:cubicBezTo>
                          <a:pt x="98" y="1368"/>
                          <a:pt x="197" y="1058"/>
                          <a:pt x="363" y="816"/>
                        </a:cubicBezTo>
                        <a:cubicBezTo>
                          <a:pt x="529" y="574"/>
                          <a:pt x="809" y="302"/>
                          <a:pt x="998" y="226"/>
                        </a:cubicBezTo>
                        <a:cubicBezTo>
                          <a:pt x="1187" y="150"/>
                          <a:pt x="1331" y="340"/>
                          <a:pt x="1497" y="363"/>
                        </a:cubicBezTo>
                        <a:cubicBezTo>
                          <a:pt x="1663" y="386"/>
                          <a:pt x="1860" y="423"/>
                          <a:pt x="1996" y="363"/>
                        </a:cubicBezTo>
                        <a:cubicBezTo>
                          <a:pt x="2132" y="303"/>
                          <a:pt x="2222" y="151"/>
                          <a:pt x="2313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1600" y="3422520"/>
                    <a:ext cx="0" cy="266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>
                    <a:off x="4449240" y="3422520"/>
                    <a:ext cx="36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V="1">
                    <a:off x="4449600" y="3422160"/>
                    <a:ext cx="3671640" cy="26636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"/>
                <p:cNvSpPr/>
                <p:nvPr/>
              </p:nvSpPr>
              <p:spPr>
                <a:xfrm>
                  <a:off x="4574880" y="3716280"/>
                  <a:ext cx="12445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elocidad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re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4679640" y="25574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5949360" y="4889520"/>
            <a:ext cx="2134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Velocidad me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en el intervalo [0,t</a:t>
            </a:r>
            <a:r>
              <a:rPr b="0" lang="es-MX" sz="1800" spc="-1" strike="noStrike" baseline="-25000">
                <a:solidFill>
                  <a:srgbClr val="ff0000"/>
                </a:solidFill>
                <a:latin typeface="Arial"/>
              </a:rPr>
              <a:t>P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instant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Hasta ahora solo hemos estudiado problemas en los cuales conocemos la velocidad media en un cierto número de intervalos. Al ir de un cierto intervalo a otro, la velocidad media experimenta un salto para alcanzar un nuevo val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Obviamente esto no es real: la velocidad varía en forma continua, no a sal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Para disminuir la magnitud de los saltos es necesario subdividir el tramo en intervalos más pequeños. Si pretendemos hacerlos imperceptibles, debemos aumentar el número de intervalos, haciéndolos más y más peque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instant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 el límite, cuando el tramo es más pequeño de lo que se puede imaginar, … se tiene lo que se conoce como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ELOCIDAD INSTANTAN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ara realizar este proceso debemos calcular la velocidad media entre dos puntos que estén lo más cerca posible. 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l proceso de acercar un punto al otro, el valor de la velocidad va cambiando, pero se acerca a un límite que se llama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elocidad instantáne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y que corresponde a la inclinación de la tangente a la curva en dicho pu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instant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65880" y="1989000"/>
            <a:ext cx="6269760" cy="1839240"/>
            <a:chOff x="965880" y="1989000"/>
            <a:chExt cx="6269760" cy="1839240"/>
          </a:xfrm>
        </p:grpSpPr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2759040" y="1989000"/>
                  <a:ext cx="447660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t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lim>
                      </m:limLow>
                      <m:f>
                        <m:num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965880" y="3422520"/>
              <a:ext cx="3146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Velocidad instantánea en t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463760" y="2925360"/>
              <a:ext cx="11509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26880" y="4419720"/>
            <a:ext cx="866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"/>
              </a:rPr>
              <a:t>El módulo de la velocidad instantánea es un valor numérico para u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"/>
              </a:rPr>
              <a:t>tiempo único, que coincide con el límite al que tiende la veloc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"/>
              </a:rPr>
              <a:t>media cuando el intervalo de tiempo tiende a ce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Claudia Rahmann</cp:lastModifiedBy>
  <dcterms:modified xsi:type="dcterms:W3CDTF">2005-01-10T11:55:18Z</dcterms:modified>
  <cp:revision>273</cp:revision>
  <dc:subject/>
  <dc:title>FISICA I</dc:title>
</cp:coreProperties>
</file>