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A440-B76B-474D-8163-C9B88EFC2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1587-822F-40B0-8257-3BEE040E2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07F1-DC9E-484F-BA7F-E25F9074D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15E3-6186-4AA4-A7F8-8D7C34D83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4214-FAE7-43A8-9AD9-EA8218ED0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C20F-D09D-4A21-9933-8C1D58E28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FDBF-86F8-46DF-9839-0D4811E9F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C2BB-5655-4514-9B0E-FC2C46D18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B061-28EA-49FD-99D1-6F4B47ED8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12D8-2E0B-4B73-9835-01C8EDEF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6975-0616-46CC-9014-4032D209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D486-1FB0-46F4-9200-7A4C985E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6424D-35F8-4CA4-91C5-5B7CEAA930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ducaplus.org/movi/1_2escavect.html" TargetMode="External"/><Relationship Id="rId3" Type="http://schemas.openxmlformats.org/officeDocument/2006/relationships/hyperlink" Target="http://www.educaplus.org/movi/1_2escavect.html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11280" y="90756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ff3300"/>
                </a:solidFill>
                <a:latin typeface="Arial"/>
              </a:rPr>
              <a:t>CLASE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500" spc="-1" strike="noStrike">
                <a:solidFill>
                  <a:srgbClr val="6666ff"/>
                </a:solidFill>
                <a:latin typeface="Arial"/>
              </a:rPr>
              <a:t>CINEMATICA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Claudia Rahman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Rapidez / Veloc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apidez y velocidad son dos magnitudes cinemáticas que suelen confundirse con frecuenci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ez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es una </a:t>
            </a:r>
            <a:r>
              <a:rPr b="0" lang="en-US" sz="2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gnitud escalar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que relaciona la distancia recorrida con el tiempo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elocidad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es una </a:t>
            </a:r>
            <a:r>
              <a:rPr b="0" lang="en-US" sz="2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magnitud vectorial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 que relaciona el cambio de posición (o desplazamiento) con el tiemp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6666ff"/>
                </a:solidFill>
                <a:latin typeface="Arial"/>
              </a:rPr>
              <a:t>Una persona pasea desde A hasta B, retrocede hasta C y retrocede de nuevo para alcanzar el punto D. Calcula su rapidez media y su velocidad media con los datos del gráfico</a:t>
            </a:r>
            <a:r>
              <a:rPr b="0" lang="en-US" sz="2800" spc="-1" strike="noStrike">
                <a:solidFill>
                  <a:srgbClr val="6666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258920" y="3871800"/>
            <a:ext cx="6551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229600" cy="48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Tramo A-B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stancia recorrida:  350 m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iempo empleado :  3 m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Tramo B-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stancia recorrida:  200 m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iempo empleado :  2 m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Tramo C-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stancia recorrida:  450 m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iempo empleado :  5 m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229600" cy="48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Movimiento compl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Distancia recorrida: 350+200+450 = 1000 m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Tiempo total 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   : 10 min. = 600 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Rapidez media = distancia/tiemp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= 1000 m/600 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= 1,7 m/s &gt;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229600" cy="48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Movimiento compl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Distancia recorrida: 350+200+450 = 1000 m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Tiempo total 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   : 10 min. = 600 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Velocidad media = (posición final-posición inicial)/tiemp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= (-100-500) m/600 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= -1 m/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837440" y="1766880"/>
            <a:ext cx="5973120" cy="4039920"/>
            <a:chOff x="1837440" y="1766880"/>
            <a:chExt cx="5973120" cy="4039920"/>
          </a:xfrm>
        </p:grpSpPr>
        <p:sp>
          <p:nvSpPr>
            <p:cNvPr id="145" name=""/>
            <p:cNvSpPr/>
            <p:nvPr/>
          </p:nvSpPr>
          <p:spPr>
            <a:xfrm flipH="1" flipV="1">
              <a:off x="2687400" y="1766880"/>
              <a:ext cx="12600" cy="403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1837440" y="2295360"/>
              <a:ext cx="5973120" cy="3511440"/>
              <a:chOff x="1837440" y="2295360"/>
              <a:chExt cx="5973120" cy="3511440"/>
            </a:xfrm>
          </p:grpSpPr>
          <p:sp>
            <p:nvSpPr>
              <p:cNvPr id="147" name=""/>
              <p:cNvSpPr/>
              <p:nvPr/>
            </p:nvSpPr>
            <p:spPr>
              <a:xfrm>
                <a:off x="2700360" y="4868640"/>
                <a:ext cx="475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565760" y="471780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306520" y="472392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700360" y="2563560"/>
                <a:ext cx="1150920" cy="165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V="1">
                <a:off x="3851280" y="3428280"/>
                <a:ext cx="865080" cy="79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761280" y="5006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573800" y="50130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512400" y="5006520"/>
                <a:ext cx="43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890000" y="2295360"/>
                <a:ext cx="56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5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910520" y="3931920"/>
                <a:ext cx="56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15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921680" y="3212640"/>
                <a:ext cx="56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35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700360" y="4220640"/>
                <a:ext cx="1150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700360" y="3428640"/>
                <a:ext cx="201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851280" y="4220640"/>
                <a:ext cx="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716360" y="3428640"/>
                <a:ext cx="0" cy="143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837440" y="5438520"/>
                <a:ext cx="636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-1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700360" y="5660640"/>
                <a:ext cx="388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716360" y="3428640"/>
                <a:ext cx="1871640" cy="22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588000" y="4868640"/>
                <a:ext cx="0" cy="79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700360" y="2563560"/>
                <a:ext cx="3887640" cy="30967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781080" y="2997000"/>
                <a:ext cx="198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ff0000"/>
                    </a:solidFill>
                    <a:latin typeface="Arial"/>
                  </a:rPr>
                  <a:t>Velocidad med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Velocidad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04200" y="1982880"/>
            <a:ext cx="7898760" cy="4038480"/>
            <a:chOff x="304200" y="1982880"/>
            <a:chExt cx="7898760" cy="4038480"/>
          </a:xfrm>
        </p:grpSpPr>
        <p:grpSp>
          <p:nvGrpSpPr>
            <p:cNvPr id="170" name=""/>
            <p:cNvGrpSpPr/>
            <p:nvPr/>
          </p:nvGrpSpPr>
          <p:grpSpPr>
            <a:xfrm>
              <a:off x="304200" y="1982880"/>
              <a:ext cx="7898760" cy="4038480"/>
              <a:chOff x="304200" y="1982880"/>
              <a:chExt cx="7898760" cy="4038480"/>
            </a:xfrm>
          </p:grpSpPr>
          <p:grpSp>
            <p:nvGrpSpPr>
              <p:cNvPr id="171" name=""/>
              <p:cNvGrpSpPr/>
              <p:nvPr/>
            </p:nvGrpSpPr>
            <p:grpSpPr>
              <a:xfrm>
                <a:off x="2306520" y="1982880"/>
                <a:ext cx="5504040" cy="4038480"/>
                <a:chOff x="2306520" y="1982880"/>
                <a:chExt cx="5504040" cy="4038480"/>
              </a:xfrm>
            </p:grpSpPr>
            <p:sp>
              <p:nvSpPr>
                <p:cNvPr id="172" name=""/>
                <p:cNvSpPr/>
                <p:nvPr/>
              </p:nvSpPr>
              <p:spPr>
                <a:xfrm flipH="1" flipV="1">
                  <a:off x="2687400" y="1982880"/>
                  <a:ext cx="12600" cy="4038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700360" y="5085000"/>
                  <a:ext cx="4751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7565760" y="4934160"/>
                  <a:ext cx="244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306520" y="4940280"/>
                  <a:ext cx="358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843280" y="2637000"/>
                  <a:ext cx="4033800" cy="2208240"/>
                </a:xfrm>
                <a:custGeom>
                  <a:avLst/>
                  <a:gdLst/>
                  <a:ahLst/>
                  <a:rect l="l" t="t" r="r" b="b"/>
                  <a:pathLst>
                    <a:path w="2541" h="1391">
                      <a:moveTo>
                        <a:pt x="0" y="1391"/>
                      </a:moveTo>
                      <a:cubicBezTo>
                        <a:pt x="242" y="816"/>
                        <a:pt x="485" y="242"/>
                        <a:pt x="908" y="121"/>
                      </a:cubicBezTo>
                      <a:cubicBezTo>
                        <a:pt x="1331" y="0"/>
                        <a:pt x="2269" y="574"/>
                        <a:pt x="2541" y="665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flipV="1">
                  <a:off x="3276720" y="2853000"/>
                  <a:ext cx="1582560" cy="107928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flipV="1">
                  <a:off x="3276720" y="3068280"/>
                  <a:ext cx="2303280" cy="86364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" name=""/>
              <p:cNvSpPr/>
              <p:nvPr/>
            </p:nvSpPr>
            <p:spPr>
              <a:xfrm>
                <a:off x="304200" y="2871720"/>
                <a:ext cx="1985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000000"/>
                    </a:solidFill>
                    <a:latin typeface="Arial"/>
                  </a:rPr>
                  <a:t>Velocidad med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000000"/>
                    </a:solidFill>
                    <a:latin typeface="Arial"/>
                  </a:rPr>
                  <a:t>por intervalo!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916160" y="3881520"/>
                <a:ext cx="32868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La velocidad media depen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del intervalo de tiempo que se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tom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583160" y="2354400"/>
                <a:ext cx="410760" cy="4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200" spc="-1" strike="noStrike">
                    <a:solidFill>
                      <a:srgbClr val="ff0000"/>
                    </a:solidFill>
                    <a:latin typeface="Arial"/>
                  </a:rPr>
                  <a:t>v</a:t>
                </a:r>
                <a:r>
                  <a:rPr b="0" lang="es-MX" sz="2200" spc="-1" strike="noStrike" baseline="-25000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445360" y="2641680"/>
                <a:ext cx="410760" cy="4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200" spc="-1" strike="noStrike">
                    <a:solidFill>
                      <a:srgbClr val="6666ff"/>
                    </a:solidFill>
                    <a:latin typeface="Arial"/>
                  </a:rPr>
                  <a:t>v</a:t>
                </a:r>
                <a:r>
                  <a:rPr b="0" lang="es-MX" sz="2200" spc="-1" strike="noStrike" baseline="-25000">
                    <a:solidFill>
                      <a:srgbClr val="6666ff"/>
                    </a:solidFill>
                    <a:latin typeface="Arial"/>
                  </a:rPr>
                  <a:t>2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643280" y="2421000"/>
                <a:ext cx="2160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508720" y="2708280"/>
                <a:ext cx="21564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4558320" y="515772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s-MX" sz="1800" spc="-1" strike="noStrike" baseline="-25000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99640" y="515772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6666ff"/>
                  </a:solidFill>
                  <a:latin typeface="Arial"/>
                </a:rPr>
                <a:t>t</a:t>
              </a:r>
              <a:r>
                <a:rPr b="0" lang="es-MX" sz="1800" spc="-1" strike="noStrike" baseline="-25000">
                  <a:solidFill>
                    <a:srgbClr val="6666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Velocidad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03120" y="1587600"/>
            <a:ext cx="8013960" cy="4833000"/>
            <a:chOff x="303120" y="1587600"/>
            <a:chExt cx="8013960" cy="4833000"/>
          </a:xfrm>
        </p:grpSpPr>
        <p:sp>
          <p:nvSpPr>
            <p:cNvPr id="190" name=""/>
            <p:cNvSpPr/>
            <p:nvPr/>
          </p:nvSpPr>
          <p:spPr>
            <a:xfrm>
              <a:off x="303120" y="1587600"/>
              <a:ext cx="80139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El área bajo la curva en un gráfico de posición versus tiempo representa la distancia recorrida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1357920" y="2701800"/>
              <a:ext cx="5814720" cy="3718800"/>
              <a:chOff x="1357920" y="2701800"/>
              <a:chExt cx="5814720" cy="3718800"/>
            </a:xfrm>
          </p:grpSpPr>
          <p:grpSp>
            <p:nvGrpSpPr>
              <p:cNvPr id="192" name=""/>
              <p:cNvGrpSpPr/>
              <p:nvPr/>
            </p:nvGrpSpPr>
            <p:grpSpPr>
              <a:xfrm>
                <a:off x="1357920" y="2701800"/>
                <a:ext cx="5814720" cy="3718800"/>
                <a:chOff x="1357920" y="2701800"/>
                <a:chExt cx="5814720" cy="3718800"/>
              </a:xfrm>
            </p:grpSpPr>
            <p:sp>
              <p:nvSpPr>
                <p:cNvPr id="193" name=""/>
                <p:cNvSpPr/>
                <p:nvPr/>
              </p:nvSpPr>
              <p:spPr>
                <a:xfrm flipH="1" flipV="1">
                  <a:off x="1834920" y="2825640"/>
                  <a:ext cx="12600" cy="3463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1855800" y="5922720"/>
                  <a:ext cx="4751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6721200" y="5771880"/>
                  <a:ext cx="244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1461960" y="5778360"/>
                  <a:ext cx="358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496880" y="270180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v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1357920" y="4763880"/>
                  <a:ext cx="36828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v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1835280" y="5059080"/>
                  <a:ext cx="288108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768560" y="3998520"/>
                  <a:ext cx="2404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Velocidad constant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1835280" y="5059080"/>
                  <a:ext cx="2881080" cy="86364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486680" y="6014880"/>
                  <a:ext cx="31788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r>
                    <a:rPr b="0" lang="es-MX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203" name=""/>
                  <p:cNvSpPr txBox="1"/>
                  <p:nvPr/>
                </p:nvSpPr>
                <p:spPr>
                  <a:xfrm>
                    <a:off x="2843280" y="3565080"/>
                    <a:ext cx="1001520" cy="1152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e>
                          <m:e>
                            <m:r>
                              <m:t xml:space="preserve">v</m:t>
                            </m:r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d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celer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229600" cy="48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aceleración se define como la razón entre el cambio de velocidad y el intervalo en el cual esta ocur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3660840" y="3301920"/>
                <a:ext cx="131904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  <m:r>
                          <m:t xml:space="preserve">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Δ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Velocidad constante, aceleración nu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357920" y="1700280"/>
            <a:ext cx="5814720" cy="4157640"/>
            <a:chOff x="1357920" y="1700280"/>
            <a:chExt cx="5814720" cy="4157640"/>
          </a:xfrm>
        </p:grpSpPr>
        <p:sp>
          <p:nvSpPr>
            <p:cNvPr id="211" name=""/>
            <p:cNvSpPr/>
            <p:nvPr/>
          </p:nvSpPr>
          <p:spPr>
            <a:xfrm flipH="1" flipV="1">
              <a:off x="1842840" y="1819440"/>
              <a:ext cx="12600" cy="403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855800" y="4921560"/>
              <a:ext cx="475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721200" y="477072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461960" y="47768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496880" y="1700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357920" y="3762720"/>
              <a:ext cx="368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835280" y="4057920"/>
              <a:ext cx="28810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768560" y="2997360"/>
              <a:ext cx="240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Arial"/>
                </a:rPr>
                <a:t>Velocidad consta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Arial"/>
                </a:rPr>
                <a:t>Aceleración nul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Velocidad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n-US" sz="2500" spc="-1" strike="noStrike">
                <a:solidFill>
                  <a:srgbClr val="6666ff"/>
                </a:solidFill>
                <a:latin typeface="Arial"/>
              </a:rPr>
              <a:t>Es muy difícil encontrar un movimiento con velocidad constante. Lo natural es que la velocidad cambie a lo largo de la trayectoria</a:t>
            </a:r>
            <a:r>
              <a:rPr b="0" lang="en-US" sz="2500" spc="-1" strike="noStrike">
                <a:solidFill>
                  <a:srgbClr val="6666ff"/>
                </a:solidFill>
                <a:latin typeface="Arial"/>
              </a:rPr>
              <a:t> </a:t>
            </a:r>
            <a:r>
              <a:rPr b="0" i="1" lang="en-US" sz="2500" spc="-1" strike="noStrike">
                <a:solidFill>
                  <a:srgbClr val="6666ff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6666ff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n estas condiciones un gráfico posición versus tiempo, se vuelve complicado: el cambio de velocidad produce, de acuerdo al razonamiento anterior, un cambio en la pendiente de la curva y el gráfico deja de ser una línea recta (con pendiente constante) y se transforma en una curv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Velocidad variable, aceleración consta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338840" y="1647720"/>
            <a:ext cx="6308280" cy="4157640"/>
            <a:chOff x="1338840" y="1647720"/>
            <a:chExt cx="6308280" cy="4157640"/>
          </a:xfrm>
        </p:grpSpPr>
        <p:sp>
          <p:nvSpPr>
            <p:cNvPr id="221" name=""/>
            <p:cNvSpPr/>
            <p:nvPr/>
          </p:nvSpPr>
          <p:spPr>
            <a:xfrm flipH="1" flipV="1">
              <a:off x="1842840" y="1766880"/>
              <a:ext cx="12600" cy="403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855800" y="4869000"/>
              <a:ext cx="475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721200" y="471816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461960" y="47242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496880" y="1647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6" name=""/>
                <p:cNvSpPr txBox="1"/>
                <p:nvPr/>
              </p:nvSpPr>
              <p:spPr>
                <a:xfrm>
                  <a:off x="5138640" y="2760840"/>
                  <a:ext cx="2508480" cy="117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≥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27" name=""/>
            <p:cNvSpPr/>
            <p:nvPr/>
          </p:nvSpPr>
          <p:spPr>
            <a:xfrm flipV="1">
              <a:off x="2071800" y="2421000"/>
              <a:ext cx="2808000" cy="1944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338840" y="2655720"/>
              <a:ext cx="368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357920" y="3710160"/>
              <a:ext cx="368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855800" y="393372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719440" y="3933720"/>
              <a:ext cx="0" cy="93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855800" y="2924280"/>
              <a:ext cx="2303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159080" y="2924280"/>
              <a:ext cx="0" cy="1944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89760" y="488952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978720" y="494172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5150160" y="5164200"/>
            <a:ext cx="236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La aceleración ti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unidades de m/s</a:t>
            </a:r>
            <a:r>
              <a:rPr b="1" lang="es-MX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celer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229600" cy="48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Si la pendiente de un gráfico de velocidad versus tiempo es constante, entonces, se tiene un movimiento con </a:t>
            </a:r>
            <a:r>
              <a:rPr b="0" lang="es-ES" sz="2800" spc="-1" strike="noStrike" u="sng">
                <a:solidFill>
                  <a:srgbClr val="ff0000"/>
                </a:solidFill>
                <a:uFillTx/>
                <a:latin typeface="Arial"/>
              </a:rPr>
              <a:t>aceleración cons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2752560" y="3429000"/>
                <a:ext cx="3403800" cy="17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celer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229600" cy="48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ff0000"/>
                </a:solidFill>
                <a:latin typeface="Arial"/>
              </a:rPr>
              <a:t>NO OLVIDAR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Los gráficos de velocidad versus tiempo para el caso de aceleración constante son líneas rectas cuya pendiente indica la magnitud de la aceler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Velocidad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ES" sz="2200" spc="-1" strike="noStrike">
                <a:solidFill>
                  <a:srgbClr val="000000"/>
                </a:solidFill>
                <a:latin typeface="Arial"/>
              </a:rPr>
              <a:t>La idea detrás de la </a:t>
            </a:r>
            <a:r>
              <a:rPr b="0" i="1" lang="es-ES" sz="2200" spc="-1" strike="noStrike" u="sng">
                <a:solidFill>
                  <a:srgbClr val="ff0000"/>
                </a:solidFill>
                <a:uFillTx/>
                <a:latin typeface="Arial"/>
              </a:rPr>
              <a:t>velocidad media</a:t>
            </a:r>
            <a:r>
              <a:rPr b="0" i="1" lang="es-ES" sz="2200" spc="-1" strike="noStrike">
                <a:solidFill>
                  <a:srgbClr val="000000"/>
                </a:solidFill>
                <a:latin typeface="Arial"/>
              </a:rPr>
              <a:t> es intuitiva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626120" y="2558880"/>
            <a:ext cx="6260400" cy="3966840"/>
            <a:chOff x="1626120" y="2558880"/>
            <a:chExt cx="6260400" cy="3966840"/>
          </a:xfrm>
        </p:grpSpPr>
        <p:sp>
          <p:nvSpPr>
            <p:cNvPr id="49" name=""/>
            <p:cNvSpPr/>
            <p:nvPr/>
          </p:nvSpPr>
          <p:spPr>
            <a:xfrm>
              <a:off x="2055240" y="25588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1626120" y="2565360"/>
              <a:ext cx="4921920" cy="3960360"/>
              <a:chOff x="1626120" y="2565360"/>
              <a:chExt cx="4921920" cy="3960360"/>
            </a:xfrm>
          </p:grpSpPr>
          <p:sp>
            <p:nvSpPr>
              <p:cNvPr id="51" name=""/>
              <p:cNvSpPr/>
              <p:nvPr/>
            </p:nvSpPr>
            <p:spPr>
              <a:xfrm flipV="1">
                <a:off x="2001600" y="2565360"/>
                <a:ext cx="0" cy="345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2001600" y="6021360"/>
                <a:ext cx="417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303240" y="582624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946320" y="3598920"/>
                <a:ext cx="0" cy="244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H="1">
                <a:off x="2001240" y="3598920"/>
                <a:ext cx="19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01240" y="4149720"/>
                <a:ext cx="244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4449600" y="4149720"/>
                <a:ext cx="0" cy="187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016440" y="6094440"/>
                <a:ext cx="3178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376800" y="6113520"/>
                <a:ext cx="3178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001600" y="3562560"/>
                <a:ext cx="2952360" cy="2413080"/>
              </a:xfrm>
              <a:custGeom>
                <a:avLst/>
                <a:gdLst/>
                <a:ahLst/>
                <a:rect l="l" t="t" r="r" b="b"/>
                <a:pathLst>
                  <a:path w="1860" h="1520">
                    <a:moveTo>
                      <a:pt x="0" y="1520"/>
                    </a:moveTo>
                    <a:cubicBezTo>
                      <a:pt x="26" y="1293"/>
                      <a:pt x="53" y="1067"/>
                      <a:pt x="136" y="976"/>
                    </a:cubicBezTo>
                    <a:cubicBezTo>
                      <a:pt x="219" y="885"/>
                      <a:pt x="378" y="991"/>
                      <a:pt x="499" y="976"/>
                    </a:cubicBezTo>
                    <a:cubicBezTo>
                      <a:pt x="620" y="961"/>
                      <a:pt x="771" y="1006"/>
                      <a:pt x="862" y="885"/>
                    </a:cubicBezTo>
                    <a:cubicBezTo>
                      <a:pt x="953" y="764"/>
                      <a:pt x="982" y="394"/>
                      <a:pt x="1043" y="250"/>
                    </a:cubicBezTo>
                    <a:cubicBezTo>
                      <a:pt x="1104" y="106"/>
                      <a:pt x="1142" y="0"/>
                      <a:pt x="1225" y="23"/>
                    </a:cubicBezTo>
                    <a:cubicBezTo>
                      <a:pt x="1308" y="46"/>
                      <a:pt x="1436" y="326"/>
                      <a:pt x="1542" y="386"/>
                    </a:cubicBezTo>
                    <a:cubicBezTo>
                      <a:pt x="1648" y="446"/>
                      <a:pt x="1754" y="416"/>
                      <a:pt x="1860" y="38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657240" y="3311640"/>
                <a:ext cx="1007640" cy="10796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512880" y="4464000"/>
                <a:ext cx="0" cy="158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>
                <a:off x="2001240" y="4464000"/>
                <a:ext cx="1510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V="1">
                <a:off x="3225600" y="5040360"/>
                <a:ext cx="0" cy="93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H="1">
                <a:off x="2001240" y="5040360"/>
                <a:ext cx="1223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V="1">
                <a:off x="3153960" y="4391280"/>
                <a:ext cx="431640" cy="7920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340160" y="6120000"/>
                <a:ext cx="3178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837240" y="6120000"/>
                <a:ext cx="3178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648080" y="4824360"/>
                <a:ext cx="368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626120" y="4248360"/>
                <a:ext cx="368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626120" y="3881520"/>
                <a:ext cx="368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626120" y="3382920"/>
                <a:ext cx="368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5078160" y="3855960"/>
              <a:ext cx="179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Velocidad re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720600" y="3016080"/>
              <a:ext cx="4165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0000"/>
                  </a:solidFill>
                  <a:latin typeface="Arial"/>
                </a:rPr>
                <a:t>Velocidad media en el intervalo [t</a:t>
              </a:r>
              <a:r>
                <a:rPr b="1" lang="es-MX" sz="1800" spc="-1" strike="noStrike" baseline="-25000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1" lang="es-MX" sz="1800" spc="-1" strike="noStrike">
                  <a:solidFill>
                    <a:srgbClr val="ff0000"/>
                  </a:solidFill>
                  <a:latin typeface="Arial"/>
                </a:rPr>
                <a:t>,t</a:t>
              </a:r>
              <a:r>
                <a:rPr b="1" lang="es-MX" sz="1800" spc="-1" strike="noStrike" baseline="-25000">
                  <a:solidFill>
                    <a:srgbClr val="ff0000"/>
                  </a:solidFill>
                  <a:latin typeface="Arial"/>
                </a:rPr>
                <a:t>4</a:t>
              </a:r>
              <a:r>
                <a:rPr b="1" lang="es-MX" sz="1800" spc="-1" strike="noStrike">
                  <a:solidFill>
                    <a:srgbClr val="ff0000"/>
                  </a:solidFill>
                  <a:latin typeface="Arial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Velocidad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Velocidad medi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340000" y="2708280"/>
          <a:ext cx="4038480" cy="280836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alo de tiempo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locidad media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s-MX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t &lt; t</a:t>
                      </a:r>
                      <a:r>
                        <a:rPr b="0" lang="es-MX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s-MX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 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t &lt; t</a:t>
                      </a:r>
                      <a:r>
                        <a:rPr b="0" lang="es-MX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788000" y="3573360"/>
                <a:ext cx="107928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759200" y="4508640"/>
                <a:ext cx="110808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Velocidad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3500" spc="-1" strike="noStrike">
                <a:solidFill>
                  <a:srgbClr val="ff0000"/>
                </a:solidFill>
                <a:latin typeface="Arial"/>
              </a:rPr>
              <a:t>La velocidad media entre el punto O y P de la trayectoria se define como el cuociente entre el camino recorrido x</a:t>
            </a:r>
            <a:r>
              <a:rPr b="0" i="1" lang="es-ES" sz="3500" spc="-1" strike="noStrike" baseline="-25000">
                <a:solidFill>
                  <a:srgbClr val="ff0000"/>
                </a:solidFill>
                <a:latin typeface="Arial"/>
              </a:rPr>
              <a:t>P</a:t>
            </a:r>
            <a:r>
              <a:rPr b="0" i="1" lang="es-ES" sz="3500" spc="-1" strike="noStrike">
                <a:solidFill>
                  <a:srgbClr val="ff0000"/>
                </a:solidFill>
                <a:latin typeface="Arial"/>
              </a:rPr>
              <a:t>-x</a:t>
            </a:r>
            <a:r>
              <a:rPr b="0" i="1" lang="es-ES" sz="3500" spc="-1" strike="noStrike" baseline="-25000">
                <a:solidFill>
                  <a:srgbClr val="ff0000"/>
                </a:solidFill>
                <a:latin typeface="Arial"/>
              </a:rPr>
              <a:t>O</a:t>
            </a:r>
            <a:r>
              <a:rPr b="0" i="1" lang="es-ES" sz="3500" spc="-1" strike="noStrike">
                <a:solidFill>
                  <a:srgbClr val="ff0000"/>
                </a:solidFill>
                <a:latin typeface="Arial"/>
              </a:rPr>
              <a:t> y el tiempo total empleado en recorrerlo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Velocidad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80720" y="2060640"/>
            <a:ext cx="8815320" cy="4431240"/>
            <a:chOff x="180720" y="2060640"/>
            <a:chExt cx="8815320" cy="4431240"/>
          </a:xfrm>
        </p:grpSpPr>
        <p:sp>
          <p:nvSpPr>
            <p:cNvPr id="92" name=""/>
            <p:cNvSpPr/>
            <p:nvPr/>
          </p:nvSpPr>
          <p:spPr>
            <a:xfrm>
              <a:off x="180720" y="2060640"/>
              <a:ext cx="383544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RECUERDA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000000"/>
                  </a:solidFill>
                  <a:latin typeface="Arial"/>
                </a:rPr>
                <a:t>En la definición de velocidad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000000"/>
                  </a:solidFill>
                  <a:latin typeface="Arial"/>
                </a:rPr>
                <a:t>media se pierde informació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000000"/>
                  </a:solidFill>
                  <a:latin typeface="Arial"/>
                </a:rPr>
                <a:t>acerca de las variaciones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000000"/>
                  </a:solidFill>
                  <a:latin typeface="Arial"/>
                </a:rPr>
                <a:t>de la  velocidad que pudier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000000"/>
                  </a:solidFill>
                  <a:latin typeface="Arial"/>
                </a:rPr>
                <a:t>ocurrir durante la trayectori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4068720" y="2557440"/>
              <a:ext cx="4927320" cy="3934440"/>
              <a:chOff x="4068720" y="2557440"/>
              <a:chExt cx="4927320" cy="3934440"/>
            </a:xfrm>
          </p:grpSpPr>
          <p:grpSp>
            <p:nvGrpSpPr>
              <p:cNvPr id="94" name=""/>
              <p:cNvGrpSpPr/>
              <p:nvPr/>
            </p:nvGrpSpPr>
            <p:grpSpPr>
              <a:xfrm>
                <a:off x="4068720" y="2630160"/>
                <a:ext cx="4927320" cy="3861720"/>
                <a:chOff x="4068720" y="2630160"/>
                <a:chExt cx="4927320" cy="3861720"/>
              </a:xfrm>
            </p:grpSpPr>
            <p:grpSp>
              <p:nvGrpSpPr>
                <p:cNvPr id="95" name=""/>
                <p:cNvGrpSpPr/>
                <p:nvPr/>
              </p:nvGrpSpPr>
              <p:grpSpPr>
                <a:xfrm>
                  <a:off x="4068720" y="2630160"/>
                  <a:ext cx="4927320" cy="3861720"/>
                  <a:chOff x="4068720" y="2630160"/>
                  <a:chExt cx="4927320" cy="386172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V="1">
                    <a:off x="4449600" y="2630160"/>
                    <a:ext cx="0" cy="3456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4449600" y="6086160"/>
                    <a:ext cx="41763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8751240" y="5891040"/>
                    <a:ext cx="2448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800" spc="-1" strike="noStrike">
                        <a:solidFill>
                          <a:srgbClr val="000000"/>
                        </a:solidFill>
                        <a:latin typeface="Arial"/>
                      </a:rPr>
                      <a:t>t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7995600" y="6086160"/>
                    <a:ext cx="333360" cy="405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800" spc="-1" strike="noStrike">
                        <a:solidFill>
                          <a:srgbClr val="000000"/>
                        </a:solidFill>
                        <a:latin typeface="Arial"/>
                      </a:rPr>
                      <a:t>t</a:t>
                    </a:r>
                    <a:r>
                      <a:rPr b="0" lang="es-MX" sz="18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P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4075200" y="3206520"/>
                    <a:ext cx="383760" cy="405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800" spc="-1" strike="noStrike">
                        <a:solidFill>
                          <a:srgbClr val="000000"/>
                        </a:solidFill>
                        <a:latin typeface="Arial"/>
                      </a:rPr>
                      <a:t>x</a:t>
                    </a:r>
                    <a:r>
                      <a:rPr b="0" lang="es-MX" sz="18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P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8100720" y="3062160"/>
                    <a:ext cx="3330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800" spc="-1" strike="noStrike">
                        <a:solidFill>
                          <a:srgbClr val="000000"/>
                        </a:solidFill>
                        <a:latin typeface="Arial"/>
                      </a:rPr>
                      <a:t>P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4068720" y="5790960"/>
                    <a:ext cx="3589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MX" sz="1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4449600" y="3422520"/>
                    <a:ext cx="3671640" cy="2663640"/>
                  </a:xfrm>
                  <a:custGeom>
                    <a:avLst/>
                    <a:gdLst/>
                    <a:ahLst/>
                    <a:rect l="l" t="t" r="r" b="b"/>
                    <a:pathLst>
                      <a:path w="2313" h="1678">
                        <a:moveTo>
                          <a:pt x="0" y="1678"/>
                        </a:moveTo>
                        <a:cubicBezTo>
                          <a:pt x="98" y="1368"/>
                          <a:pt x="197" y="1058"/>
                          <a:pt x="363" y="816"/>
                        </a:cubicBezTo>
                        <a:cubicBezTo>
                          <a:pt x="529" y="574"/>
                          <a:pt x="809" y="302"/>
                          <a:pt x="998" y="226"/>
                        </a:cubicBezTo>
                        <a:cubicBezTo>
                          <a:pt x="1187" y="150"/>
                          <a:pt x="1331" y="340"/>
                          <a:pt x="1497" y="363"/>
                        </a:cubicBezTo>
                        <a:cubicBezTo>
                          <a:pt x="1663" y="386"/>
                          <a:pt x="1860" y="423"/>
                          <a:pt x="1996" y="363"/>
                        </a:cubicBezTo>
                        <a:cubicBezTo>
                          <a:pt x="2132" y="303"/>
                          <a:pt x="2222" y="151"/>
                          <a:pt x="2313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8121600" y="3422520"/>
                    <a:ext cx="0" cy="2663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>
                    <a:off x="4449240" y="3422520"/>
                    <a:ext cx="36716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V="1">
                    <a:off x="4449600" y="3422160"/>
                    <a:ext cx="3671640" cy="26636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" name=""/>
                <p:cNvSpPr/>
                <p:nvPr/>
              </p:nvSpPr>
              <p:spPr>
                <a:xfrm>
                  <a:off x="4574880" y="3716280"/>
                  <a:ext cx="12445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Velocidad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rea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4679640" y="255744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5949360" y="4889520"/>
            <a:ext cx="21348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Velocidad med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en el intervalo [0,t</a:t>
            </a:r>
            <a:r>
              <a:rPr b="0" lang="es-MX" sz="1800" spc="-1" strike="noStrike" baseline="-25000">
                <a:solidFill>
                  <a:srgbClr val="ff0000"/>
                </a:solidFill>
                <a:latin typeface="Arial"/>
              </a:rPr>
              <a:t>P</a:t>
            </a: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Velocidad instantán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ES" sz="2200" spc="-1" strike="noStrike">
                <a:solidFill>
                  <a:srgbClr val="000000"/>
                </a:solidFill>
                <a:latin typeface="Arial"/>
              </a:rPr>
              <a:t>Hasta ahora solo hemos estudiado problemas en los cuales conocemos la velocidad media en un cierto número de intervalos. Al ir de un cierto intervalo a otro, la velocidad media experimenta un salto para alcanzar un nuevo valo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MX" sz="2200" spc="-1" strike="noStrike">
                <a:solidFill>
                  <a:srgbClr val="000000"/>
                </a:solidFill>
                <a:latin typeface="Arial"/>
              </a:rPr>
              <a:t>Obviamente esto no es real: la velocidad varía en forma continua, no a salt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MX" sz="2200" spc="-1" strike="noStrike">
                <a:solidFill>
                  <a:srgbClr val="000000"/>
                </a:solidFill>
                <a:latin typeface="Arial"/>
              </a:rPr>
              <a:t>Para disminuir la magnitud de los saltos es necesario subdividir el tramo en intervalos más pequeños. Si pretendemos hacerlos imperceptibles, debemos aumentar el número de intervalos, haciéndolos más y más pequeñ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Velocidad instantán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 el límite, cuando el tramo es más pequeño de lo que se puede imaginar, … se tiene lo que se conoce como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VELOCIDAD INSTANTANE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ara realizar este proceso debemos calcular la velocidad media entre dos puntos que estén lo más cerca posible. 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l proceso de acercar un punto al otro, el valor de la velocidad va cambiando, pero se acerca a un límite que se llama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velocidad instantánea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y que corresponde a la inclinación de la tangente a la curva en dicho pun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Velocidad instantán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965880" y="1989000"/>
            <a:ext cx="6269760" cy="1839240"/>
            <a:chOff x="965880" y="1989000"/>
            <a:chExt cx="6269760" cy="1839240"/>
          </a:xfrm>
        </p:grpSpPr>
        <mc:AlternateContent>
          <mc:Choice xmlns:a14="http://schemas.microsoft.com/office/drawing/2010/main" Requires="a14">
            <p:sp>
              <p:nvSpPr>
                <p:cNvPr id="121" name=""/>
                <p:cNvSpPr txBox="1"/>
                <p:nvPr/>
              </p:nvSpPr>
              <p:spPr>
                <a:xfrm>
                  <a:off x="2759040" y="1989000"/>
                  <a:ext cx="4476600" cy="131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lim</m:t>
                          </m:r>
                        </m:e>
                        <m:lim>
                          <m:r>
                            <m:t xml:space="preserve">t</m:t>
                          </m:r>
                          <m:r>
                            <m:t xml:space="preserve">→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lim>
                      </m:limLow>
                      <m:f>
                        <m:num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t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22" name=""/>
            <p:cNvSpPr/>
            <p:nvPr/>
          </p:nvSpPr>
          <p:spPr>
            <a:xfrm>
              <a:off x="965880" y="3422520"/>
              <a:ext cx="3146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Arial"/>
                </a:rPr>
                <a:t>Velocidad instantánea en t</a:t>
              </a:r>
              <a:r>
                <a:rPr b="1" lang="es-MX" sz="1800" spc="-1" strike="noStrike" baseline="-25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1463760" y="2925360"/>
              <a:ext cx="115092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326880" y="4419720"/>
            <a:ext cx="8667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ff"/>
                </a:solidFill>
                <a:latin typeface="Arial"/>
              </a:rPr>
              <a:t>El módulo de la velocidad instantánea es un valor numérico para u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ff"/>
                </a:solidFill>
                <a:latin typeface="Arial"/>
              </a:rPr>
              <a:t>tiempo único, que coincide con el límite al que tiende la velocida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ff"/>
                </a:solidFill>
                <a:latin typeface="Arial"/>
              </a:rPr>
              <a:t>media cuando el intervalo de tiempo tiende a cer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8T01:44:00Z</dcterms:created>
  <dc:creator>Claudia Rahmann</dc:creator>
  <dc:description/>
  <dc:language>en-US</dc:language>
  <cp:lastModifiedBy>Claudia Rahmann</cp:lastModifiedBy>
  <dcterms:modified xsi:type="dcterms:W3CDTF">2005-01-10T11:55:18Z</dcterms:modified>
  <cp:revision>273</cp:revision>
  <dc:subject/>
  <dc:title>FISICA I</dc:title>
</cp:coreProperties>
</file>