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8D8-2570-41D0-8B8C-6FC9D6DB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219-7065-4C7C-A33C-6324A97D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EC4-0863-49A5-A9A0-BB0CAAB8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4F5-1C4D-41FC-BF2F-5CD5F0A2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3CA-6B8A-4639-B9F5-A88C35F5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5E3-0A4F-411B-918F-D02ECE23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95A-9CB3-4514-929F-49CC32A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EED-3184-4728-B121-593424DE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6C5-BEF8-4615-8B3D-FDDCE7B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CB8-CB27-4895-B0A2-23CB52F6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842-54E4-4BBE-A80D-C7CC614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438-5D75-4364-85A7-608933A3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2929-A26D-47F9-9803-60AD0207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1_2escavect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pidez /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pidez y velocidad son dos magnitudes cinemáticas que suelen confundirse con frecu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ez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gnitud escala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que relaciona la distancia recorrida con el tiemp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locida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que relaciona el cambio de posición (o desplazamiento) con 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Una persona pasea desde A hasta B, retrocede hasta C y retrocede de nuevo para alcanzar el punto D. Calcula su rapidez media y su velocidad media con los datos del gráfico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58920" y="3871800"/>
            <a:ext cx="6551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A-B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3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B-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20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C-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4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apidez media = distancia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000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,7 m/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elocidad media = (posición final-posición inicial)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(-100-500)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-1 m/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7440" y="1766880"/>
            <a:ext cx="5973120" cy="4039920"/>
            <a:chOff x="1837440" y="1766880"/>
            <a:chExt cx="5973120" cy="4039920"/>
          </a:xfrm>
        </p:grpSpPr>
        <p:sp>
          <p:nvSpPr>
            <p:cNvPr id="145" name=""/>
            <p:cNvSpPr/>
            <p:nvPr/>
          </p:nvSpPr>
          <p:spPr>
            <a:xfrm flipH="1" flipV="1">
              <a:off x="268740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837440" y="2295360"/>
              <a:ext cx="5973120" cy="3511440"/>
              <a:chOff x="1837440" y="2295360"/>
              <a:chExt cx="5973120" cy="351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0360" y="4868640"/>
                <a:ext cx="47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65760" y="47178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06520" y="4723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360" y="2563560"/>
                <a:ext cx="1150920" cy="165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851280" y="3428280"/>
                <a:ext cx="86508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1280" y="5006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800" y="501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2400" y="50065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90000" y="22953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10520" y="393192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21680" y="3212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00360" y="422064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00360" y="3428640"/>
                <a:ext cx="20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2206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6360" y="3428640"/>
                <a:ext cx="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37440" y="543852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00360" y="5660640"/>
                <a:ext cx="38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6360" y="3428640"/>
                <a:ext cx="1871640" cy="22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88000" y="4868640"/>
                <a:ext cx="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00360" y="2563560"/>
                <a:ext cx="3887640" cy="3096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1080" y="2997000"/>
                <a:ext cx="198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200" y="1982880"/>
            <a:ext cx="7898760" cy="4038480"/>
            <a:chOff x="304200" y="1982880"/>
            <a:chExt cx="7898760" cy="4038480"/>
          </a:xfrm>
        </p:grpSpPr>
        <p:grpSp>
          <p:nvGrpSpPr>
            <p:cNvPr id="170" name=""/>
            <p:cNvGrpSpPr/>
            <p:nvPr/>
          </p:nvGrpSpPr>
          <p:grpSpPr>
            <a:xfrm>
              <a:off x="304200" y="1982880"/>
              <a:ext cx="7898760" cy="4038480"/>
              <a:chOff x="304200" y="1982880"/>
              <a:chExt cx="7898760" cy="403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306520" y="1982880"/>
                <a:ext cx="5504040" cy="4038480"/>
                <a:chOff x="2306520" y="1982880"/>
                <a:chExt cx="5504040" cy="40384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 flipV="1">
                  <a:off x="2687400" y="1982880"/>
                  <a:ext cx="1260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00360" y="508500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5760" y="49341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6520" y="494028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43280" y="2637000"/>
                  <a:ext cx="4033800" cy="2208240"/>
                </a:xfrm>
                <a:custGeom>
                  <a:avLst/>
                  <a:gdLst/>
                  <a:ahLst/>
                  <a:rect l="l" t="t" r="r" b="b"/>
                  <a:pathLst>
                    <a:path w="2541" h="1391">
                      <a:moveTo>
                        <a:pt x="0" y="1391"/>
                      </a:moveTo>
                      <a:cubicBezTo>
                        <a:pt x="242" y="816"/>
                        <a:pt x="485" y="242"/>
                        <a:pt x="908" y="121"/>
                      </a:cubicBezTo>
                      <a:cubicBezTo>
                        <a:pt x="1331" y="0"/>
                        <a:pt x="2269" y="574"/>
                        <a:pt x="2541" y="6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276720" y="2853000"/>
                  <a:ext cx="1582560" cy="10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276720" y="3068280"/>
                  <a:ext cx="2303280" cy="863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04200" y="2871720"/>
                <a:ext cx="198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por intervalo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16160" y="3881520"/>
                <a:ext cx="328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La velocidad media depen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del intervalo de tiempo que 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83160" y="235440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ff0000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45360" y="264168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6666ff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6666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3280" y="2421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8720" y="27082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5832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964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6666ff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66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3120" y="1587600"/>
            <a:ext cx="8013960" cy="4833000"/>
            <a:chOff x="303120" y="1587600"/>
            <a:chExt cx="8013960" cy="4833000"/>
          </a:xfrm>
        </p:grpSpPr>
        <p:sp>
          <p:nvSpPr>
            <p:cNvPr id="190" name=""/>
            <p:cNvSpPr/>
            <p:nvPr/>
          </p:nvSpPr>
          <p:spPr>
            <a:xfrm>
              <a:off x="303120" y="1587600"/>
              <a:ext cx="801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El área bajo la curva en un gráfico de posición versus tiempo representa la distancia recorri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57920" y="2701800"/>
              <a:ext cx="5814720" cy="3718800"/>
              <a:chOff x="1357920" y="2701800"/>
              <a:chExt cx="5814720" cy="37188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357920" y="2701800"/>
                <a:ext cx="5814720" cy="3718800"/>
                <a:chOff x="1357920" y="2701800"/>
                <a:chExt cx="5814720" cy="37188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flipV="1">
                  <a:off x="1834920" y="2825640"/>
                  <a:ext cx="12600" cy="346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55800" y="592272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21200" y="57718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1960" y="577836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96880" y="27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57920" y="47638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35280" y="5059080"/>
                  <a:ext cx="2881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68560" y="3998520"/>
                  <a:ext cx="2404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consta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35280" y="5059080"/>
                  <a:ext cx="2881080" cy="863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6680" y="6014880"/>
                  <a:ext cx="317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2843280" y="3565080"/>
                    <a:ext cx="100152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leración se define como la razón entre el cambio de velocidad y el intervalo en el cual esta ocur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60840" y="3301920"/>
                <a:ext cx="1319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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constante, aceleración n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57920" y="1700280"/>
            <a:ext cx="5814720" cy="4157640"/>
            <a:chOff x="1357920" y="1700280"/>
            <a:chExt cx="5814720" cy="4157640"/>
          </a:xfrm>
        </p:grpSpPr>
        <p:sp>
          <p:nvSpPr>
            <p:cNvPr id="211" name=""/>
            <p:cNvSpPr/>
            <p:nvPr/>
          </p:nvSpPr>
          <p:spPr>
            <a:xfrm flipH="1" flipV="1">
              <a:off x="1842840" y="181944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55800" y="492156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0" y="4770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1960" y="477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96880" y="170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7920" y="3762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35280" y="4057920"/>
              <a:ext cx="28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8560" y="2997360"/>
              <a:ext cx="240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const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celeración n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Es muy difícil encontrar un movimiento con velocidad constante. Lo natural es que la velocidad cambie a lo largo de la trayectoria</a:t>
            </a:r>
            <a:r>
              <a:rPr b="0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 estas condiciones un gráfico posición versus tiempo, se vuelve complicado: el cambio de velocidad produce, de acuerdo al razonamiento anterior, un cambio en la pendiente de la curva y el gráfico deja de ser una línea recta (con pendiente constante) y se transforma en una cur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variable, aceleración cons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38840" y="1647720"/>
            <a:ext cx="6308280" cy="4157640"/>
            <a:chOff x="1338840" y="1647720"/>
            <a:chExt cx="6308280" cy="4157640"/>
          </a:xfrm>
        </p:grpSpPr>
        <p:sp>
          <p:nvSpPr>
            <p:cNvPr id="221" name=""/>
            <p:cNvSpPr/>
            <p:nvPr/>
          </p:nvSpPr>
          <p:spPr>
            <a:xfrm flipH="1" flipV="1">
              <a:off x="184284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5800" y="486900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1200" y="4718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1960" y="472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880" y="164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138640" y="2760840"/>
                  <a:ext cx="2508480" cy="11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 flipV="1">
              <a:off x="2071800" y="2421000"/>
              <a:ext cx="280800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8840" y="2655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920" y="37101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5800" y="3933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9440" y="3933720"/>
              <a:ext cx="0" cy="93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5800" y="29242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9080" y="292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9760" y="48895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8720" y="4941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50160" y="51642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eleración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es de m/s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 la pendiente de un gráfico de velocidad versus tiempo es constante, entonces, se tiene un movimiento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celeración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52560" y="3429000"/>
                <a:ext cx="340380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NO OLVID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s gráficos de velocidad versus tiempo para el caso de aceleración constante son líneas rectas cuya pendiente indica la magnitud de la acel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a idea detrás de la </a:t>
            </a:r>
            <a:r>
              <a:rPr b="0" i="1" lang="es-ES" sz="2200" spc="-1" strike="noStrike" u="sng">
                <a:solidFill>
                  <a:srgbClr val="ff0000"/>
                </a:solidFill>
                <a:uFillTx/>
                <a:latin typeface="Arial"/>
              </a:rPr>
              <a:t>velocidad media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es intuitiv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26120" y="2558880"/>
            <a:ext cx="6260400" cy="3966840"/>
            <a:chOff x="1626120" y="2558880"/>
            <a:chExt cx="6260400" cy="3966840"/>
          </a:xfrm>
        </p:grpSpPr>
        <p:sp>
          <p:nvSpPr>
            <p:cNvPr id="49" name=""/>
            <p:cNvSpPr/>
            <p:nvPr/>
          </p:nvSpPr>
          <p:spPr>
            <a:xfrm>
              <a:off x="2055240" y="2558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626120" y="2565360"/>
              <a:ext cx="4921920" cy="3960360"/>
              <a:chOff x="1626120" y="2565360"/>
              <a:chExt cx="4921920" cy="396036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001600" y="2565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01600" y="6021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03240" y="5826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46320" y="3598920"/>
                <a:ext cx="0" cy="24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001240" y="35989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01240" y="4149720"/>
                <a:ext cx="24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49600" y="414972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16440" y="60944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6800" y="6113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01600" y="3562560"/>
                <a:ext cx="2952360" cy="2413080"/>
              </a:xfrm>
              <a:custGeom>
                <a:avLst/>
                <a:gdLst/>
                <a:ahLst/>
                <a:rect l="l" t="t" r="r" b="b"/>
                <a:pathLst>
                  <a:path w="1860" h="1520">
                    <a:moveTo>
                      <a:pt x="0" y="1520"/>
                    </a:moveTo>
                    <a:cubicBezTo>
                      <a:pt x="26" y="1293"/>
                      <a:pt x="53" y="1067"/>
                      <a:pt x="136" y="976"/>
                    </a:cubicBezTo>
                    <a:cubicBezTo>
                      <a:pt x="219" y="885"/>
                      <a:pt x="378" y="991"/>
                      <a:pt x="499" y="976"/>
                    </a:cubicBezTo>
                    <a:cubicBezTo>
                      <a:pt x="620" y="961"/>
                      <a:pt x="771" y="1006"/>
                      <a:pt x="862" y="885"/>
                    </a:cubicBezTo>
                    <a:cubicBezTo>
                      <a:pt x="953" y="764"/>
                      <a:pt x="982" y="394"/>
                      <a:pt x="1043" y="250"/>
                    </a:cubicBezTo>
                    <a:cubicBezTo>
                      <a:pt x="1104" y="106"/>
                      <a:pt x="1142" y="0"/>
                      <a:pt x="1225" y="23"/>
                    </a:cubicBezTo>
                    <a:cubicBezTo>
                      <a:pt x="1308" y="46"/>
                      <a:pt x="1436" y="326"/>
                      <a:pt x="1542" y="386"/>
                    </a:cubicBezTo>
                    <a:cubicBezTo>
                      <a:pt x="1648" y="446"/>
                      <a:pt x="1754" y="416"/>
                      <a:pt x="1860" y="38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7240" y="3311640"/>
                <a:ext cx="1007640" cy="1079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12880" y="446400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001240" y="4464000"/>
                <a:ext cx="15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3225600" y="5040360"/>
                <a:ext cx="0" cy="9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2001240" y="50403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153960" y="4391280"/>
                <a:ext cx="43164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4016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3724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8080" y="4824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26120" y="4248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26120" y="38815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6120" y="3382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5078160" y="385596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Velocidad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0600" y="3016080"/>
              <a:ext cx="416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Velocidad media en el intervalo [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,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Velocidad med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40000" y="2708280"/>
          <a:ext cx="4038480" cy="280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de tiemp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med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88000" y="3573360"/>
                <a:ext cx="1079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4508640"/>
                <a:ext cx="11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La velocidad media entre el punto O y P de la trayectoria se define como el cuociente entre el camino recorrido 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-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 y el tiempo total empleado en recorrer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0720" y="2060640"/>
            <a:ext cx="8815320" cy="4431240"/>
            <a:chOff x="180720" y="2060640"/>
            <a:chExt cx="8815320" cy="4431240"/>
          </a:xfrm>
        </p:grpSpPr>
        <p:sp>
          <p:nvSpPr>
            <p:cNvPr id="92" name=""/>
            <p:cNvSpPr/>
            <p:nvPr/>
          </p:nvSpPr>
          <p:spPr>
            <a:xfrm>
              <a:off x="180720" y="206064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ECUER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En la definición de velocida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media se pierde inform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acerca de las variacione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de la  velocidad que pudier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ocurrir durante la trayector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068720" y="2557440"/>
              <a:ext cx="4927320" cy="3934440"/>
              <a:chOff x="4068720" y="2557440"/>
              <a:chExt cx="4927320" cy="3934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068720" y="2630160"/>
                <a:ext cx="4927320" cy="3861720"/>
                <a:chOff x="4068720" y="2630160"/>
                <a:chExt cx="4927320" cy="38617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4068720" y="2630160"/>
                  <a:ext cx="4927320" cy="3861720"/>
                  <a:chOff x="4068720" y="2630160"/>
                  <a:chExt cx="4927320" cy="38617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449600" y="263016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49600" y="608616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751240" y="589104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95600" y="6086160"/>
                    <a:ext cx="3333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75200" y="3206520"/>
                    <a:ext cx="3837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100720" y="306216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68720" y="5790960"/>
                    <a:ext cx="358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449600" y="3422520"/>
                    <a:ext cx="3671640" cy="26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13" h="1678">
                        <a:moveTo>
                          <a:pt x="0" y="1678"/>
                        </a:moveTo>
                        <a:cubicBezTo>
                          <a:pt x="98" y="1368"/>
                          <a:pt x="197" y="1058"/>
                          <a:pt x="363" y="816"/>
                        </a:cubicBezTo>
                        <a:cubicBezTo>
                          <a:pt x="529" y="574"/>
                          <a:pt x="809" y="302"/>
                          <a:pt x="998" y="226"/>
                        </a:cubicBezTo>
                        <a:cubicBezTo>
                          <a:pt x="1187" y="150"/>
                          <a:pt x="1331" y="340"/>
                          <a:pt x="1497" y="363"/>
                        </a:cubicBezTo>
                        <a:cubicBezTo>
                          <a:pt x="1663" y="386"/>
                          <a:pt x="1860" y="423"/>
                          <a:pt x="1996" y="363"/>
                        </a:cubicBezTo>
                        <a:cubicBezTo>
                          <a:pt x="2132" y="303"/>
                          <a:pt x="2222" y="151"/>
                          <a:pt x="23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1600" y="34225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4449240" y="3422520"/>
                    <a:ext cx="36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4449600" y="3422160"/>
                    <a:ext cx="3671640" cy="2663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4574880" y="3716280"/>
                  <a:ext cx="1244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679640" y="2557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949360" y="4889520"/>
            <a:ext cx="213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elocidad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en el intervalo [0,t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sta ahora solo hemos estudiado problemas en los cuales conocemos la velocidad media en un cierto número de intervalos. Al ir de un cierto intervalo a otro, la velocidad media experimenta un salto para alcanzar un nuevo val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Obviamente esto no es real: la velocidad varía en forma continua, no a sal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Para disminuir la magnitud de los saltos es necesario subdividir el tramo en intervalos más pequeños. Si pretendemos hacerlos imperceptibles, debemos aumentar el número de intervalos, haciéndolos más y más peq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 el límite, cuando el tramo es más pequeño de lo que se puede imaginar, … se tiene lo que se conoce como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AN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ra realizar este proceso debemos calcular la velocidad media entre dos puntos que estén lo más cerca posible.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 proceso de acercar un punto al otro, el valor de la velocidad va cambiando, pero se acerca a un límite que se llam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áne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y que corresponde a la inclinación de la tangente a la curva en dicho pu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5880" y="1989000"/>
            <a:ext cx="6269760" cy="1839240"/>
            <a:chOff x="965880" y="1989000"/>
            <a:chExt cx="6269760" cy="1839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759040" y="1989000"/>
                  <a:ext cx="447660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lim>
                      </m:limLow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965880" y="3422520"/>
              <a:ext cx="314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instantánea en t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63760" y="2925360"/>
              <a:ext cx="1150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6880" y="4419720"/>
            <a:ext cx="866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El módulo de la velocidad instantánea es un valor numérico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tiempo único, que coincide con el límite al que tiende la velo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media cuando el intervalo de tiempo tiende a c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0T11:55:18Z</dcterms:modified>
  <cp:revision>273</cp:revision>
  <dc:subject/>
  <dc:title>FISICA I</dc:title>
</cp:coreProperties>
</file>