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5CF7-55C7-400C-92F8-2749C5AF6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8FB0-D85E-42A9-9B90-D5807150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3BC5-8BFD-4C9A-A604-62AE7BB5D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48F5-D0EE-4FFE-A6EA-F0F605839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95E5-9F6A-472A-9013-354947E3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0681-1CDE-418C-8F59-2DC88632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D966-8554-4EC7-8F54-AF174363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BC66-8CEC-4092-8280-DB86BE7C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247C-7994-46D5-A135-992D1CE9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290F-39E8-4408-8CD8-9F8AF86D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7EC7-E559-4CAC-B0F3-22C4153E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F206-D1F0-418C-B910-F7FA0E44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53CB-C397-4B2B-9ED6-47740633C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l/imgres?imgurl=http://www.apm.pt/enc_educa/c_primeiro/imagens/b_correr.gif&amp;imgrefurl=http://www.apm.pt/enc_educa/c_primeiro/&amp;h=288&amp;w=243&amp;sz=10&amp;tbnid=abXcsYP1ar8J:&amp;tbnh=109&amp;tbnw=92&amp;start=10&amp;prev=/images%3Fq%3Dcorrer%26hl%3Des%26lr%3D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11280" y="90756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ff3300"/>
                </a:solidFill>
                <a:latin typeface="Arial"/>
              </a:rPr>
              <a:t>CLASE 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500" spc="-1" strike="noStrike">
                <a:solidFill>
                  <a:srgbClr val="6666ff"/>
                </a:solidFill>
                <a:latin typeface="Arial"/>
              </a:rPr>
              <a:t>CINEMATICA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Claudia Rahm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9280" y="5950080"/>
            <a:ext cx="6192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const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333399"/>
                </a:solidFill>
                <a:latin typeface="Arial"/>
              </a:rPr>
              <a:t>¿</a:t>
            </a:r>
            <a:r>
              <a:rPr b="0" i="1" lang="es-MX" sz="2600" spc="-1" strike="noStrike">
                <a:solidFill>
                  <a:srgbClr val="333399"/>
                </a:solidFill>
                <a:latin typeface="Arial"/>
              </a:rPr>
              <a:t>Velocidad constant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Si la velocidad de un móvil es constante, eso implica que la raz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es constante, por lo que podemos escribi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484360" y="3559320"/>
            <a:ext cx="4751640" cy="2606400"/>
            <a:chOff x="2484360" y="3559320"/>
            <a:chExt cx="4751640" cy="2606400"/>
          </a:xfrm>
        </p:grpSpPr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2484360" y="3559320"/>
                  <a:ext cx="4751640" cy="109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2987640" y="5584680"/>
                  <a:ext cx="3672000" cy="58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d>
                      <m:r>
                        <m:t xml:space="preserve">+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const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Por lo demás, si consideramos que 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    es una “variable muda”, entonces consideremos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Por lo cual la ecuación (1) quedará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940360" y="1555920"/>
                <a:ext cx="3286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547640" y="2598840"/>
            <a:ext cx="7302240" cy="3277440"/>
            <a:chOff x="1547640" y="2598840"/>
            <a:chExt cx="7302240" cy="3277440"/>
          </a:xfrm>
        </p:grpSpPr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3348000" y="2598840"/>
                  <a:ext cx="741240" cy="97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0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t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1547640" y="4592520"/>
                  <a:ext cx="2860920" cy="117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⋅</m:t>
                          </m:r>
                          <m:r>
                            <m:t xml:space="preserve">t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⋅</m:t>
                          </m:r>
                          <m:r>
                            <m:t xml:space="preserve">t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14" name=""/>
            <p:cNvSpPr/>
            <p:nvPr/>
          </p:nvSpPr>
          <p:spPr>
            <a:xfrm>
              <a:off x="5288760" y="4502160"/>
              <a:ext cx="3561120" cy="13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100" spc="-1" strike="noStrike">
                  <a:solidFill>
                    <a:srgbClr val="ff0000"/>
                  </a:solidFill>
                  <a:latin typeface="Arial"/>
                </a:rPr>
                <a:t>Posición de una partícula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100" spc="-1" strike="noStrike">
                  <a:solidFill>
                    <a:srgbClr val="ff0000"/>
                  </a:solidFill>
                  <a:latin typeface="Arial"/>
                </a:rPr>
                <a:t>que se mueve con velocidad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100" spc="-1" strike="noStrike">
                  <a:solidFill>
                    <a:srgbClr val="ff0000"/>
                  </a:solidFill>
                  <a:latin typeface="Arial"/>
                </a:rPr>
                <a:t>constante</a:t>
              </a:r>
              <a:r>
                <a:rPr b="0" i="1" lang="es-ES" sz="21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i="1" lang="es-MX" sz="2100" spc="-1" strike="noStrike">
                  <a:solidFill>
                    <a:srgbClr val="ff0000"/>
                  </a:solidFill>
                  <a:latin typeface="Arial"/>
                </a:rPr>
                <a:t>en un instante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100" spc="-1" strike="noStrike">
                  <a:solidFill>
                    <a:srgbClr val="ff0000"/>
                  </a:solidFill>
                  <a:latin typeface="Arial"/>
                </a:rPr>
                <a:t>cualquiera de tiempo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const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En un gráfico posición versus tiempo (x/t), el movimiento de una partícula que se mueve con velocidad constante será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940360" y="1555920"/>
                <a:ext cx="3286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347200" y="2997360"/>
            <a:ext cx="4899960" cy="3096360"/>
            <a:chOff x="2347200" y="2997360"/>
            <a:chExt cx="4899960" cy="3096360"/>
          </a:xfrm>
        </p:grpSpPr>
        <p:grpSp>
          <p:nvGrpSpPr>
            <p:cNvPr id="124" name=""/>
            <p:cNvGrpSpPr/>
            <p:nvPr/>
          </p:nvGrpSpPr>
          <p:grpSpPr>
            <a:xfrm>
              <a:off x="2347200" y="2997360"/>
              <a:ext cx="4899960" cy="3096360"/>
              <a:chOff x="2347200" y="2997360"/>
              <a:chExt cx="4899960" cy="3096360"/>
            </a:xfrm>
          </p:grpSpPr>
          <p:sp>
            <p:nvSpPr>
              <p:cNvPr id="125" name=""/>
              <p:cNvSpPr/>
              <p:nvPr/>
            </p:nvSpPr>
            <p:spPr>
              <a:xfrm>
                <a:off x="3623040" y="5688000"/>
                <a:ext cx="31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939200" y="5688000"/>
                <a:ext cx="31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771640" y="5732640"/>
                <a:ext cx="410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2771640" y="3068640"/>
                <a:ext cx="0" cy="266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917440" y="2997360"/>
                <a:ext cx="51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x(t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02360" y="553716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3708360" y="4581360"/>
                <a:ext cx="0" cy="115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5076720" y="3715920"/>
                <a:ext cx="0" cy="201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2771640" y="4581720"/>
                <a:ext cx="295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flipV="1">
                <a:off x="2771280" y="3715920"/>
                <a:ext cx="3024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148360" y="3716280"/>
                <a:ext cx="0" cy="86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708360" y="4654440"/>
                <a:ext cx="136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37" name=""/>
                  <p:cNvSpPr txBox="1"/>
                  <p:nvPr/>
                </p:nvSpPr>
                <p:spPr>
                  <a:xfrm>
                    <a:off x="5219640" y="3932280"/>
                    <a:ext cx="432000" cy="361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8" name=""/>
                  <p:cNvSpPr txBox="1"/>
                  <p:nvPr/>
                </p:nvSpPr>
                <p:spPr>
                  <a:xfrm>
                    <a:off x="4140360" y="4653000"/>
                    <a:ext cx="360360" cy="360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39" name=""/>
              <p:cNvSpPr/>
              <p:nvPr/>
            </p:nvSpPr>
            <p:spPr>
              <a:xfrm>
                <a:off x="2347200" y="436392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347200" y="350064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3348000" y="3573360"/>
                <a:ext cx="1944720" cy="12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2" name=""/>
                  <p:cNvSpPr txBox="1"/>
                  <p:nvPr/>
                </p:nvSpPr>
                <p:spPr>
                  <a:xfrm>
                    <a:off x="3995640" y="4316400"/>
                    <a:ext cx="360360" cy="338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43" name=""/>
            <p:cNvSpPr/>
            <p:nvPr/>
          </p:nvSpPr>
          <p:spPr>
            <a:xfrm>
              <a:off x="4069080" y="4222800"/>
              <a:ext cx="43128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const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¿Cuál es el ángulo que forma esta recta con el eje del tiempo?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El dibujo muestra claramente qu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348000" y="3573360"/>
                <a:ext cx="244800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¿Qué velocidad tiene el cuerpo del gráfico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994040" y="2781360"/>
            <a:ext cx="4797000" cy="3069000"/>
            <a:chOff x="1994040" y="2781360"/>
            <a:chExt cx="4797000" cy="3069000"/>
          </a:xfrm>
        </p:grpSpPr>
        <p:sp>
          <p:nvSpPr>
            <p:cNvPr id="156" name=""/>
            <p:cNvSpPr/>
            <p:nvPr/>
          </p:nvSpPr>
          <p:spPr>
            <a:xfrm>
              <a:off x="1994040" y="5689440"/>
              <a:ext cx="441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1994040" y="2856960"/>
              <a:ext cx="0" cy="28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50640" y="278136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x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46240" y="548208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26240" y="4194000"/>
              <a:ext cx="286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Considere una carrera con 2 participantes. Suena la señal de partida y Sebastián, que se encontraba pensando en un ejercicio de Física, parte 2 segundos después que Manue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Además se sabe que las velocidades promedio de cada uno de los participantes son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Sebastián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1.5 m/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Manuel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2.5 m/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4221000"/>
            <a:ext cx="212580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5373720"/>
            <a:ext cx="9144000" cy="0"/>
          </a:xfrm>
          <a:prstGeom prst="line">
            <a:avLst/>
          </a:prstGeom>
          <a:ln w="316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60200" y="2708280"/>
            <a:ext cx="8947080" cy="3197160"/>
            <a:chOff x="160200" y="2708280"/>
            <a:chExt cx="8947080" cy="3197160"/>
          </a:xfrm>
        </p:grpSpPr>
        <p:grpSp>
          <p:nvGrpSpPr>
            <p:cNvPr id="169" name=""/>
            <p:cNvGrpSpPr/>
            <p:nvPr/>
          </p:nvGrpSpPr>
          <p:grpSpPr>
            <a:xfrm>
              <a:off x="3565080" y="3862440"/>
              <a:ext cx="1366920" cy="1366920"/>
              <a:chOff x="3565080" y="3862440"/>
              <a:chExt cx="1366920" cy="1366920"/>
            </a:xfrm>
          </p:grpSpPr>
          <p:grpSp>
            <p:nvGrpSpPr>
              <p:cNvPr id="170" name=""/>
              <p:cNvGrpSpPr/>
              <p:nvPr/>
            </p:nvGrpSpPr>
            <p:grpSpPr>
              <a:xfrm>
                <a:off x="3629880" y="3862440"/>
                <a:ext cx="1302120" cy="1366920"/>
                <a:chOff x="3629880" y="3862440"/>
                <a:chExt cx="1302120" cy="136692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4281480" y="3862440"/>
                  <a:ext cx="324360" cy="28476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410720" y="4147200"/>
                  <a:ext cx="0" cy="51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H="1">
                  <a:off x="4086000" y="4659480"/>
                  <a:ext cx="324360" cy="397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H="1" flipV="1">
                  <a:off x="3629880" y="4886280"/>
                  <a:ext cx="456480" cy="170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410720" y="4659480"/>
                  <a:ext cx="392040" cy="56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V="1">
                  <a:off x="4802760" y="5114880"/>
                  <a:ext cx="12924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410720" y="4432320"/>
                  <a:ext cx="325800" cy="283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410720" y="4374360"/>
                  <a:ext cx="325800" cy="283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"/>
              <p:cNvSpPr/>
              <p:nvPr/>
            </p:nvSpPr>
            <p:spPr>
              <a:xfrm flipH="1">
                <a:off x="3565080" y="4886640"/>
                <a:ext cx="6444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394920" y="3071880"/>
              <a:ext cx="1439640" cy="2157120"/>
              <a:chOff x="394920" y="3071880"/>
              <a:chExt cx="1439640" cy="215712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394920" y="3714480"/>
                <a:ext cx="460800" cy="1514520"/>
                <a:chOff x="394920" y="3714480"/>
                <a:chExt cx="460800" cy="15145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395280" y="3714480"/>
                  <a:ext cx="286920" cy="22968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09400" y="3944160"/>
                  <a:ext cx="0" cy="41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09400" y="4173840"/>
                  <a:ext cx="2880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09400" y="4127400"/>
                  <a:ext cx="2880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09400" y="4357080"/>
                  <a:ext cx="230760" cy="82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>
                  <a:off x="394920" y="4357080"/>
                  <a:ext cx="114120" cy="87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40160" y="5183280"/>
                  <a:ext cx="115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95280" y="5229000"/>
                  <a:ext cx="114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856080" y="3071880"/>
                <a:ext cx="978480" cy="642240"/>
                <a:chOff x="856080" y="3071880"/>
                <a:chExt cx="978480" cy="64224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1028520" y="3439080"/>
                  <a:ext cx="231120" cy="1371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1201320" y="3071880"/>
                  <a:ext cx="633240" cy="3207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856080" y="3622320"/>
                  <a:ext cx="115560" cy="918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194" name=""/>
                  <p:cNvSpPr txBox="1"/>
                  <p:nvPr/>
                </p:nvSpPr>
                <p:spPr>
                  <a:xfrm>
                    <a:off x="1299240" y="3132360"/>
                    <a:ext cx="440280" cy="20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π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95" name=""/>
            <p:cNvSpPr/>
            <p:nvPr/>
          </p:nvSpPr>
          <p:spPr>
            <a:xfrm>
              <a:off x="324000" y="5445360"/>
              <a:ext cx="864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121280" y="55371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5 m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8237520" y="2779920"/>
              <a:ext cx="869760" cy="2449440"/>
              <a:chOff x="8237520" y="2779920"/>
              <a:chExt cx="869760" cy="2449440"/>
            </a:xfrm>
          </p:grpSpPr>
          <p:sp>
            <p:nvSpPr>
              <p:cNvPr id="198" name=""/>
              <p:cNvSpPr/>
              <p:nvPr/>
            </p:nvSpPr>
            <p:spPr>
              <a:xfrm>
                <a:off x="8237520" y="2779920"/>
                <a:ext cx="865440" cy="504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78920" y="2852280"/>
                <a:ext cx="82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6666ff"/>
                    </a:solidFill>
                    <a:latin typeface="Arial"/>
                  </a:rPr>
                  <a:t>MET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670960" y="3284640"/>
                <a:ext cx="71640" cy="1944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3976560" y="2800440"/>
              <a:ext cx="93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2.5 m/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0200" y="2708280"/>
              <a:ext cx="93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.5 m/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Sebastián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Manu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098800" y="2084400"/>
            <a:ext cx="5522760" cy="3649680"/>
            <a:chOff x="2098800" y="2084400"/>
            <a:chExt cx="5522760" cy="3649680"/>
          </a:xfrm>
        </p:grpSpPr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2251080" y="2084400"/>
                  <a:ext cx="5075280" cy="16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m</m:t>
                              </m:r>
                            </m:num>
                            <m:den>
                              <m:r>
                                <m:t xml:space="preserve">s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r>
                            <m:t xml:space="preserve">v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d</m:t>
                              </m:r>
                            </m:num>
                            <m:den>
                              <m:r>
                                <m:t xml:space="preserve">t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d</m:t>
                              </m:r>
                            </m:num>
                            <m:den>
                              <m:r>
                                <m:t xml:space="preserve">v</m:t>
                              </m:r>
                            </m:den>
                          </m:f>
                        </m:e>
                        <m:e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∗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 </m:t>
                          </m:r>
                          <m:r>
                            <m:t xml:space="preserve">s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2098800" y="3957480"/>
                  <a:ext cx="5522760" cy="177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m</m:t>
                              </m:r>
                            </m:num>
                            <m:den>
                              <m:r>
                                <m:t xml:space="preserve">s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r>
                            <m:t xml:space="preserve">v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d</m:t>
                              </m:r>
                            </m:num>
                            <m:den>
                              <m:r>
                                <m:t xml:space="preserve">t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d</m:t>
                              </m:r>
                            </m:num>
                            <m:den>
                              <m:r>
                                <m:t xml:space="preserve">v</m:t>
                              </m:r>
                            </m:den>
                          </m:f>
                        </m:e>
                        <m:e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∗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  <m:r>
                            <m:t xml:space="preserve"> </m:t>
                          </m:r>
                          <m:r>
                            <m:t xml:space="preserve">s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Por lo cual, es posible graficar la trayectoria de ambos corredores en el tiempo, obteniéndo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549800" y="2637000"/>
            <a:ext cx="6621120" cy="3818160"/>
            <a:chOff x="1549800" y="2637000"/>
            <a:chExt cx="6621120" cy="3818160"/>
          </a:xfrm>
        </p:grpSpPr>
        <p:sp>
          <p:nvSpPr>
            <p:cNvPr id="213" name=""/>
            <p:cNvSpPr/>
            <p:nvPr/>
          </p:nvSpPr>
          <p:spPr>
            <a:xfrm>
              <a:off x="1549800" y="33001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025720" y="5936040"/>
              <a:ext cx="564192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1979640" y="2637000"/>
              <a:ext cx="25200" cy="329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61800" y="263700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x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926120" y="57344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249640" y="6042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12400" y="6086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944400" y="60422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2484360" y="3502080"/>
              <a:ext cx="2448000" cy="24476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932360" y="3502440"/>
              <a:ext cx="2232000" cy="24476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1280" y="3881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6666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908000" y="3502440"/>
              <a:ext cx="4896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02360" y="6086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932360" y="3502440"/>
              <a:ext cx="0" cy="2447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3564000" y="3502080"/>
              <a:ext cx="0" cy="2447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3563640" y="3502080"/>
              <a:ext cx="1368360" cy="2447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1979280" y="3502440"/>
              <a:ext cx="1584360" cy="2447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65640" y="431352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¿Cuándo se cruzan los corredore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Veamos las trayectorias para c/u en los diferentes intervalos, es decir, los x(t), </a:t>
            </a:r>
            <a:r>
              <a:rPr b="0" i="1" lang="es-MX" sz="2500" spc="-1" strike="noStrike" u="sng">
                <a:solidFill>
                  <a:srgbClr val="ff0000"/>
                </a:solidFill>
                <a:uFillTx/>
                <a:latin typeface="Arial"/>
              </a:rPr>
              <a:t>asumiendo que parten desde el origen y en el tiempo t=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INEMA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La </a:t>
            </a:r>
            <a:r>
              <a:rPr b="1" i="1" lang="en-US" sz="3000" spc="-1" strike="noStrike">
                <a:solidFill>
                  <a:srgbClr val="ff0000"/>
                </a:solidFill>
                <a:latin typeface="Arial"/>
              </a:rPr>
              <a:t>cinemática</a:t>
            </a: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 (en griego, estudio del movimiento) es la rama de la ciencia, iniciada por Galileo, que </a:t>
            </a:r>
            <a:r>
              <a:rPr b="1" i="1" lang="en-US" sz="3000" spc="-1" strike="noStrike">
                <a:solidFill>
                  <a:srgbClr val="ff0000"/>
                </a:solidFill>
                <a:latin typeface="Arial"/>
              </a:rPr>
              <a:t>estudia los movimientos prescindiendo de las causas</a:t>
            </a: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 que los produce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Dentro de este estudio son de suma importancia los siguientes tres conceptos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300" spc="-1" strike="noStrike">
                <a:solidFill>
                  <a:srgbClr val="ff0000"/>
                </a:solidFill>
                <a:latin typeface="Arial"/>
              </a:rPr>
              <a:t>Sebastián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300" spc="-1" strike="noStrike">
                <a:solidFill>
                  <a:srgbClr val="ff0000"/>
                </a:solidFill>
                <a:latin typeface="Arial"/>
              </a:rPr>
              <a:t>Manu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2314440" y="2220840"/>
            <a:ext cx="4946760" cy="3826080"/>
            <a:chOff x="2314440" y="2220840"/>
            <a:chExt cx="4946760" cy="3826080"/>
          </a:xfrm>
        </p:grpSpPr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2314440" y="2220840"/>
                  <a:ext cx="4946760" cy="178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2</m:t>
                          </m:r>
                          <m:r>
                            <m:t xml:space="preserve">&lt;</m:t>
                          </m:r>
                          <m:r>
                            <m:t xml:space="preserve">t</m:t>
                          </m:r>
                          <m:r>
                            <m:t xml:space="preserve">&lt;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2</m:t>
                          </m:r>
                          <m:r>
                            <m:t xml:space="preserve">&lt;</m:t>
                          </m:r>
                          <m:r>
                            <m:t xml:space="preserve">t</m:t>
                          </m:r>
                          <m:r>
                            <m:t xml:space="preserve">&lt;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&lt;</m:t>
                          </m:r>
                          <m:r>
                            <m:t xml:space="preserve">t</m:t>
                          </m:r>
                          <m:r>
                            <m:t xml:space="preserve">&lt;</m:t>
                          </m:r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  <m:r>
                            <m:t xml:space="preserve">&lt;</m:t>
                          </m:r>
                          <m:r>
                            <m:t xml:space="preserve">t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0" name=""/>
                <p:cNvSpPr txBox="1"/>
                <p:nvPr/>
              </p:nvSpPr>
              <p:spPr>
                <a:xfrm>
                  <a:off x="2340000" y="4603680"/>
                  <a:ext cx="4518000" cy="144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0</m:t>
                          </m:r>
                          <m:r>
                            <m:t xml:space="preserve">&lt;</m:t>
                          </m:r>
                          <m:r>
                            <m:t xml:space="preserve">t</m:t>
                          </m:r>
                          <m:r>
                            <m:t xml:space="preserve">&lt;</m:t>
                          </m:r>
                          <m:r>
                            <m:t xml:space="preserve">6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r>
                            <m:t xml:space="preserve">t</m:t>
                          </m:r>
                        </m:e>
                        <m:e>
                          <m:r>
                            <m:t xml:space="preserve">6</m:t>
                          </m:r>
                          <m:r>
                            <m:t xml:space="preserve">&lt;</m:t>
                          </m:r>
                          <m:r>
                            <m:t xml:space="preserve">t</m:t>
                          </m:r>
                          <m:r>
                            <m:t xml:space="preserve">&lt;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r>
                            <m:t xml:space="preserve">t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  <m:r>
                            <m:t xml:space="preserve">&lt;</m:t>
                          </m:r>
                          <m:r>
                            <m:t xml:space="preserve">t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Dado lo anterior, y mirando el gráfico de las trayectorias, los corredores se cruzan cuando se cu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2556000" y="3141720"/>
                <a:ext cx="3457440" cy="25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t</m:t>
                        </m:r>
                        <m:r>
                          <m:t xml:space="preserve">∗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INEMA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 u="sng">
                <a:solidFill>
                  <a:srgbClr val="000000"/>
                </a:solidFill>
                <a:uFillTx/>
                <a:latin typeface="Arial"/>
              </a:rPr>
              <a:t>Posición</a:t>
            </a: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, que es el lugar donde se encuentra el móvil y viene determinado por la </a:t>
            </a:r>
            <a:r>
              <a:rPr b="1" lang="es-ES_tradnl" sz="2900" spc="-1" strike="noStrike">
                <a:solidFill>
                  <a:srgbClr val="000000"/>
                </a:solidFill>
                <a:latin typeface="Arial"/>
              </a:rPr>
              <a:t>trayectoria</a:t>
            </a: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 o camino seguido. La longitud de la trayectoria es la </a:t>
            </a:r>
            <a:r>
              <a:rPr b="1" lang="es-ES_tradnl" sz="2900" spc="-1" strike="noStrike">
                <a:solidFill>
                  <a:srgbClr val="000000"/>
                </a:solidFill>
                <a:latin typeface="Arial"/>
              </a:rPr>
              <a:t>distancia recorrida</a:t>
            </a: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 por el móvil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 u="sng">
                <a:solidFill>
                  <a:srgbClr val="000000"/>
                </a:solidFill>
                <a:uFillTx/>
                <a:latin typeface="Arial"/>
              </a:rPr>
              <a:t>Velocidad</a:t>
            </a: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, que es el espacio o distancia recorrida en la unidad de tiempo, por ejemplo, los  metros recorridos en cada segundo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 u="sng">
                <a:solidFill>
                  <a:srgbClr val="000000"/>
                </a:solidFill>
                <a:uFillTx/>
                <a:latin typeface="Arial"/>
              </a:rPr>
              <a:t>Aceleración</a:t>
            </a: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, que es lo que varía la velocidad en el tiempo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istema de refer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 u="sng">
                <a:solidFill>
                  <a:srgbClr val="6666ff"/>
                </a:solidFill>
                <a:uFillTx/>
                <a:latin typeface="Arial"/>
              </a:rPr>
              <a:t>S</a:t>
            </a:r>
            <a:r>
              <a:rPr b="1" lang="es-ES" sz="2800" spc="-1" strike="noStrike" u="sng">
                <a:solidFill>
                  <a:srgbClr val="6666ff"/>
                </a:solidFill>
                <a:uFillTx/>
                <a:latin typeface="Arial"/>
              </a:rPr>
              <a:t>istema de referencia:</a:t>
            </a:r>
            <a:r>
              <a:rPr b="1" lang="es-ES" sz="2800" spc="-1" strike="noStrike">
                <a:solidFill>
                  <a:srgbClr val="6666ff"/>
                </a:solidFill>
                <a:latin typeface="Arial"/>
              </a:rPr>
              <a:t> es el lugar desde donde el observador (el científico) estudia el movimiento. Esto es muy importante ya que el movimiento es relativo y depende del lugar en el que esté el observador. Dicho de otra manera, dos observadores diferentes pueden medir características diferentes en el mismo movimi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700" spc="-1" strike="noStrike">
                <a:solidFill>
                  <a:srgbClr val="000000"/>
                </a:solidFill>
                <a:latin typeface="Arial"/>
              </a:rPr>
              <a:t>Por ejemplo, si alguien pasea en bicicleta, se moverá rápidamente respecto a una persona que esté detenida en la vereda; estará quieto para alguien que vaya pedaleando a su lado a igual velocidad y se moverá hacia atrás para quien le adelante en un auto.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26920" y="4700520"/>
            <a:ext cx="799308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l movimiento y la veloc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 el universo todo cambia de lugar, cualquier cuerpo que se encuentra en la Tierra está en constante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movimiento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tendido éste como el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cambio de lugar o posició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que sufre un cuerpo, al cual se le denomina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óvil.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 móvil sigue un camino, es decir, describe una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yectoria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que puede ser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leatoria, parabólica, rectilínea o circula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l movimiento y la veloc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2700" spc="-1" strike="noStrike">
                <a:solidFill>
                  <a:srgbClr val="333399"/>
                </a:solidFill>
                <a:latin typeface="Arial"/>
              </a:rPr>
              <a:t>L</a:t>
            </a:r>
            <a:r>
              <a:rPr b="0" i="1" lang="es-ES" sz="2700" spc="-1" strike="noStrike">
                <a:solidFill>
                  <a:srgbClr val="333399"/>
                </a:solidFill>
                <a:latin typeface="Arial"/>
              </a:rPr>
              <a:t>a distancia que recorre un móvil en un tiempo determinado se le conoce como </a:t>
            </a:r>
            <a:r>
              <a:rPr b="1" i="1" lang="es-ES" sz="2700" spc="-1" strike="noStrike">
                <a:solidFill>
                  <a:srgbClr val="333399"/>
                </a:solidFill>
                <a:latin typeface="Arial"/>
              </a:rPr>
              <a:t>velocidad, </a:t>
            </a:r>
            <a:r>
              <a:rPr b="0" i="1" lang="es-ES" sz="2700" spc="-1" strike="noStrike">
                <a:solidFill>
                  <a:srgbClr val="333399"/>
                </a:solidFill>
                <a:latin typeface="Arial"/>
              </a:rPr>
              <a:t>se puede decir que la velocidad es directamente proporcional a la distancia, porque a mayor velocidad mayor distancia recorrida, e inversamente proporcional al tiempo porque a mayor velocidad es menor el tiempo requerido para recorrer una distancia determinada. De donde se obtiene lo siguiente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l movimiento y la veloc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Siendo sus unidades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       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700" spc="-1" strike="noStrike">
                <a:solidFill>
                  <a:srgbClr val="000000"/>
                </a:solidFill>
                <a:latin typeface="Arial"/>
              </a:rPr>
              <a:t>La velocidad es una magnitud vectorial, es decir, tiene modulo, dirección y sentido, y se puede representar por medio de un vecto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903400" y="1916280"/>
                <a:ext cx="254808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stamci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iempo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067280" y="3357720"/>
                <a:ext cx="6285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148360" y="3413160"/>
                <a:ext cx="64764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m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l movimiento y la veloc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A partir de esto, se obtiene que la velocidad será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15560" y="2763720"/>
            <a:ext cx="2870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ff0000"/>
                </a:solidFill>
                <a:latin typeface="Arial"/>
              </a:rPr>
              <a:t>La posición x de u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ff0000"/>
                </a:solidFill>
                <a:latin typeface="Arial"/>
              </a:rPr>
              <a:t>partícula depende 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ff0000"/>
                </a:solidFill>
                <a:latin typeface="Arial"/>
              </a:rPr>
              <a:t>tiemp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838800" y="1601640"/>
            <a:ext cx="6330240" cy="4972320"/>
            <a:chOff x="838800" y="1601640"/>
            <a:chExt cx="6330240" cy="4972320"/>
          </a:xfrm>
        </p:grpSpPr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619280" y="5373720"/>
                  <a:ext cx="5473800" cy="120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Δ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Δ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75" name=""/>
            <p:cNvGrpSpPr/>
            <p:nvPr/>
          </p:nvGrpSpPr>
          <p:grpSpPr>
            <a:xfrm>
              <a:off x="838800" y="1601640"/>
              <a:ext cx="4900320" cy="3096720"/>
              <a:chOff x="838800" y="1601640"/>
              <a:chExt cx="4900320" cy="3096720"/>
            </a:xfrm>
          </p:grpSpPr>
          <p:sp>
            <p:nvSpPr>
              <p:cNvPr id="76" name=""/>
              <p:cNvSpPr/>
              <p:nvPr/>
            </p:nvSpPr>
            <p:spPr>
              <a:xfrm>
                <a:off x="2115000" y="4292640"/>
                <a:ext cx="31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431160" y="4292640"/>
                <a:ext cx="31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" name=""/>
              <p:cNvGrpSpPr/>
              <p:nvPr/>
            </p:nvGrpSpPr>
            <p:grpSpPr>
              <a:xfrm>
                <a:off x="838800" y="1601640"/>
                <a:ext cx="4900320" cy="2908080"/>
                <a:chOff x="838800" y="1601640"/>
                <a:chExt cx="4900320" cy="29080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1263600" y="4336920"/>
                  <a:ext cx="410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flipV="1">
                  <a:off x="1263600" y="1672920"/>
                  <a:ext cx="0" cy="2664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1552680" y="2178000"/>
                  <a:ext cx="3887640" cy="1655640"/>
                </a:xfrm>
                <a:custGeom>
                  <a:avLst/>
                  <a:gdLst/>
                  <a:ahLst/>
                  <a:rect l="l" t="t" r="r" b="b"/>
                  <a:pathLst>
                    <a:path w="2449" h="1043">
                      <a:moveTo>
                        <a:pt x="0" y="1043"/>
                      </a:moveTo>
                      <a:cubicBezTo>
                        <a:pt x="359" y="657"/>
                        <a:pt x="718" y="272"/>
                        <a:pt x="1088" y="136"/>
                      </a:cubicBezTo>
                      <a:cubicBezTo>
                        <a:pt x="1458" y="0"/>
                        <a:pt x="1995" y="220"/>
                        <a:pt x="2222" y="227"/>
                      </a:cubicBezTo>
                      <a:cubicBezTo>
                        <a:pt x="2449" y="234"/>
                        <a:pt x="2449" y="207"/>
                        <a:pt x="2449" y="181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409400" y="160164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494320" y="414144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flipV="1">
                  <a:off x="2200320" y="3185640"/>
                  <a:ext cx="0" cy="115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flipV="1">
                  <a:off x="3568680" y="2320920"/>
                  <a:ext cx="0" cy="20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flipH="1">
                  <a:off x="1263600" y="3186000"/>
                  <a:ext cx="936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flipH="1">
                  <a:off x="1263240" y="2320920"/>
                  <a:ext cx="2305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711600" y="2320920"/>
                  <a:ext cx="0" cy="86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2200320" y="3186000"/>
                  <a:ext cx="1368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90" name=""/>
                    <p:cNvSpPr txBox="1"/>
                    <p:nvPr/>
                  </p:nvSpPr>
                  <p:spPr>
                    <a:xfrm>
                      <a:off x="3784680" y="2536560"/>
                      <a:ext cx="431640" cy="3621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Δ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91" name=""/>
                    <p:cNvSpPr txBox="1"/>
                    <p:nvPr/>
                  </p:nvSpPr>
                  <p:spPr>
                    <a:xfrm>
                      <a:off x="2631960" y="3257280"/>
                      <a:ext cx="360360" cy="360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Δ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92" name=""/>
                <p:cNvSpPr/>
                <p:nvPr/>
              </p:nvSpPr>
              <p:spPr>
                <a:xfrm>
                  <a:off x="838800" y="2968560"/>
                  <a:ext cx="3682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838800" y="2104920"/>
                  <a:ext cx="3682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6521400" y="3429000"/>
                  <a:ext cx="64764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8T01:44:00Z</dcterms:created>
  <dc:creator>Claudia Rahmann</dc:creator>
  <dc:description/>
  <dc:language>en-US</dc:language>
  <cp:lastModifiedBy>Claudia Rahmann</cp:lastModifiedBy>
  <dcterms:modified xsi:type="dcterms:W3CDTF">2005-01-06T03:12:38Z</dcterms:modified>
  <cp:revision>217</cp:revision>
  <dc:subject/>
  <dc:title>FISICA I</dc:title>
</cp:coreProperties>
</file>