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12C-0AAB-45C4-BD6A-FF8AC3FF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636-8BC7-491D-B9EE-B4EAA3CA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7B6-FE31-4369-A6FE-8FDFC602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FC1-7923-4A4F-8A9F-954BBE8B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200-C3E6-429A-A296-3E347D40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1CF-5006-4F31-9A49-7BB61E62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8B5-7796-4EB1-BF2C-EDD61E81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37A-C8EE-463D-B3D8-F35E781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CDD-12C8-4C12-9D14-17C663F8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207-F810-4280-AC47-3370C4A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4327-668A-4129-AA9E-CDF17ABC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45E-ECCE-4D77-A8D1-1FA29B34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09A0-7DFA-494F-ABB3-B62B705C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07880" y="446040"/>
          <a:ext cx="856008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60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31720"/>
          <a:ext cx="7545240" cy="64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31720"/>
                    <a:ext cx="7545240" cy="64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17480" y="619200"/>
          <a:ext cx="81392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619200"/>
                    <a:ext cx="81392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81040"/>
          <a:ext cx="837432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16120" y="692280"/>
          <a:ext cx="807876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07876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8856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8856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49816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9816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19200"/>
          <a:ext cx="795348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19200"/>
                    <a:ext cx="795348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5-01-26T14:29:31Z</cp:lastPrinted>
  <dcterms:modified xsi:type="dcterms:W3CDTF">2005-01-26T14:53:22Z</dcterms:modified>
  <cp:revision>7</cp:revision>
  <dc:subject/>
  <dc:title>Sin título de diapositiva</dc:title>
</cp:coreProperties>
</file>