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129-8253-423E-A0D9-DB759712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0CD-FF94-4880-9893-B527C45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7A3-6C6B-4A22-9E57-8F763659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C83-FEAD-44FB-904D-E431C46D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F3B-377A-4671-B257-31294423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68B-CA76-4AD7-9926-E6C4829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576-58B0-4720-8D2A-73D030B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84F-9261-4ED4-82C8-EE91CF71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442-E326-491E-9CF5-51690E24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B44-ABEB-44CE-A372-B5BEF52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09C-B3A3-40DA-B1E6-E7917D1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F64-FC09-4C43-8E0D-8F9FF28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B1B-D686-4883-A59C-AC386A22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31720"/>
          <a:ext cx="75452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31720"/>
                    <a:ext cx="75452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16120" y="692280"/>
          <a:ext cx="80787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0787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1-26T14:29:31Z</cp:lastPrinted>
  <dcterms:modified xsi:type="dcterms:W3CDTF">2005-01-26T14:53:22Z</dcterms:modified>
  <cp:revision>7</cp:revision>
  <dc:subject/>
  <dc:title>Sin título de diapositiva</dc:title>
</cp:coreProperties>
</file>