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A1C-D7E1-4E91-ADEB-504D899D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D59-B29B-44CE-A370-83CC73F5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EFD-B307-49CA-BB75-834F4A70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CCC-F312-4ED9-AA6E-27966D86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EA1-1367-4D2F-A9B2-C25ACF23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D7E-31B1-4B07-A0D1-4B604C0B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24B-A7FC-45A3-A439-349BA0D2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0E1-D2E5-479A-9F7C-FA3587DB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BD9-13F9-4E79-91D4-113AD3E8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BDA-70EA-42FA-9287-D9DCF86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9F2-1BBC-4658-9F51-07CD0242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903-A9F6-4567-A2D0-F6F9BAF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94C5-C877-4ABB-8BA6-9727D7E04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07880" y="446040"/>
          <a:ext cx="8560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60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31720"/>
          <a:ext cx="7545240" cy="64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31720"/>
                    <a:ext cx="7545240" cy="64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17480" y="619200"/>
          <a:ext cx="81392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619200"/>
                    <a:ext cx="81392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16120" y="692280"/>
          <a:ext cx="807876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07876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8856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8856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49816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9816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19200"/>
          <a:ext cx="795348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19200"/>
                    <a:ext cx="79534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5-01-26T14:29:31Z</cp:lastPrinted>
  <dcterms:modified xsi:type="dcterms:W3CDTF">2005-01-26T14:53:22Z</dcterms:modified>
  <cp:revision>7</cp:revision>
  <dc:subject/>
  <dc:title>Sin título de diapositiva</dc:title>
</cp:coreProperties>
</file>