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A88B-D9FE-4590-9567-6B13FC6C7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05B7-B12B-476F-8FCD-8E43B9CA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8DF7-169E-4192-8A55-09BDCC1C6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1641-EBA1-4DE3-BF7C-04A4FAC5B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5601-11EF-473D-9AD1-2619830B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C2B2-0160-4B96-A034-A0157F09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EF40-4270-4C44-AA7F-C122C732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0494-0EDF-45C8-96CB-8DEAC27A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7940-A497-4A9E-878D-736D1638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740D-609F-405E-8766-3E819CC2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E164-C6F2-481B-800C-96BE919C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A3DC-FC5F-4DB4-A532-E015108A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E68A-7072-414B-98E6-81328819E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79400" y="730080"/>
          <a:ext cx="7991640" cy="53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730080"/>
                    <a:ext cx="799164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95360" y="766800"/>
          <a:ext cx="8423280" cy="51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766800"/>
                    <a:ext cx="8423280" cy="51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42960" y="668160"/>
          <a:ext cx="8325000" cy="602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68160"/>
                    <a:ext cx="8325000" cy="60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93640" y="816120"/>
          <a:ext cx="822636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816120"/>
                    <a:ext cx="822636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81120" y="915840"/>
          <a:ext cx="7816680" cy="52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915840"/>
                    <a:ext cx="7816680" cy="52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927000" y="642960"/>
          <a:ext cx="7929720" cy="601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642960"/>
                    <a:ext cx="7929720" cy="60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06600" y="568440"/>
          <a:ext cx="8324640" cy="633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68440"/>
                    <a:ext cx="8324640" cy="63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81120" y="717480"/>
          <a:ext cx="8126280" cy="52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717480"/>
                    <a:ext cx="812628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43040" y="593640"/>
          <a:ext cx="8200800" cy="773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593640"/>
                    <a:ext cx="8200800" cy="773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19200" y="754200"/>
          <a:ext cx="8324640" cy="57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754200"/>
                    <a:ext cx="832464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878040" y="754200"/>
          <a:ext cx="7929360" cy="583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754200"/>
                    <a:ext cx="7929360" cy="58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95280" y="704880"/>
          <a:ext cx="8510760" cy="63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704880"/>
                    <a:ext cx="8510760" cy="63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792000" y="754200"/>
          <a:ext cx="8002800" cy="562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754200"/>
                    <a:ext cx="8002800" cy="56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dicación Tarea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class Conjunto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//repres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private String 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//constru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public Conjunto(String x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s=“”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for(int i=0; i&lt;x.length(); ++i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String c = x.substring(i,i+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if( s.indexOf(c) &lt; 0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s +=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public Conjunto union(Conjunto x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return new Conjunto(s + x.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20840" y="841320"/>
          <a:ext cx="849780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841320"/>
                    <a:ext cx="849780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84120" y="606600"/>
          <a:ext cx="8497800" cy="593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606600"/>
                    <a:ext cx="8497800" cy="59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07880" y="668160"/>
          <a:ext cx="8510760" cy="625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668160"/>
                    <a:ext cx="8510760" cy="62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95280" y="407880"/>
          <a:ext cx="8448840" cy="64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07880"/>
                    <a:ext cx="8448840" cy="64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050840" y="865080"/>
          <a:ext cx="7720200" cy="597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65080"/>
                    <a:ext cx="7720200" cy="59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9200" y="655560"/>
          <a:ext cx="9239040" cy="640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655560"/>
                    <a:ext cx="9239040" cy="640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55560" y="630360"/>
          <a:ext cx="835020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630360"/>
                    <a:ext cx="835020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5-01-24T15:23:22Z</cp:lastPrinted>
  <dcterms:modified xsi:type="dcterms:W3CDTF">2005-01-24T15:28:21Z</dcterms:modified>
  <cp:revision>5</cp:revision>
  <dc:subject/>
  <dc:title>Sin título de diapositiva</dc:title>
</cp:coreProperties>
</file>