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212-1132-438C-BD7F-D4A349DA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729-D35F-490F-A6A7-5A7E97CF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D18-22DE-4F5F-8509-1C1F3222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478-4D85-499B-8110-2BBBAA6E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6E0-0106-404E-8850-731C8C65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305-357A-437C-9B40-6F148F1F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087-7289-4B02-BBA6-0A563299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31C-DD37-4E0D-B861-E2608713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258-8844-4A0C-95F8-1DE30AD9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399-E643-47AF-ADC7-50AEB333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D98-DF1B-4B1A-A653-7AF617A6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895-CFF2-4312-AF7D-31BF82B9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BCAE-31F7-4FD9-8B28-ADF40E2BE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79400" y="730080"/>
          <a:ext cx="79916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79916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95360" y="766800"/>
          <a:ext cx="84232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766800"/>
                    <a:ext cx="84232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668160"/>
          <a:ext cx="83250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25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816120"/>
          <a:ext cx="82263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16120"/>
                    <a:ext cx="82263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1120" y="915840"/>
          <a:ext cx="78166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8166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27000" y="642960"/>
          <a:ext cx="792972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642960"/>
                    <a:ext cx="792972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6600" y="568440"/>
          <a:ext cx="83246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3246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717480"/>
          <a:ext cx="812628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126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93640"/>
          <a:ext cx="8200800" cy="773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93640"/>
                    <a:ext cx="8200800" cy="773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9200" y="754200"/>
          <a:ext cx="8324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754200"/>
                    <a:ext cx="8324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78040" y="754200"/>
          <a:ext cx="792936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54200"/>
                    <a:ext cx="792936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704880"/>
          <a:ext cx="851076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51076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754200"/>
          <a:ext cx="8002800" cy="562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754200"/>
                    <a:ext cx="8002800" cy="56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Tare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lass Conjunto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re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rivate String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constru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for(int i=0; i&lt;x.length(); ++i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tring c = x.substring(i,i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f( s.indexOf(c) &lt;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 +=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 union(Conjunto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new Conjunto(s + x.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841320"/>
          <a:ext cx="849780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41320"/>
                    <a:ext cx="849780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4120" y="606600"/>
          <a:ext cx="849780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06600"/>
                    <a:ext cx="849780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7880" y="668160"/>
          <a:ext cx="851076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68160"/>
                    <a:ext cx="851076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407880"/>
          <a:ext cx="8448840" cy="64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7880"/>
                    <a:ext cx="8448840" cy="64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50840" y="865080"/>
          <a:ext cx="772020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65080"/>
                    <a:ext cx="77202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655560"/>
          <a:ext cx="92390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92390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5560" y="63036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3036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1-24T15:23:22Z</cp:lastPrinted>
  <dcterms:modified xsi:type="dcterms:W3CDTF">2005-01-24T15:28:21Z</dcterms:modified>
  <cp:revision>5</cp:revision>
  <dc:subject/>
  <dc:title>Sin título de diapositiva</dc:title>
</cp:coreProperties>
</file>