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EE9-F65D-4F13-BAE4-91F1696B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CBF-AC63-4968-A1F4-DEF30299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7A7-F959-4CB7-A829-70681564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E24-51D9-49D3-AF8A-FE8969AF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089-5DD2-4F7D-8D7A-8C93E651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2EE-7B34-44CE-B130-5E82E795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FAC-8579-4C93-B9E7-98120F37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DD2-180C-45CE-815B-585E3A6C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D6A-47CF-4424-9278-575E1B3E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CB6-04E7-468B-935A-BC9AFA47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1C9-F11A-4493-88DB-29EEB87F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DF0-1173-4A95-8415-4DBAF8F3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DC30-86B8-441F-8A29-CFC2E352F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79400" y="730080"/>
          <a:ext cx="799164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730080"/>
                    <a:ext cx="799164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95360" y="766800"/>
          <a:ext cx="842328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766800"/>
                    <a:ext cx="842328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668160"/>
          <a:ext cx="83250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250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93640" y="816120"/>
          <a:ext cx="82263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816120"/>
                    <a:ext cx="82263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1120" y="915840"/>
          <a:ext cx="78166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8166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27000" y="642960"/>
          <a:ext cx="792972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642960"/>
                    <a:ext cx="792972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6600" y="568440"/>
          <a:ext cx="8324640" cy="63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68440"/>
                    <a:ext cx="832464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1120" y="717480"/>
          <a:ext cx="812628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12628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43040" y="593640"/>
          <a:ext cx="8200800" cy="773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93640"/>
                    <a:ext cx="8200800" cy="773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9200" y="754200"/>
          <a:ext cx="832464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754200"/>
                    <a:ext cx="832464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878040" y="754200"/>
          <a:ext cx="7929360" cy="58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54200"/>
                    <a:ext cx="792936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704880"/>
          <a:ext cx="851076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04880"/>
                    <a:ext cx="851076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754200"/>
          <a:ext cx="8002800" cy="562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754200"/>
                    <a:ext cx="8002800" cy="56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ación Tare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lass Conjunto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//repres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rivate String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//constru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ublic Conjunto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for(int i=0; i&lt;x.length(); ++i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tring c = x.substring(i,i+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if( s.indexOf(c) &lt;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 +=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ublic Conjunto union(Conjunto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new Conjunto(s + x.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841320"/>
          <a:ext cx="849780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41320"/>
                    <a:ext cx="849780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84120" y="606600"/>
          <a:ext cx="849780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06600"/>
                    <a:ext cx="849780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7880" y="668160"/>
          <a:ext cx="851076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68160"/>
                    <a:ext cx="851076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407880"/>
          <a:ext cx="8448840" cy="64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7880"/>
                    <a:ext cx="8448840" cy="64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050840" y="865080"/>
          <a:ext cx="772020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65080"/>
                    <a:ext cx="772020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655560"/>
          <a:ext cx="9239040" cy="64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923904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5560" y="63036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3036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1-24T15:23:22Z</cp:lastPrinted>
  <dcterms:modified xsi:type="dcterms:W3CDTF">2005-01-24T15:28:21Z</dcterms:modified>
  <cp:revision>5</cp:revision>
  <dc:subject/>
  <dc:title>Sin título de diapositiva</dc:title>
</cp:coreProperties>
</file>