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466-17D1-4D29-8727-FFAE176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EE8-578D-4CE4-BAE5-465FE852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F0E-DBF4-44AC-93F9-23C78C0E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17E-082D-4DC6-B6E3-3FBD1085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1D2-76D8-49EE-B2CD-B8F556A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D6D-5E01-4FAE-8FD5-863FF132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6AE-2FB1-4E23-942C-A446F56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E4A-904C-4A1C-9392-A03A5CFF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8D5-2749-475D-8B98-50431C3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597-D4C3-46C5-9FFE-CED6828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1D1-8263-4CD0-9B36-51AB520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8E1-584E-4650-8291-9F3B0EA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74E-9894-4C4E-938A-5FE3E125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79400" y="730080"/>
          <a:ext cx="79916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79916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1120" y="915840"/>
          <a:ext cx="78166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8166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717480"/>
          <a:ext cx="812628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126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93640"/>
          <a:ext cx="8200800" cy="773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8200800" cy="773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78040" y="754200"/>
          <a:ext cx="792936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54200"/>
                    <a:ext cx="79293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704880"/>
          <a:ext cx="851076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51076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754200"/>
          <a:ext cx="8002800" cy="56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54200"/>
                    <a:ext cx="800280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Tare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lass Conjunt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re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rivate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constr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for(int i=0; i&lt;x.length(); ++i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tring c = x.substring(i,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f( s.indexOf(c) &lt;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 +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 union(Conjunto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new Conjunto(s + x.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841320"/>
          <a:ext cx="849780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41320"/>
                    <a:ext cx="84978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4120" y="606600"/>
          <a:ext cx="849780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4978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7880" y="668160"/>
          <a:ext cx="85107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107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407880"/>
          <a:ext cx="84488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7880"/>
                    <a:ext cx="84488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1-24T15:23:22Z</cp:lastPrinted>
  <dcterms:modified xsi:type="dcterms:W3CDTF">2005-01-24T15:28:21Z</dcterms:modified>
  <cp:revision>5</cp:revision>
  <dc:subject/>
  <dc:title>Sin título de diapositiva</dc:title>
</cp:coreProperties>
</file>