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8EC0-4607-412A-9825-B14C7E73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D913-0FCF-4D80-9564-44782FD8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50E4-6647-429D-9D16-D453EE90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DC3-43F8-418B-9A9A-6F4631D7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6B1-2F84-415D-B91F-70714A19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0A6-EAB9-4A3B-9BB4-8624E94F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F3F-7759-4DB4-A27A-50E3D789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D1FB-6650-4A11-983C-01383FFB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AB6-2450-4C1F-8B1A-10292AAF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99FD-020F-4C4A-9C14-CC766818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FEA-99E2-4D59-BA51-F99072A2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FBA6-B34D-4C07-8F47-8E40D077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6133-C34F-4DA5-A065-36F86C782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79400" y="730080"/>
          <a:ext cx="799164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730080"/>
                    <a:ext cx="799164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95360" y="766800"/>
          <a:ext cx="842328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766800"/>
                    <a:ext cx="842328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668160"/>
          <a:ext cx="83250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250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93640" y="816120"/>
          <a:ext cx="822636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816120"/>
                    <a:ext cx="82263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1120" y="915840"/>
          <a:ext cx="78166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8166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927000" y="642960"/>
          <a:ext cx="792972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642960"/>
                    <a:ext cx="792972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6600" y="568440"/>
          <a:ext cx="8324640" cy="63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68440"/>
                    <a:ext cx="8324640" cy="63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1120" y="717480"/>
          <a:ext cx="812628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12628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43040" y="593640"/>
          <a:ext cx="8200800" cy="773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593640"/>
                    <a:ext cx="8200800" cy="773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9200" y="754200"/>
          <a:ext cx="832464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754200"/>
                    <a:ext cx="832464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878040" y="754200"/>
          <a:ext cx="7929360" cy="58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54200"/>
                    <a:ext cx="792936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704880"/>
          <a:ext cx="851076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04880"/>
                    <a:ext cx="851076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92000" y="754200"/>
          <a:ext cx="8002800" cy="562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754200"/>
                    <a:ext cx="8002800" cy="56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ación Tare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class Conjunto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//repres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private String 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//constru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public Conjunto(String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=“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for(int i=0; i&lt;x.length(); ++i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tring c = x.substring(i,i+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if( s.indexOf(c) &lt;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s +=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public Conjunto union(Conjunto x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urn new Conjunto(s + x.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841320"/>
          <a:ext cx="849780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41320"/>
                    <a:ext cx="849780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84120" y="606600"/>
          <a:ext cx="849780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606600"/>
                    <a:ext cx="849780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07880" y="668160"/>
          <a:ext cx="851076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668160"/>
                    <a:ext cx="851076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407880"/>
          <a:ext cx="8448840" cy="64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7880"/>
                    <a:ext cx="8448840" cy="64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050840" y="865080"/>
          <a:ext cx="772020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65080"/>
                    <a:ext cx="772020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655560"/>
          <a:ext cx="9239040" cy="64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5560"/>
                    <a:ext cx="9239040" cy="64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55560" y="630360"/>
          <a:ext cx="835020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30360"/>
                    <a:ext cx="835020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1-24T15:23:22Z</cp:lastPrinted>
  <dcterms:modified xsi:type="dcterms:W3CDTF">2005-01-24T15:28:21Z</dcterms:modified>
  <cp:revision>5</cp:revision>
  <dc:subject/>
  <dc:title>Sin título de diapositiva</dc:title>
</cp:coreProperties>
</file>