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E7D-436B-4191-9338-A4266608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36F-6C79-4035-A46B-CDE87BC1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683-735A-4916-8449-D030412B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0F7-76B0-4045-BCE7-D5408751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2B5-F5E0-4361-8013-CD13B6E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85C-CD76-469A-A896-1451CE05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DED-AB75-4A26-98EF-DEC44C74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808-27CD-4EB0-A4C3-F7B951CC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B20-7E69-4269-8BB1-F4EFAD79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13B-F1B3-41D8-8BC9-1FB5D5A4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CBF-00E3-4E1D-9A2D-7A1E446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646-71BC-4E30-856F-E6FCC435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B4E-66C8-49E2-B5D6-50759BEBC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76400" y="890640"/>
          <a:ext cx="7867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67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27080" y="743040"/>
          <a:ext cx="754560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743040"/>
                    <a:ext cx="7545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65080" y="692280"/>
          <a:ext cx="792972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9297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336680" y="878040"/>
          <a:ext cx="7062840" cy="55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88920" y="655560"/>
          <a:ext cx="721224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21224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779400"/>
          <a:ext cx="838836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779400"/>
                    <a:ext cx="838836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14480" y="668160"/>
          <a:ext cx="77436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68160"/>
                    <a:ext cx="77436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2560" y="668160"/>
          <a:ext cx="737244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68160"/>
                    <a:ext cx="737244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717480"/>
          <a:ext cx="81518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717480"/>
                    <a:ext cx="81518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79400" y="655560"/>
          <a:ext cx="8077320" cy="54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55560"/>
                    <a:ext cx="8077320" cy="54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92280" y="803160"/>
          <a:ext cx="8089920" cy="5418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803160"/>
                    <a:ext cx="8089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7480" y="531720"/>
          <a:ext cx="8177400" cy="60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31720"/>
                    <a:ext cx="817740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16120" y="692280"/>
          <a:ext cx="81151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151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77760" y="606600"/>
          <a:ext cx="737244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06600"/>
                    <a:ext cx="737244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53920" y="531720"/>
          <a:ext cx="82630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82630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77760" y="717480"/>
          <a:ext cx="742176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717480"/>
                    <a:ext cx="742176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692280"/>
          <a:ext cx="743436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92280"/>
                    <a:ext cx="743436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7480" y="557280"/>
          <a:ext cx="81644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1644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1-21T13:53:40Z</cp:lastPrinted>
  <dcterms:modified xsi:type="dcterms:W3CDTF">2005-01-21T14:29:58Z</dcterms:modified>
  <cp:revision>9</cp:revision>
  <dc:subject/>
  <dc:title>Sin título de diapositiva</dc:title>
</cp:coreProperties>
</file>